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7239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6524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D9C5-BBEA-4E60-AFE7-70EE258E5CB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720720" y="734760"/>
            <a:ext cx="5207040" cy="366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332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65240" y="928836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894-A54A-4B68-B20D-60B0C113B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720720" y="735120"/>
            <a:ext cx="5207040" cy="366372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885600" y="4643280"/>
            <a:ext cx="487332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F9C9-825B-4A0A-A654-04404A1A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874404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2480" y="4047480"/>
            <a:ext cx="874404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4002-446A-4FAB-909C-2D545CEEE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2340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2480" y="404748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23400" y="404748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2FD0-9B3F-46B9-842B-F739B5B23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8800" y="249372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5120" y="249372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2480" y="404748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8800" y="404748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5120" y="4047480"/>
            <a:ext cx="281520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3840-82EE-4B64-8FDF-15B85713C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2480" y="2493720"/>
            <a:ext cx="8744040" cy="29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5615-4BE5-4C2F-9ABF-A6F1E1992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874404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5682-0EBB-42E9-A1BF-674ABD4BE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426708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23400" y="2493720"/>
            <a:ext cx="426708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87E2-D29A-4BF2-9EB8-FE1BE092F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D08F-3FEB-4A36-AD86-1A1F63E19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56800" y="159840"/>
            <a:ext cx="857268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BBD8-21BF-4F74-9149-F06057C48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23400" y="2493720"/>
            <a:ext cx="426708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2480" y="404748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517E-E9C8-4D5B-8542-00DD80EBD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426708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2340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23400" y="404748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B4B5-B161-471B-89B0-279F4A11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56800" y="-14400"/>
            <a:ext cx="8572680" cy="83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248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23400" y="2493720"/>
            <a:ext cx="426708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2480" y="4047480"/>
            <a:ext cx="8744040" cy="1418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1F08-3B7F-4089-92C3-5A139273B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2480" y="2493720"/>
            <a:ext cx="8744040" cy="29746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65000"/>
          </a:bodyPr>
          <a:p>
            <a:pPr marL="244440" indent="-244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200" indent="-2041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13960" indent="-1627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9040" indent="-1627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4120" indent="-1616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4120" indent="-1616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4120" indent="-1616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157320"/>
            <a:ext cx="720720" cy="482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Times New Roman"/>
              </a:rPr>
              <a:t>N°</a:t>
            </a:r>
            <a:fld id="{56CAA413-FA53-4C04-93A0-B2217282024A}" type="slidenum">
              <a:rPr b="0" lang="en-US" sz="1300" spc="-1" strike="noStrike">
                <a:solidFill>
                  <a:srgbClr val="8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1360" y="723960"/>
            <a:ext cx="9344160" cy="810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30960" bIns="3096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85800" y="81000"/>
            <a:ext cx="85680" cy="120636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5400000">
            <a:off x="20160" y="6967440"/>
            <a:ext cx="250560" cy="291960"/>
          </a:xfrm>
          <a:custGeom>
            <a:avLst/>
            <a:gdLst>
              <a:gd name="textAreaLeft" fmla="*/ 16200 w 250560"/>
              <a:gd name="textAreaRight" fmla="*/ 234360 w 250560"/>
              <a:gd name="textAreaTop" fmla="*/ 16200 h 291960"/>
              <a:gd name="textAreaBottom" fmla="*/ 275760 h 29196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lnTo>
                  <a:pt x="21600" y="0"/>
                </a:lnTo>
                <a:lnTo>
                  <a:pt x="21600" y="25164"/>
                </a:lnTo>
                <a:lnTo>
                  <a:pt x="0" y="25164"/>
                </a:lnTo>
                <a:close/>
              </a:path>
              <a:path fill="lightenLess" w="21600" h="2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4">
                <a:moveTo>
                  <a:pt x="21600" y="0"/>
                </a:moveTo>
                <a:lnTo>
                  <a:pt x="21600" y="25164"/>
                </a:lnTo>
                <a:lnTo>
                  <a:pt x="20200" y="23764"/>
                </a:lnTo>
                <a:lnTo>
                  <a:pt x="20200" y="1400"/>
                </a:lnTo>
                <a:close/>
              </a:path>
              <a:path fill="darkenLess" w="21600" h="25164">
                <a:moveTo>
                  <a:pt x="21600" y="25164"/>
                </a:moveTo>
                <a:lnTo>
                  <a:pt x="0" y="25164"/>
                </a:lnTo>
                <a:lnTo>
                  <a:pt x="1400" y="23764"/>
                </a:lnTo>
                <a:lnTo>
                  <a:pt x="20200" y="23764"/>
                </a:lnTo>
                <a:close/>
              </a:path>
              <a:path fill="lighten" w="21600" h="25164">
                <a:moveTo>
                  <a:pt x="0" y="2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4"/>
                </a:lnTo>
                <a:close/>
              </a:path>
              <a:path fill="darken" w="21600" h="25164">
                <a:moveTo>
                  <a:pt x="3794" y="12582"/>
                </a:moveTo>
                <a:lnTo>
                  <a:pt x="17806" y="5575"/>
                </a:lnTo>
                <a:lnTo>
                  <a:pt x="17806" y="19588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72080" y="2705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7080" y="27907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Sommai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027240" y="2833560"/>
            <a:ext cx="531504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tude du mode Z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tude du mode ZV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346040"/>
            <a:ext cx="782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ahoma"/>
              </a:rPr>
              <a:t>Les structures de conversion à commutation do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FED4-5B8B-424D-983A-D232365160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Structure complète : un exe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248560" y="94464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Quelques relevés dans une structure ré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22320" y="5587920"/>
            <a:ext cx="8481960" cy="1472400"/>
          </a:xfrm>
          <a:prstGeom prst="rect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Le phénomène de recouvrement des diodes auxiliaires conduit à l’apparition d’oscillations entre les inductances et les capacités de diode bloqué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nécessité de placer un écrêteur dans l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94160" y="2340000"/>
            <a:ext cx="152388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Calibre tension  100V/d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Calibre cour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10A/d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Temps : 5µs/d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(F=25k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16000" y="2320920"/>
            <a:ext cx="4037040" cy="3027240"/>
            <a:chOff x="216000" y="2320920"/>
            <a:chExt cx="4037040" cy="3027240"/>
          </a:xfrm>
        </p:grpSpPr>
        <p:pic>
          <p:nvPicPr>
            <p:cNvPr id="757" name="" descr=""/>
            <p:cNvPicPr/>
            <p:nvPr/>
          </p:nvPicPr>
          <p:blipFill>
            <a:blip r:embed="rId1"/>
            <a:stretch/>
          </p:blipFill>
          <p:spPr>
            <a:xfrm>
              <a:off x="216000" y="232092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431640" y="4508640"/>
              <a:ext cx="370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014880" y="2370240"/>
            <a:ext cx="3945240" cy="3049560"/>
            <a:chOff x="6014880" y="2370240"/>
            <a:chExt cx="3945240" cy="3049560"/>
          </a:xfrm>
        </p:grpSpPr>
        <p:pic>
          <p:nvPicPr>
            <p:cNvPr id="760" name="" descr=""/>
            <p:cNvPicPr/>
            <p:nvPr/>
          </p:nvPicPr>
          <p:blipFill>
            <a:blip r:embed="rId2"/>
            <a:stretch/>
          </p:blipFill>
          <p:spPr>
            <a:xfrm>
              <a:off x="6014880" y="2370240"/>
              <a:ext cx="394524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388200" y="4470480"/>
              <a:ext cx="349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839240" y="1541520"/>
            <a:ext cx="7310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pplications visées : onduleurs HF de 10 à 100k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790A-5C23-4770-A898-3486E6876F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Structure complète : un exe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919080"/>
            <a:ext cx="95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Quelques relevés dans une structure réelle : 300V, 120A, F=40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050840" y="1558800"/>
            <a:ext cx="5695920" cy="457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1803240" y="6238800"/>
            <a:ext cx="6235920" cy="1201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Fonctionnement en régime quasi-nominal : I</a:t>
            </a:r>
            <a:r>
              <a:rPr b="0" lang="fr-FR" sz="1400" spc="-1" strike="noStrike">
                <a:solidFill>
                  <a:srgbClr val="4d4d4d"/>
                </a:solidFill>
                <a:latin typeface="Tahoma"/>
              </a:rPr>
              <a:t>Lmax</a:t>
            </a: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=12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78560" y="2451240"/>
            <a:ext cx="2629080" cy="185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Tahoma"/>
              </a:rPr>
              <a:t>Absence de sur-contraintes sur V</a:t>
            </a:r>
            <a:r>
              <a:rPr b="0" lang="en-US" sz="1000" spc="-1" strike="noStrike">
                <a:solidFill>
                  <a:srgbClr val="666699"/>
                </a:solidFill>
                <a:latin typeface="Tahoma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Tahoma"/>
              </a:rPr>
              <a:t>On peut observer le recouvrement de diode sur I</a:t>
            </a:r>
            <a:r>
              <a:rPr b="0" lang="en-US" sz="1000" spc="-1" strike="noStrike">
                <a:solidFill>
                  <a:srgbClr val="666699"/>
                </a:solidFill>
                <a:latin typeface="Tahoma"/>
              </a:rPr>
              <a:t>L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DF5-81DA-4FA8-B4E5-A13EC100D9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2797200" y="1380960"/>
            <a:ext cx="4298760" cy="38545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922320" y="5580000"/>
            <a:ext cx="8951760" cy="1440720"/>
          </a:xfrm>
          <a:prstGeom prst="rect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ahoma"/>
              </a:rPr>
              <a:t>En deçà de 60A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ahoma"/>
              </a:rPr>
              <a:t>: avantage à la commutation dure, les pertes dans les auxiliaires à faible courant de charge sont pénalisantes pour le mode Z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ahoma"/>
              </a:rPr>
              <a:t>Au delà : avantage à la commutation douce, les pertes croissent moins vite avec I</a:t>
            </a:r>
            <a:r>
              <a:rPr b="0" lang="fr-FR" sz="1600" spc="-1" strike="noStrike">
                <a:solidFill>
                  <a:srgbClr val="800000"/>
                </a:solidFill>
                <a:latin typeface="Tahoma"/>
              </a:rPr>
              <a:t>ch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Structure complète : un exe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7378560" y="2451240"/>
            <a:ext cx="2629080" cy="1914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Tahoma"/>
              </a:rPr>
              <a:t>Rendement au point nominal (140A) en mode ZCS : 9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Tahoma"/>
              </a:rPr>
              <a:t>Pertes quasi-doublées en commutation dure au point no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019160" y="86832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urant de charge sinusoïdal BF : 400V, 120A, F=25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firstslide"/>
          </p:cNvPr>
          <p:cNvSpPr/>
          <p:nvPr/>
        </p:nvSpPr>
        <p:spPr>
          <a:xfrm>
            <a:off x="12600" y="6608880"/>
            <a:ext cx="301680" cy="37620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76200"/>
              <a:gd name="textAreaBottom" fmla="*/ 356760 h 376200"/>
            </a:gdLst>
            <a:ahLst/>
            <a:rect l="textAreaLeft" t="textAreaTop" r="textAreaRight" b="textAreaBottom"/>
            <a:pathLst>
              <a:path w="21600" h="26929">
                <a:moveTo>
                  <a:pt x="0" y="0"/>
                </a:moveTo>
                <a:lnTo>
                  <a:pt x="21600" y="0"/>
                </a:lnTo>
                <a:lnTo>
                  <a:pt x="21600" y="26929"/>
                </a:lnTo>
                <a:lnTo>
                  <a:pt x="0" y="26929"/>
                </a:lnTo>
                <a:close/>
              </a:path>
              <a:path fill="lightenLess" w="21600" h="26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29">
                <a:moveTo>
                  <a:pt x="21600" y="0"/>
                </a:moveTo>
                <a:lnTo>
                  <a:pt x="21600" y="26929"/>
                </a:lnTo>
                <a:lnTo>
                  <a:pt x="20200" y="25529"/>
                </a:lnTo>
                <a:lnTo>
                  <a:pt x="20200" y="1400"/>
                </a:lnTo>
                <a:close/>
              </a:path>
              <a:path fill="darkenLess" w="21600" h="26929">
                <a:moveTo>
                  <a:pt x="21600" y="26929"/>
                </a:moveTo>
                <a:lnTo>
                  <a:pt x="0" y="26929"/>
                </a:lnTo>
                <a:lnTo>
                  <a:pt x="1400" y="25529"/>
                </a:lnTo>
                <a:lnTo>
                  <a:pt x="20200" y="25529"/>
                </a:lnTo>
                <a:close/>
              </a:path>
              <a:path fill="lighten" w="21600" h="26929">
                <a:moveTo>
                  <a:pt x="0" y="26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29"/>
                </a:lnTo>
                <a:close/>
              </a:path>
              <a:path fill="darken" w="21600" h="26929">
                <a:moveTo>
                  <a:pt x="10800" y="6502"/>
                </a:moveTo>
                <a:lnTo>
                  <a:pt x="13376" y="9113"/>
                </a:ln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lnTo>
                  <a:pt x="17763" y="13465"/>
                </a:lnTo>
                <a:lnTo>
                  <a:pt x="16109" y="13465"/>
                </a:lnTo>
                <a:lnTo>
                  <a:pt x="16109" y="20654"/>
                </a:lnTo>
                <a:lnTo>
                  <a:pt x="5491" y="20654"/>
                </a:lnTo>
                <a:lnTo>
                  <a:pt x="5491" y="13465"/>
                </a:lnTo>
                <a:lnTo>
                  <a:pt x="3837" y="13465"/>
                </a:lnTo>
                <a:close/>
              </a:path>
              <a:path fill="darkenLess" w="21600" h="26929">
                <a:moveTo>
                  <a:pt x="13376" y="9113"/>
                </a:move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close/>
              </a:path>
              <a:path fill="darkenLess" w="21600" h="26929">
                <a:moveTo>
                  <a:pt x="9877" y="16963"/>
                </a:moveTo>
                <a:lnTo>
                  <a:pt x="11723" y="16963"/>
                </a:lnTo>
                <a:lnTo>
                  <a:pt x="11723" y="20654"/>
                </a:lnTo>
                <a:lnTo>
                  <a:pt x="16109" y="20654"/>
                </a:lnTo>
                <a:lnTo>
                  <a:pt x="16109" y="13465"/>
                </a:lnTo>
                <a:lnTo>
                  <a:pt x="5491" y="13465"/>
                </a:lnTo>
                <a:lnTo>
                  <a:pt x="5491" y="20654"/>
                </a:lnTo>
                <a:lnTo>
                  <a:pt x="9877" y="20654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C449-D143-4FB3-8CD0-781206655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89680" y="4673520"/>
            <a:ext cx="412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’interrupteur commandé est bidirectionnel en tension à commande de bloc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de ba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06280" y="1536840"/>
            <a:ext cx="4368240" cy="3012480"/>
            <a:chOff x="206280" y="1536840"/>
            <a:chExt cx="4368240" cy="3012480"/>
          </a:xfrm>
        </p:grpSpPr>
        <p:sp>
          <p:nvSpPr>
            <p:cNvPr id="778" name=""/>
            <p:cNvSpPr/>
            <p:nvPr/>
          </p:nvSpPr>
          <p:spPr>
            <a:xfrm flipH="1">
              <a:off x="516960" y="4543200"/>
              <a:ext cx="405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33360" y="1773000"/>
              <a:ext cx="706320" cy="24876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12280" y="2004840"/>
              <a:ext cx="82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1860480" y="2004840"/>
              <a:ext cx="99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38240" y="2004840"/>
              <a:ext cx="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38240" y="2651040"/>
              <a:ext cx="0" cy="11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2635200" y="3783240"/>
              <a:ext cx="412200" cy="328320"/>
              <a:chOff x="2635200" y="3783240"/>
              <a:chExt cx="412200" cy="328320"/>
            </a:xfrm>
          </p:grpSpPr>
          <p:sp>
            <p:nvSpPr>
              <p:cNvPr id="785" name=""/>
              <p:cNvSpPr/>
              <p:nvPr/>
            </p:nvSpPr>
            <p:spPr>
              <a:xfrm>
                <a:off x="2635200" y="378324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9520" y="3783600"/>
                <a:ext cx="407880" cy="32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2838240" y="4124160"/>
              <a:ext cx="0" cy="42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834640" y="3215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84520" y="2993760"/>
              <a:ext cx="509400" cy="442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089240" y="321588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38320" y="2993760"/>
              <a:ext cx="0" cy="44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061720" y="321588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66760" y="3215880"/>
              <a:ext cx="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82440" y="397476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882440" y="405756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66760" y="4065480"/>
              <a:ext cx="0" cy="47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2000" y="3035160"/>
              <a:ext cx="0" cy="150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2000" y="2012760"/>
              <a:ext cx="0" cy="93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6280" y="294624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160" y="3027240"/>
              <a:ext cx="2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59040" y="3215880"/>
              <a:ext cx="0" cy="13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2500200" y="2317320"/>
              <a:ext cx="546840" cy="412200"/>
              <a:chOff x="2500200" y="2317320"/>
              <a:chExt cx="546840" cy="41220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2634120" y="2317320"/>
                <a:ext cx="412920" cy="328320"/>
                <a:chOff x="2634120" y="2317320"/>
                <a:chExt cx="412920" cy="3283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634120" y="264564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2638440" y="2316960"/>
                  <a:ext cx="40860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 flipH="1">
                <a:off x="2500200" y="272556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2626920" y="263988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663480" y="26431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50800" y="15368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55880" y="34984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89240" y="387180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47640" y="39304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61880" y="2344320"/>
              <a:ext cx="36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88920" y="2004840"/>
            <a:ext cx="969480" cy="941400"/>
            <a:chOff x="2788920" y="2004840"/>
            <a:chExt cx="969480" cy="941400"/>
          </a:xfrm>
        </p:grpSpPr>
        <p:grpSp>
          <p:nvGrpSpPr>
            <p:cNvPr id="815" name=""/>
            <p:cNvGrpSpPr/>
            <p:nvPr/>
          </p:nvGrpSpPr>
          <p:grpSpPr>
            <a:xfrm>
              <a:off x="3346200" y="2309400"/>
              <a:ext cx="412200" cy="328320"/>
              <a:chOff x="3346200" y="2309400"/>
              <a:chExt cx="412200" cy="328320"/>
            </a:xfrm>
          </p:grpSpPr>
          <p:sp>
            <p:nvSpPr>
              <p:cNvPr id="816" name=""/>
              <p:cNvSpPr/>
              <p:nvPr/>
            </p:nvSpPr>
            <p:spPr>
              <a:xfrm>
                <a:off x="3346200" y="230940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350520" y="230940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V="1">
              <a:off x="3555720" y="200628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555720" y="262872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788920" y="200484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844360" y="2935080"/>
              <a:ext cx="6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853920" y="900000"/>
            <a:ext cx="9255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pplication du principe de dualité : génération de la structure ZV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0600" y="4998960"/>
            <a:ext cx="4098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Caractéristique de sortie Vs(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22400" y="5504040"/>
                <a:ext cx="4559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²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1212840" y="6134040"/>
            <a:ext cx="293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éseau d’horizontales : liné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08120" y="267480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314360" y="1473120"/>
            <a:ext cx="3111480" cy="2616120"/>
            <a:chOff x="1314360" y="1473120"/>
            <a:chExt cx="3111480" cy="2616120"/>
          </a:xfrm>
        </p:grpSpPr>
        <p:sp>
          <p:nvSpPr>
            <p:cNvPr id="828" name=""/>
            <p:cNvSpPr/>
            <p:nvPr/>
          </p:nvSpPr>
          <p:spPr>
            <a:xfrm>
              <a:off x="4245120" y="3943440"/>
              <a:ext cx="164880" cy="1458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00480" y="3622680"/>
              <a:ext cx="155520" cy="155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14360" y="3622680"/>
              <a:ext cx="155520" cy="1364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51240" y="1473120"/>
              <a:ext cx="174600" cy="146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1384200" y="3449520"/>
            <a:ext cx="1101600" cy="249480"/>
            <a:chOff x="1384200" y="3449520"/>
            <a:chExt cx="1101600" cy="249480"/>
          </a:xfrm>
        </p:grpSpPr>
        <p:sp>
          <p:nvSpPr>
            <p:cNvPr id="833" name=""/>
            <p:cNvSpPr/>
            <p:nvPr/>
          </p:nvSpPr>
          <p:spPr>
            <a:xfrm>
              <a:off x="1589040" y="3449520"/>
              <a:ext cx="706320" cy="24948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384200" y="3683160"/>
              <a:ext cx="292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2212560" y="3683160"/>
              <a:ext cx="273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476440" y="3670200"/>
            <a:ext cx="1857240" cy="547560"/>
            <a:chOff x="2476440" y="3670200"/>
            <a:chExt cx="1857240" cy="547560"/>
          </a:xfrm>
        </p:grpSpPr>
        <p:grpSp>
          <p:nvGrpSpPr>
            <p:cNvPr id="837" name=""/>
            <p:cNvGrpSpPr/>
            <p:nvPr/>
          </p:nvGrpSpPr>
          <p:grpSpPr>
            <a:xfrm>
              <a:off x="3413160" y="3805200"/>
              <a:ext cx="328320" cy="412560"/>
              <a:chOff x="3413160" y="3805200"/>
              <a:chExt cx="328320" cy="412560"/>
            </a:xfrm>
          </p:grpSpPr>
          <p:sp>
            <p:nvSpPr>
              <p:cNvPr id="838" name=""/>
              <p:cNvSpPr/>
              <p:nvPr/>
            </p:nvSpPr>
            <p:spPr>
              <a:xfrm>
                <a:off x="3741480" y="3805200"/>
                <a:ext cx="0" cy="408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400000">
                <a:off x="3373200" y="384948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flipH="1">
              <a:off x="3742920" y="4017960"/>
              <a:ext cx="5907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2489040" y="4000320"/>
              <a:ext cx="914400" cy="12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76440" y="3670200"/>
              <a:ext cx="0" cy="34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029120" y="1568520"/>
            <a:ext cx="649080" cy="2440080"/>
            <a:chOff x="4029120" y="1568520"/>
            <a:chExt cx="649080" cy="2440080"/>
          </a:xfrm>
        </p:grpSpPr>
        <p:sp>
          <p:nvSpPr>
            <p:cNvPr id="844" name=""/>
            <p:cNvSpPr/>
            <p:nvPr/>
          </p:nvSpPr>
          <p:spPr>
            <a:xfrm flipV="1">
              <a:off x="4344840" y="1568520"/>
              <a:ext cx="0" cy="122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4344840" y="2884680"/>
              <a:ext cx="0" cy="112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29120" y="2884680"/>
              <a:ext cx="649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8000" y="2803680"/>
              <a:ext cx="21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181160" y="1539720"/>
            <a:ext cx="3143160" cy="2125800"/>
            <a:chOff x="1181160" y="1539720"/>
            <a:chExt cx="3143160" cy="2125800"/>
          </a:xfrm>
        </p:grpSpPr>
        <p:sp>
          <p:nvSpPr>
            <p:cNvPr id="849" name=""/>
            <p:cNvSpPr/>
            <p:nvPr/>
          </p:nvSpPr>
          <p:spPr>
            <a:xfrm>
              <a:off x="1365120" y="1539720"/>
              <a:ext cx="0" cy="879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81160" y="2432160"/>
              <a:ext cx="368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81160" y="2514600"/>
              <a:ext cx="368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65120" y="2522520"/>
              <a:ext cx="0" cy="1143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1365120" y="1539720"/>
              <a:ext cx="295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1402920" y="1541520"/>
            <a:ext cx="2910240" cy="2114640"/>
            <a:chOff x="1402920" y="1541520"/>
            <a:chExt cx="2910240" cy="2114640"/>
          </a:xfrm>
        </p:grpSpPr>
        <p:grpSp>
          <p:nvGrpSpPr>
            <p:cNvPr id="855" name=""/>
            <p:cNvGrpSpPr/>
            <p:nvPr/>
          </p:nvGrpSpPr>
          <p:grpSpPr>
            <a:xfrm>
              <a:off x="1402920" y="1541520"/>
              <a:ext cx="2910240" cy="2114640"/>
              <a:chOff x="1402920" y="1541520"/>
              <a:chExt cx="2910240" cy="211464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1838160" y="2294280"/>
                <a:ext cx="412560" cy="546840"/>
                <a:chOff x="1838160" y="2294280"/>
                <a:chExt cx="412560" cy="54684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1838160" y="2294280"/>
                  <a:ext cx="328320" cy="412920"/>
                  <a:chOff x="1838160" y="2294280"/>
                  <a:chExt cx="328320" cy="41292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V="1">
                    <a:off x="2166480" y="2298600"/>
                    <a:ext cx="0" cy="40860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 rot="16200000">
                    <a:off x="1797840" y="2333880"/>
                    <a:ext cx="40860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2246760" y="2700720"/>
                  <a:ext cx="0" cy="1404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61080" y="2621880"/>
                  <a:ext cx="89640" cy="9252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 flipH="1">
                <a:off x="2174400" y="2492280"/>
                <a:ext cx="18162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1402920" y="2494080"/>
                <a:ext cx="252360" cy="11620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50960" y="2492280"/>
                <a:ext cx="1872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994200" y="1541520"/>
                <a:ext cx="318960" cy="9619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2108160" y="2693880"/>
              <a:ext cx="15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5207040" y="320040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5756400" y="1409760"/>
            <a:ext cx="4368240" cy="3012840"/>
            <a:chOff x="5756400" y="1409760"/>
            <a:chExt cx="4368240" cy="3012840"/>
          </a:xfrm>
        </p:grpSpPr>
        <p:grpSp>
          <p:nvGrpSpPr>
            <p:cNvPr id="869" name=""/>
            <p:cNvGrpSpPr/>
            <p:nvPr/>
          </p:nvGrpSpPr>
          <p:grpSpPr>
            <a:xfrm>
              <a:off x="5756400" y="1409760"/>
              <a:ext cx="4368240" cy="3012840"/>
              <a:chOff x="5756400" y="1409760"/>
              <a:chExt cx="4368240" cy="3012840"/>
            </a:xfrm>
          </p:grpSpPr>
          <p:sp>
            <p:nvSpPr>
              <p:cNvPr id="870" name=""/>
              <p:cNvSpPr/>
              <p:nvPr/>
            </p:nvSpPr>
            <p:spPr>
              <a:xfrm flipH="1">
                <a:off x="6067440" y="4416480"/>
                <a:ext cx="40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83120" y="1646280"/>
                <a:ext cx="706320" cy="249120"/>
              </a:xfrm>
              <a:custGeom>
                <a:avLst/>
                <a:gdLst/>
                <a:ahLst/>
                <a:rect l="l" t="t" r="r" b="b"/>
                <a:pathLst>
                  <a:path w="430" h="234">
                    <a:moveTo>
                      <a:pt x="58" y="215"/>
                    </a:moveTo>
                    <a:cubicBezTo>
                      <a:pt x="49" y="199"/>
                      <a:pt x="8" y="144"/>
                      <a:pt x="4" y="113"/>
                    </a:cubicBezTo>
                    <a:cubicBezTo>
                      <a:pt x="0" y="82"/>
                      <a:pt x="15" y="46"/>
                      <a:pt x="34" y="29"/>
                    </a:cubicBezTo>
                    <a:cubicBezTo>
                      <a:pt x="53" y="12"/>
                      <a:pt x="96" y="3"/>
                      <a:pt x="122" y="10"/>
                    </a:cubicBezTo>
                    <a:cubicBezTo>
                      <a:pt x="148" y="17"/>
                      <a:pt x="178" y="38"/>
                      <a:pt x="189" y="72"/>
                    </a:cubicBezTo>
                    <a:cubicBezTo>
                      <a:pt x="200" y="105"/>
                      <a:pt x="199" y="185"/>
                      <a:pt x="189" y="209"/>
                    </a:cubicBezTo>
                    <a:cubicBezTo>
                      <a:pt x="179" y="233"/>
                      <a:pt x="143" y="234"/>
                      <a:pt x="127" y="216"/>
                    </a:cubicBezTo>
                    <a:cubicBezTo>
                      <a:pt x="112" y="198"/>
                      <a:pt x="96" y="134"/>
                      <a:pt x="97" y="103"/>
                    </a:cubicBezTo>
                    <a:cubicBezTo>
                      <a:pt x="97" y="71"/>
                      <a:pt x="109" y="44"/>
                      <a:pt x="132" y="27"/>
                    </a:cubicBezTo>
                    <a:cubicBezTo>
                      <a:pt x="156" y="10"/>
                      <a:pt x="207" y="0"/>
                      <a:pt x="235" y="3"/>
                    </a:cubicBezTo>
                    <a:cubicBezTo>
                      <a:pt x="263" y="6"/>
                      <a:pt x="286" y="20"/>
                      <a:pt x="302" y="44"/>
                    </a:cubicBezTo>
                    <a:cubicBezTo>
                      <a:pt x="317" y="69"/>
                      <a:pt x="327" y="122"/>
                      <a:pt x="327" y="151"/>
                    </a:cubicBezTo>
                    <a:cubicBezTo>
                      <a:pt x="327" y="180"/>
                      <a:pt x="315" y="206"/>
                      <a:pt x="302" y="216"/>
                    </a:cubicBezTo>
                    <a:cubicBezTo>
                      <a:pt x="289" y="227"/>
                      <a:pt x="263" y="231"/>
                      <a:pt x="250" y="213"/>
                    </a:cubicBezTo>
                    <a:cubicBezTo>
                      <a:pt x="238" y="195"/>
                      <a:pt x="225" y="137"/>
                      <a:pt x="225" y="110"/>
                    </a:cubicBezTo>
                    <a:cubicBezTo>
                      <a:pt x="225" y="83"/>
                      <a:pt x="242" y="66"/>
                      <a:pt x="250" y="51"/>
                    </a:cubicBezTo>
                    <a:cubicBezTo>
                      <a:pt x="259" y="36"/>
                      <a:pt x="262" y="28"/>
                      <a:pt x="276" y="20"/>
                    </a:cubicBezTo>
                    <a:cubicBezTo>
                      <a:pt x="290" y="12"/>
                      <a:pt x="315" y="4"/>
                      <a:pt x="333" y="3"/>
                    </a:cubicBezTo>
                    <a:cubicBezTo>
                      <a:pt x="350" y="2"/>
                      <a:pt x="370" y="3"/>
                      <a:pt x="384" y="13"/>
                    </a:cubicBezTo>
                    <a:cubicBezTo>
                      <a:pt x="398" y="24"/>
                      <a:pt x="408" y="42"/>
                      <a:pt x="415" y="65"/>
                    </a:cubicBezTo>
                    <a:cubicBezTo>
                      <a:pt x="421" y="87"/>
                      <a:pt x="430" y="123"/>
                      <a:pt x="425" y="147"/>
                    </a:cubicBezTo>
                    <a:cubicBezTo>
                      <a:pt x="420" y="172"/>
                      <a:pt x="392" y="199"/>
                      <a:pt x="384" y="213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062040" y="1877760"/>
                <a:ext cx="82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409880" y="1877760"/>
                <a:ext cx="99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388360" y="1877760"/>
                <a:ext cx="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388360" y="2523960"/>
                <a:ext cx="0" cy="11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388360" y="3997080"/>
                <a:ext cx="0" cy="42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8385120" y="308916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9134280" y="2867040"/>
                <a:ext cx="509400" cy="44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9639000" y="3089160"/>
                <a:ext cx="48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388440" y="2867040"/>
                <a:ext cx="0" cy="44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7611480" y="3089160"/>
                <a:ext cx="77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16880" y="3089160"/>
                <a:ext cx="0" cy="74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432560" y="3848040"/>
                <a:ext cx="3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432560" y="3930480"/>
                <a:ext cx="3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16880" y="3938400"/>
                <a:ext cx="0" cy="47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072120" y="2908080"/>
                <a:ext cx="0" cy="150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072120" y="1886040"/>
                <a:ext cx="0" cy="93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56400" y="28191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975280" y="2900160"/>
                <a:ext cx="21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0109160" y="3089160"/>
                <a:ext cx="0" cy="132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"/>
              <p:cNvGrpSpPr/>
              <p:nvPr/>
            </p:nvGrpSpPr>
            <p:grpSpPr>
              <a:xfrm>
                <a:off x="8049960" y="3663720"/>
                <a:ext cx="546840" cy="412560"/>
                <a:chOff x="8049960" y="3663720"/>
                <a:chExt cx="546840" cy="41256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8183880" y="3663720"/>
                  <a:ext cx="412920" cy="328320"/>
                  <a:chOff x="8183880" y="3663720"/>
                  <a:chExt cx="412920" cy="32832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8183880" y="3992040"/>
                    <a:ext cx="40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V="1">
                    <a:off x="8188200" y="3663720"/>
                    <a:ext cx="40860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5" name=""/>
                <p:cNvSpPr/>
                <p:nvPr/>
              </p:nvSpPr>
              <p:spPr>
                <a:xfrm flipH="1">
                  <a:off x="8049960" y="4072320"/>
                  <a:ext cx="14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8176680" y="3986640"/>
                  <a:ext cx="92520" cy="8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6213240" y="251604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00920" y="140976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9306000" y="337176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39000" y="3744720"/>
                <a:ext cx="3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K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97760" y="380340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12000" y="2217600"/>
                <a:ext cx="36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8184960" y="2182680"/>
                <a:ext cx="412200" cy="328320"/>
                <a:chOff x="8184960" y="2182680"/>
                <a:chExt cx="412200" cy="32832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8184960" y="218268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189280" y="2182680"/>
                  <a:ext cx="40788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7851600" y="395136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9169560" y="273060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5931000" y="5803920"/>
            <a:ext cx="41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e dual d’une diode est une di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61640" y="1542960"/>
            <a:ext cx="4886280" cy="3245040"/>
            <a:chOff x="161640" y="1542960"/>
            <a:chExt cx="4886280" cy="3245040"/>
          </a:xfrm>
        </p:grpSpPr>
        <p:grpSp>
          <p:nvGrpSpPr>
            <p:cNvPr id="910" name=""/>
            <p:cNvGrpSpPr/>
            <p:nvPr/>
          </p:nvGrpSpPr>
          <p:grpSpPr>
            <a:xfrm>
              <a:off x="161640" y="1542960"/>
              <a:ext cx="4886280" cy="3245040"/>
              <a:chOff x="161640" y="1542960"/>
              <a:chExt cx="4886280" cy="324504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161640" y="1542960"/>
                <a:ext cx="4886280" cy="3245040"/>
                <a:chOff x="161640" y="1542960"/>
                <a:chExt cx="4886280" cy="3245040"/>
              </a:xfrm>
            </p:grpSpPr>
            <p:sp>
              <p:nvSpPr>
                <p:cNvPr id="912" name=""/>
                <p:cNvSpPr/>
                <p:nvPr/>
              </p:nvSpPr>
              <p:spPr>
                <a:xfrm flipH="1">
                  <a:off x="161640" y="3673440"/>
                  <a:ext cx="52380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3200" y="3451320"/>
                  <a:ext cx="509400" cy="442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1171080" y="3673440"/>
                  <a:ext cx="1810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161640" y="4788000"/>
                  <a:ext cx="4886280" cy="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030640" y="1542960"/>
                  <a:ext cx="0" cy="323712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63440" y="3686040"/>
                  <a:ext cx="0" cy="109404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4362480" y="1550880"/>
                  <a:ext cx="666720" cy="1800"/>
                </a:xfrm>
                <a:prstGeom prst="line">
                  <a:avLst/>
                </a:prstGeom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927000" y="3451320"/>
                <a:ext cx="0" cy="442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736560" y="4013280"/>
              <a:ext cx="3938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758880" y="6664320"/>
            <a:ext cx="8991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33"/>
                </a:solidFill>
                <a:latin typeface="Tahoma"/>
              </a:rPr>
              <a:t>A l’assistance de Ik dans K1 en ZCS correspond l’assistance de Vk en Z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4859280" y="5497560"/>
                <a:ext cx="965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B02E-CA81-4305-9124-382750D73A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de ba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295200" y="1143000"/>
            <a:ext cx="4368240" cy="3012840"/>
            <a:chOff x="295200" y="1143000"/>
            <a:chExt cx="4368240" cy="3012840"/>
          </a:xfrm>
        </p:grpSpPr>
        <p:grpSp>
          <p:nvGrpSpPr>
            <p:cNvPr id="925" name=""/>
            <p:cNvGrpSpPr/>
            <p:nvPr/>
          </p:nvGrpSpPr>
          <p:grpSpPr>
            <a:xfrm>
              <a:off x="295200" y="1143000"/>
              <a:ext cx="4368240" cy="3012840"/>
              <a:chOff x="295200" y="1143000"/>
              <a:chExt cx="4368240" cy="301284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606240" y="4149720"/>
                <a:ext cx="40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321920" y="1379520"/>
                <a:ext cx="706320" cy="249120"/>
              </a:xfrm>
              <a:custGeom>
                <a:avLst/>
                <a:gdLst/>
                <a:ahLst/>
                <a:rect l="l" t="t" r="r" b="b"/>
                <a:pathLst>
                  <a:path w="430" h="234">
                    <a:moveTo>
                      <a:pt x="58" y="215"/>
                    </a:moveTo>
                    <a:cubicBezTo>
                      <a:pt x="49" y="199"/>
                      <a:pt x="8" y="144"/>
                      <a:pt x="4" y="113"/>
                    </a:cubicBezTo>
                    <a:cubicBezTo>
                      <a:pt x="0" y="82"/>
                      <a:pt x="15" y="46"/>
                      <a:pt x="34" y="29"/>
                    </a:cubicBezTo>
                    <a:cubicBezTo>
                      <a:pt x="53" y="12"/>
                      <a:pt x="96" y="3"/>
                      <a:pt x="122" y="10"/>
                    </a:cubicBezTo>
                    <a:cubicBezTo>
                      <a:pt x="148" y="17"/>
                      <a:pt x="178" y="38"/>
                      <a:pt x="189" y="72"/>
                    </a:cubicBezTo>
                    <a:cubicBezTo>
                      <a:pt x="200" y="105"/>
                      <a:pt x="199" y="185"/>
                      <a:pt x="189" y="209"/>
                    </a:cubicBezTo>
                    <a:cubicBezTo>
                      <a:pt x="179" y="233"/>
                      <a:pt x="143" y="234"/>
                      <a:pt x="127" y="216"/>
                    </a:cubicBezTo>
                    <a:cubicBezTo>
                      <a:pt x="112" y="198"/>
                      <a:pt x="96" y="134"/>
                      <a:pt x="97" y="103"/>
                    </a:cubicBezTo>
                    <a:cubicBezTo>
                      <a:pt x="97" y="71"/>
                      <a:pt x="109" y="44"/>
                      <a:pt x="132" y="27"/>
                    </a:cubicBezTo>
                    <a:cubicBezTo>
                      <a:pt x="156" y="10"/>
                      <a:pt x="207" y="0"/>
                      <a:pt x="235" y="3"/>
                    </a:cubicBezTo>
                    <a:cubicBezTo>
                      <a:pt x="263" y="6"/>
                      <a:pt x="286" y="20"/>
                      <a:pt x="302" y="44"/>
                    </a:cubicBezTo>
                    <a:cubicBezTo>
                      <a:pt x="317" y="69"/>
                      <a:pt x="327" y="122"/>
                      <a:pt x="327" y="151"/>
                    </a:cubicBezTo>
                    <a:cubicBezTo>
                      <a:pt x="327" y="180"/>
                      <a:pt x="315" y="206"/>
                      <a:pt x="302" y="216"/>
                    </a:cubicBezTo>
                    <a:cubicBezTo>
                      <a:pt x="289" y="227"/>
                      <a:pt x="263" y="231"/>
                      <a:pt x="250" y="213"/>
                    </a:cubicBezTo>
                    <a:cubicBezTo>
                      <a:pt x="238" y="195"/>
                      <a:pt x="225" y="137"/>
                      <a:pt x="225" y="110"/>
                    </a:cubicBezTo>
                    <a:cubicBezTo>
                      <a:pt x="225" y="83"/>
                      <a:pt x="242" y="66"/>
                      <a:pt x="250" y="51"/>
                    </a:cubicBezTo>
                    <a:cubicBezTo>
                      <a:pt x="259" y="36"/>
                      <a:pt x="262" y="28"/>
                      <a:pt x="276" y="20"/>
                    </a:cubicBezTo>
                    <a:cubicBezTo>
                      <a:pt x="290" y="12"/>
                      <a:pt x="315" y="4"/>
                      <a:pt x="333" y="3"/>
                    </a:cubicBezTo>
                    <a:cubicBezTo>
                      <a:pt x="350" y="2"/>
                      <a:pt x="370" y="3"/>
                      <a:pt x="384" y="13"/>
                    </a:cubicBezTo>
                    <a:cubicBezTo>
                      <a:pt x="398" y="24"/>
                      <a:pt x="408" y="42"/>
                      <a:pt x="415" y="65"/>
                    </a:cubicBezTo>
                    <a:cubicBezTo>
                      <a:pt x="421" y="87"/>
                      <a:pt x="430" y="123"/>
                      <a:pt x="425" y="147"/>
                    </a:cubicBezTo>
                    <a:cubicBezTo>
                      <a:pt x="420" y="172"/>
                      <a:pt x="392" y="199"/>
                      <a:pt x="384" y="213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600840" y="1611000"/>
                <a:ext cx="82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1948680" y="1611000"/>
                <a:ext cx="99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927160" y="1611000"/>
                <a:ext cx="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27160" y="2257200"/>
                <a:ext cx="0" cy="112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927160" y="3730320"/>
                <a:ext cx="0" cy="42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2923920" y="282240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73080" y="2600280"/>
                <a:ext cx="509400" cy="44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4177800" y="2822400"/>
                <a:ext cx="48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927240" y="2600280"/>
                <a:ext cx="0" cy="44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2150280" y="2822400"/>
                <a:ext cx="77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155680" y="2822400"/>
                <a:ext cx="0" cy="74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971360" y="3581280"/>
                <a:ext cx="3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971360" y="3663720"/>
                <a:ext cx="3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155680" y="3671640"/>
                <a:ext cx="0" cy="47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10920" y="2641320"/>
                <a:ext cx="0" cy="150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10920" y="1619280"/>
                <a:ext cx="0" cy="93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5200" y="255240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4080" y="2633400"/>
                <a:ext cx="21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647960" y="2822400"/>
                <a:ext cx="0" cy="132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2588760" y="3396960"/>
                <a:ext cx="546840" cy="412560"/>
                <a:chOff x="2588760" y="3396960"/>
                <a:chExt cx="546840" cy="4125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2722680" y="3396960"/>
                  <a:ext cx="412920" cy="328320"/>
                  <a:chOff x="2722680" y="3396960"/>
                  <a:chExt cx="412920" cy="3283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2722680" y="3725280"/>
                    <a:ext cx="40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flipV="1">
                    <a:off x="2727000" y="3396960"/>
                    <a:ext cx="40860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1" name=""/>
                <p:cNvSpPr/>
                <p:nvPr/>
              </p:nvSpPr>
              <p:spPr>
                <a:xfrm flipH="1">
                  <a:off x="2588760" y="3805560"/>
                  <a:ext cx="14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2715480" y="3719880"/>
                  <a:ext cx="92520" cy="8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752040" y="224928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539720" y="114300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844800" y="310500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277800" y="3477960"/>
                <a:ext cx="3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K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36560" y="353664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50800" y="1950840"/>
                <a:ext cx="36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2723760" y="1915920"/>
                <a:ext cx="412200" cy="328320"/>
                <a:chOff x="2723760" y="1915920"/>
                <a:chExt cx="412200" cy="3283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2723760" y="191592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728080" y="1915920"/>
                  <a:ext cx="40788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" name=""/>
              <p:cNvSpPr/>
              <p:nvPr/>
            </p:nvSpPr>
            <p:spPr>
              <a:xfrm>
                <a:off x="2390400" y="3684600"/>
                <a:ext cx="25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3708360" y="246384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477040" y="1405080"/>
            <a:ext cx="4365360" cy="2763720"/>
            <a:chOff x="5477040" y="1405080"/>
            <a:chExt cx="4365360" cy="2763720"/>
          </a:xfrm>
        </p:grpSpPr>
        <p:sp>
          <p:nvSpPr>
            <p:cNvPr id="965" name=""/>
            <p:cNvSpPr/>
            <p:nvPr/>
          </p:nvSpPr>
          <p:spPr>
            <a:xfrm flipH="1">
              <a:off x="5775120" y="4150080"/>
              <a:ext cx="4057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04120" y="1405080"/>
              <a:ext cx="70632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783040" y="1636920"/>
              <a:ext cx="82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130520" y="1636920"/>
              <a:ext cx="979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09000" y="1624320"/>
              <a:ext cx="0" cy="301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109000" y="2270160"/>
              <a:ext cx="0" cy="1128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109000" y="3743640"/>
              <a:ext cx="0" cy="425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8105400" y="283536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854920" y="2613240"/>
              <a:ext cx="50976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9360000" y="2835360"/>
              <a:ext cx="482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109080" y="2613240"/>
              <a:ext cx="0" cy="442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332480" y="2835360"/>
              <a:ext cx="772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7337520" y="2847960"/>
              <a:ext cx="0" cy="631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53200" y="3492720"/>
              <a:ext cx="368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53200" y="3575160"/>
              <a:ext cx="368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7337520" y="3583080"/>
              <a:ext cx="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92760" y="2654640"/>
              <a:ext cx="0" cy="1506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92760" y="1632240"/>
              <a:ext cx="0" cy="933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77040" y="2565720"/>
              <a:ext cx="64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95920" y="2646720"/>
              <a:ext cx="211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829800" y="2835360"/>
              <a:ext cx="0" cy="1325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758000" y="3321720"/>
              <a:ext cx="546840" cy="412560"/>
              <a:chOff x="7758000" y="3321720"/>
              <a:chExt cx="546840" cy="41256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7891920" y="3405960"/>
                <a:ext cx="412920" cy="328320"/>
                <a:chOff x="7891920" y="3405960"/>
                <a:chExt cx="412920" cy="3283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891920" y="3405960"/>
                  <a:ext cx="4086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896240" y="3406320"/>
                  <a:ext cx="40860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 flipH="1">
                <a:off x="7758000" y="3325680"/>
                <a:ext cx="140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7884720" y="3321720"/>
                <a:ext cx="92520" cy="89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5934240" y="22622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59720" y="16894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026640" y="311796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59640" y="3491280"/>
              <a:ext cx="38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34040" y="3206880"/>
              <a:ext cx="2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34440" y="1963800"/>
              <a:ext cx="36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7905600" y="1941480"/>
              <a:ext cx="412560" cy="328320"/>
              <a:chOff x="7905600" y="1941480"/>
              <a:chExt cx="412560" cy="328320"/>
            </a:xfrm>
          </p:grpSpPr>
          <p:sp>
            <p:nvSpPr>
              <p:cNvPr id="999" name=""/>
              <p:cNvSpPr/>
              <p:nvPr/>
            </p:nvSpPr>
            <p:spPr>
              <a:xfrm>
                <a:off x="7905600" y="2269800"/>
                <a:ext cx="408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7909920" y="1941120"/>
                <a:ext cx="408240" cy="32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7674120" y="31006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89840" y="2476800"/>
              <a:ext cx="368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1996920" y="938160"/>
            <a:ext cx="746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Passage à la structure à courant positif en sor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22760" y="2120760"/>
            <a:ext cx="609480" cy="457200"/>
          </a:xfrm>
          <a:custGeom>
            <a:avLst/>
            <a:gdLst>
              <a:gd name="textAreaLeft" fmla="*/ 9504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758960" y="7531200"/>
            <a:ext cx="706320" cy="249120"/>
          </a:xfrm>
          <a:custGeom>
            <a:avLst/>
            <a:gdLst/>
            <a:ahLst/>
            <a:rect l="l" t="t" r="r" b="b"/>
            <a:pathLst>
              <a:path w="430" h="234">
                <a:moveTo>
                  <a:pt x="58" y="215"/>
                </a:moveTo>
                <a:cubicBezTo>
                  <a:pt x="49" y="199"/>
                  <a:pt x="8" y="144"/>
                  <a:pt x="4" y="113"/>
                </a:cubicBezTo>
                <a:cubicBezTo>
                  <a:pt x="0" y="82"/>
                  <a:pt x="15" y="46"/>
                  <a:pt x="34" y="29"/>
                </a:cubicBezTo>
                <a:cubicBezTo>
                  <a:pt x="53" y="12"/>
                  <a:pt x="96" y="3"/>
                  <a:pt x="122" y="10"/>
                </a:cubicBezTo>
                <a:cubicBezTo>
                  <a:pt x="148" y="17"/>
                  <a:pt x="178" y="38"/>
                  <a:pt x="189" y="72"/>
                </a:cubicBezTo>
                <a:cubicBezTo>
                  <a:pt x="200" y="105"/>
                  <a:pt x="199" y="185"/>
                  <a:pt x="189" y="209"/>
                </a:cubicBezTo>
                <a:cubicBezTo>
                  <a:pt x="179" y="233"/>
                  <a:pt x="143" y="234"/>
                  <a:pt x="127" y="216"/>
                </a:cubicBezTo>
                <a:cubicBezTo>
                  <a:pt x="112" y="198"/>
                  <a:pt x="96" y="134"/>
                  <a:pt x="97" y="103"/>
                </a:cubicBezTo>
                <a:cubicBezTo>
                  <a:pt x="97" y="71"/>
                  <a:pt x="109" y="44"/>
                  <a:pt x="132" y="27"/>
                </a:cubicBezTo>
                <a:cubicBezTo>
                  <a:pt x="156" y="10"/>
                  <a:pt x="207" y="0"/>
                  <a:pt x="235" y="3"/>
                </a:cubicBezTo>
                <a:cubicBezTo>
                  <a:pt x="263" y="6"/>
                  <a:pt x="286" y="20"/>
                  <a:pt x="302" y="44"/>
                </a:cubicBezTo>
                <a:cubicBezTo>
                  <a:pt x="317" y="69"/>
                  <a:pt x="327" y="122"/>
                  <a:pt x="327" y="151"/>
                </a:cubicBezTo>
                <a:cubicBezTo>
                  <a:pt x="327" y="180"/>
                  <a:pt x="315" y="206"/>
                  <a:pt x="302" y="216"/>
                </a:cubicBezTo>
                <a:cubicBezTo>
                  <a:pt x="289" y="227"/>
                  <a:pt x="263" y="231"/>
                  <a:pt x="250" y="213"/>
                </a:cubicBezTo>
                <a:cubicBezTo>
                  <a:pt x="238" y="195"/>
                  <a:pt x="225" y="137"/>
                  <a:pt x="225" y="110"/>
                </a:cubicBezTo>
                <a:cubicBezTo>
                  <a:pt x="225" y="83"/>
                  <a:pt x="242" y="66"/>
                  <a:pt x="250" y="51"/>
                </a:cubicBezTo>
                <a:cubicBezTo>
                  <a:pt x="259" y="36"/>
                  <a:pt x="262" y="28"/>
                  <a:pt x="276" y="20"/>
                </a:cubicBezTo>
                <a:cubicBezTo>
                  <a:pt x="290" y="12"/>
                  <a:pt x="315" y="4"/>
                  <a:pt x="333" y="3"/>
                </a:cubicBezTo>
                <a:cubicBezTo>
                  <a:pt x="350" y="2"/>
                  <a:pt x="370" y="3"/>
                  <a:pt x="384" y="13"/>
                </a:cubicBezTo>
                <a:cubicBezTo>
                  <a:pt x="398" y="24"/>
                  <a:pt x="408" y="42"/>
                  <a:pt x="415" y="65"/>
                </a:cubicBezTo>
                <a:cubicBezTo>
                  <a:pt x="421" y="87"/>
                  <a:pt x="430" y="123"/>
                  <a:pt x="425" y="147"/>
                </a:cubicBezTo>
                <a:cubicBezTo>
                  <a:pt x="420" y="172"/>
                  <a:pt x="392" y="199"/>
                  <a:pt x="384" y="21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46840" y="4672080"/>
            <a:ext cx="3502080" cy="172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utre structur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Permutation des interrup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Insertion de L avec K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295200" y="4532400"/>
            <a:ext cx="4365360" cy="2544840"/>
            <a:chOff x="295200" y="4532400"/>
            <a:chExt cx="4365360" cy="2544840"/>
          </a:xfrm>
        </p:grpSpPr>
        <p:sp>
          <p:nvSpPr>
            <p:cNvPr id="1008" name=""/>
            <p:cNvSpPr/>
            <p:nvPr/>
          </p:nvSpPr>
          <p:spPr>
            <a:xfrm flipH="1">
              <a:off x="581040" y="7058160"/>
              <a:ext cx="407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2706480" y="6548400"/>
              <a:ext cx="579600" cy="2239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601200" y="4545000"/>
              <a:ext cx="233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27520" y="453240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27520" y="5178600"/>
              <a:ext cx="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14560" y="6931080"/>
              <a:ext cx="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924280" y="57434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3440" y="5521320"/>
              <a:ext cx="50976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4177800" y="5743440"/>
              <a:ext cx="4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27600" y="552132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51000" y="5743440"/>
              <a:ext cx="77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155680" y="4549320"/>
              <a:ext cx="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71720" y="507996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71720" y="516240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2155680" y="51577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1280" y="5562720"/>
              <a:ext cx="0" cy="150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1280" y="454032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5200" y="547380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4440" y="555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648320" y="5743440"/>
              <a:ext cx="0" cy="13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2576520" y="4844880"/>
              <a:ext cx="546840" cy="412560"/>
              <a:chOff x="2576520" y="4844880"/>
              <a:chExt cx="546840" cy="41256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2710440" y="4844880"/>
                <a:ext cx="412920" cy="328320"/>
                <a:chOff x="2710440" y="4844880"/>
                <a:chExt cx="412920" cy="32832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2710440" y="517320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2714760" y="4844880"/>
                  <a:ext cx="40860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 flipH="1">
                <a:off x="2576520" y="52534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2703240" y="516780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752400" y="51703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30440" y="65152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44800" y="60260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65560" y="599292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52560" y="47689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52960" y="4871880"/>
              <a:ext cx="36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16320" y="51451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708360" y="538488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2724120" y="5916600"/>
              <a:ext cx="412560" cy="328320"/>
              <a:chOff x="2724120" y="5916600"/>
              <a:chExt cx="412560" cy="328320"/>
            </a:xfrm>
          </p:grpSpPr>
          <p:sp>
            <p:nvSpPr>
              <p:cNvPr id="1043" name=""/>
              <p:cNvSpPr/>
              <p:nvPr/>
            </p:nvSpPr>
            <p:spPr>
              <a:xfrm>
                <a:off x="2724120" y="5916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28440" y="591660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2914560" y="625788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8397720" y="6418440"/>
            <a:ext cx="1625760" cy="52020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Analyse du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4736520" y="4991040"/>
            <a:ext cx="609480" cy="457200"/>
          </a:xfrm>
          <a:custGeom>
            <a:avLst/>
            <a:gdLst>
              <a:gd name="textAreaLeft" fmla="*/ 94680 w 609480"/>
              <a:gd name="textAreaRight" fmla="*/ 5331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26DF-0015-4CEC-9B76-7EA04C7259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à fréquence fix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079960" y="2433600"/>
            <a:ext cx="5000760" cy="249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Mais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L’oscillation qui détermine la phase d’amorçage est dépendante de Is, il existe notamment une valeur minimale de Is en dessous de laquelle la commutation devient im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Contraintes en tension sur K2 très dépendante d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tation d’amorçage très difficil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93600" y="381168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240560" y="2638440"/>
            <a:ext cx="1248480" cy="1036800"/>
            <a:chOff x="1240560" y="2638440"/>
            <a:chExt cx="1248480" cy="1036800"/>
          </a:xfrm>
        </p:grpSpPr>
        <p:sp>
          <p:nvSpPr>
            <p:cNvPr id="1053" name=""/>
            <p:cNvSpPr/>
            <p:nvPr/>
          </p:nvSpPr>
          <p:spPr>
            <a:xfrm flipV="1">
              <a:off x="1257480" y="3049560"/>
              <a:ext cx="0" cy="625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89720" y="3062520"/>
              <a:ext cx="493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1679760" y="2831760"/>
              <a:ext cx="407520" cy="438120"/>
              <a:chOff x="1679760" y="2831760"/>
              <a:chExt cx="407520" cy="4381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1679760" y="2857320"/>
                <a:ext cx="328320" cy="412560"/>
                <a:chOff x="1679760" y="2857320"/>
                <a:chExt cx="328320" cy="41256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2008080" y="2857320"/>
                  <a:ext cx="0" cy="408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 rot="16200000">
                  <a:off x="1639080" y="2901600"/>
                  <a:ext cx="40824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V="1">
                <a:off x="2081520" y="2831760"/>
                <a:ext cx="0" cy="96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2014920" y="2925720"/>
                <a:ext cx="72360" cy="55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2082960" y="2638440"/>
              <a:ext cx="40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368720" y="2697120"/>
              <a:ext cx="2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240560" y="3062520"/>
              <a:ext cx="455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489040" y="3049560"/>
              <a:ext cx="0" cy="625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1797120" y="828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éalisation du fonctionnement à fréquence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52280" y="1428840"/>
            <a:ext cx="8396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On applique le principe de dualité à partir de la structure dua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Introduction d’un interrupteur auxiliaire en parallèle sur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34040" y="48942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odification de l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5400000">
            <a:off x="5555880" y="4865400"/>
            <a:ext cx="381240" cy="432000"/>
          </a:xfrm>
          <a:custGeom>
            <a:avLst/>
            <a:gdLst>
              <a:gd name="textAreaLeft" fmla="*/ 127080 w 381240"/>
              <a:gd name="textAreaRight" fmla="*/ 326520 w 381240"/>
              <a:gd name="textAreaTop" fmla="*/ 248760 h 432000"/>
              <a:gd name="textAreaBottom" fmla="*/ 3700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43680" y="5448240"/>
            <a:ext cx="4965480" cy="16272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ahoma"/>
              </a:rPr>
              <a:t>Princip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Tahoma"/>
              </a:rPr>
              <a:t>Réaliser une oscillation indépendante d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Tahoma"/>
              </a:rPr>
              <a:t>liée à Ve (=C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Tahoma"/>
              </a:rPr>
              <a:t>Reprendre le principe d’un auxiliaire fonctionnant en mode Z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876240" y="2666880"/>
            <a:ext cx="3416400" cy="4025880"/>
            <a:chOff x="876240" y="2666880"/>
            <a:chExt cx="3416400" cy="4025880"/>
          </a:xfrm>
        </p:grpSpPr>
        <p:sp>
          <p:nvSpPr>
            <p:cNvPr id="1071" name=""/>
            <p:cNvSpPr/>
            <p:nvPr/>
          </p:nvSpPr>
          <p:spPr>
            <a:xfrm>
              <a:off x="1168560" y="2679840"/>
              <a:ext cx="2997000" cy="40129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876240" y="2666880"/>
              <a:ext cx="3416400" cy="38484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784080" y="6181560"/>
            <a:ext cx="405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12720" y="3436920"/>
            <a:ext cx="706680" cy="249120"/>
          </a:xfrm>
          <a:custGeom>
            <a:avLst/>
            <a:gdLst/>
            <a:ahLst/>
            <a:rect l="l" t="t" r="r" b="b"/>
            <a:pathLst>
              <a:path w="430" h="234">
                <a:moveTo>
                  <a:pt x="58" y="215"/>
                </a:moveTo>
                <a:cubicBezTo>
                  <a:pt x="49" y="199"/>
                  <a:pt x="8" y="144"/>
                  <a:pt x="4" y="113"/>
                </a:cubicBezTo>
                <a:cubicBezTo>
                  <a:pt x="0" y="82"/>
                  <a:pt x="15" y="46"/>
                  <a:pt x="34" y="29"/>
                </a:cubicBezTo>
                <a:cubicBezTo>
                  <a:pt x="53" y="12"/>
                  <a:pt x="96" y="3"/>
                  <a:pt x="122" y="10"/>
                </a:cubicBezTo>
                <a:cubicBezTo>
                  <a:pt x="148" y="17"/>
                  <a:pt x="178" y="38"/>
                  <a:pt x="189" y="72"/>
                </a:cubicBezTo>
                <a:cubicBezTo>
                  <a:pt x="200" y="105"/>
                  <a:pt x="199" y="185"/>
                  <a:pt x="189" y="209"/>
                </a:cubicBezTo>
                <a:cubicBezTo>
                  <a:pt x="179" y="233"/>
                  <a:pt x="143" y="234"/>
                  <a:pt x="127" y="216"/>
                </a:cubicBezTo>
                <a:cubicBezTo>
                  <a:pt x="112" y="198"/>
                  <a:pt x="96" y="134"/>
                  <a:pt x="97" y="103"/>
                </a:cubicBezTo>
                <a:cubicBezTo>
                  <a:pt x="97" y="71"/>
                  <a:pt x="109" y="44"/>
                  <a:pt x="132" y="27"/>
                </a:cubicBezTo>
                <a:cubicBezTo>
                  <a:pt x="156" y="10"/>
                  <a:pt x="207" y="0"/>
                  <a:pt x="235" y="3"/>
                </a:cubicBezTo>
                <a:cubicBezTo>
                  <a:pt x="263" y="6"/>
                  <a:pt x="286" y="20"/>
                  <a:pt x="302" y="44"/>
                </a:cubicBezTo>
                <a:cubicBezTo>
                  <a:pt x="317" y="69"/>
                  <a:pt x="327" y="122"/>
                  <a:pt x="327" y="151"/>
                </a:cubicBezTo>
                <a:cubicBezTo>
                  <a:pt x="327" y="180"/>
                  <a:pt x="315" y="206"/>
                  <a:pt x="302" y="216"/>
                </a:cubicBezTo>
                <a:cubicBezTo>
                  <a:pt x="289" y="227"/>
                  <a:pt x="263" y="231"/>
                  <a:pt x="250" y="213"/>
                </a:cubicBezTo>
                <a:cubicBezTo>
                  <a:pt x="238" y="195"/>
                  <a:pt x="225" y="137"/>
                  <a:pt x="225" y="110"/>
                </a:cubicBezTo>
                <a:cubicBezTo>
                  <a:pt x="225" y="83"/>
                  <a:pt x="242" y="66"/>
                  <a:pt x="250" y="51"/>
                </a:cubicBezTo>
                <a:cubicBezTo>
                  <a:pt x="259" y="36"/>
                  <a:pt x="262" y="28"/>
                  <a:pt x="276" y="20"/>
                </a:cubicBezTo>
                <a:cubicBezTo>
                  <a:pt x="290" y="12"/>
                  <a:pt x="315" y="4"/>
                  <a:pt x="333" y="3"/>
                </a:cubicBezTo>
                <a:cubicBezTo>
                  <a:pt x="350" y="2"/>
                  <a:pt x="370" y="3"/>
                  <a:pt x="384" y="13"/>
                </a:cubicBezTo>
                <a:cubicBezTo>
                  <a:pt x="398" y="24"/>
                  <a:pt x="408" y="42"/>
                  <a:pt x="415" y="65"/>
                </a:cubicBezTo>
                <a:cubicBezTo>
                  <a:pt x="421" y="87"/>
                  <a:pt x="430" y="123"/>
                  <a:pt x="425" y="147"/>
                </a:cubicBezTo>
                <a:cubicBezTo>
                  <a:pt x="420" y="172"/>
                  <a:pt x="392" y="199"/>
                  <a:pt x="384" y="2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792000" y="3668760"/>
            <a:ext cx="82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139480" y="3668760"/>
            <a:ext cx="97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17960" y="3656160"/>
            <a:ext cx="0" cy="30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17960" y="4302000"/>
            <a:ext cx="0" cy="112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17960" y="5775480"/>
            <a:ext cx="0" cy="42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3114360" y="4867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63880" y="4645080"/>
            <a:ext cx="509760" cy="442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368960" y="486720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18040" y="4645080"/>
            <a:ext cx="0" cy="4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2341440" y="4867200"/>
            <a:ext cx="77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346480" y="4879800"/>
            <a:ext cx="0" cy="63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62160" y="552456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62160" y="560700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2346480" y="561492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01720" y="4686480"/>
            <a:ext cx="0" cy="150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01720" y="3664080"/>
            <a:ext cx="0" cy="93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5640" y="45975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04880" y="4678200"/>
            <a:ext cx="21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38760" y="486720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2766960" y="5353560"/>
            <a:ext cx="546840" cy="412560"/>
            <a:chOff x="2766960" y="5353560"/>
            <a:chExt cx="546840" cy="412560"/>
          </a:xfrm>
        </p:grpSpPr>
        <p:grpSp>
          <p:nvGrpSpPr>
            <p:cNvPr id="1095" name=""/>
            <p:cNvGrpSpPr/>
            <p:nvPr/>
          </p:nvGrpSpPr>
          <p:grpSpPr>
            <a:xfrm>
              <a:off x="2900880" y="5437800"/>
              <a:ext cx="412920" cy="328320"/>
              <a:chOff x="2900880" y="5437800"/>
              <a:chExt cx="412920" cy="328320"/>
            </a:xfrm>
          </p:grpSpPr>
          <p:sp>
            <p:nvSpPr>
              <p:cNvPr id="1096" name=""/>
              <p:cNvSpPr/>
              <p:nvPr/>
            </p:nvSpPr>
            <p:spPr>
              <a:xfrm>
                <a:off x="2900880" y="543780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05200" y="5438160"/>
                <a:ext cx="408600" cy="32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 flipH="1">
              <a:off x="2766960" y="5357520"/>
              <a:ext cx="14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2893680" y="5353560"/>
              <a:ext cx="92520" cy="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942840" y="429408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768320" y="372096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5600" y="51498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468600" y="5522760"/>
            <a:ext cx="38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043000" y="5238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443400" y="399564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2914560" y="3973320"/>
            <a:ext cx="412560" cy="328320"/>
            <a:chOff x="2914560" y="3973320"/>
            <a:chExt cx="412560" cy="328320"/>
          </a:xfrm>
        </p:grpSpPr>
        <p:sp>
          <p:nvSpPr>
            <p:cNvPr id="1107" name=""/>
            <p:cNvSpPr/>
            <p:nvPr/>
          </p:nvSpPr>
          <p:spPr>
            <a:xfrm>
              <a:off x="2914560" y="430164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918880" y="3972960"/>
              <a:ext cx="40824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2682720" y="513252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98800" y="450864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C6D4-2D69-44F6-87C3-AD3C82A46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à auxiliaire ZC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6120" y="1903320"/>
            <a:ext cx="4365360" cy="2536920"/>
            <a:chOff x="816120" y="1903320"/>
            <a:chExt cx="4365360" cy="2536920"/>
          </a:xfrm>
        </p:grpSpPr>
        <p:sp>
          <p:nvSpPr>
            <p:cNvPr id="1113" name=""/>
            <p:cNvSpPr/>
            <p:nvPr/>
          </p:nvSpPr>
          <p:spPr>
            <a:xfrm flipH="1">
              <a:off x="1101240" y="4429080"/>
              <a:ext cx="407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1122120" y="1916280"/>
              <a:ext cx="233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48080" y="19033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48080" y="2549520"/>
              <a:ext cx="0" cy="10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3444480" y="3114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94000" y="2892600"/>
              <a:ext cx="50976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4699080" y="311472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48160" y="289260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2671560" y="311472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2676600" y="1920600"/>
              <a:ext cx="0" cy="53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492280" y="245124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92280" y="253368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676600" y="2529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31840" y="2933640"/>
              <a:ext cx="0" cy="150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31840" y="191124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16120" y="284472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35000" y="2925720"/>
              <a:ext cx="2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168880" y="3114720"/>
              <a:ext cx="0" cy="13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097080" y="2216160"/>
              <a:ext cx="546840" cy="412560"/>
              <a:chOff x="3097080" y="2216160"/>
              <a:chExt cx="546840" cy="41256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3231000" y="2216160"/>
                <a:ext cx="412920" cy="328320"/>
                <a:chOff x="3231000" y="2216160"/>
                <a:chExt cx="412920" cy="3283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231000" y="254448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3235320" y="2216160"/>
                  <a:ext cx="40860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 flipH="1">
                <a:off x="3097080" y="262476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3223800" y="253908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273320" y="254160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65720" y="339732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73520" y="370692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73480" y="21398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73520" y="2243160"/>
              <a:ext cx="36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6880" y="25160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29280" y="2755800"/>
              <a:ext cx="36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3244680" y="3618000"/>
              <a:ext cx="412560" cy="328320"/>
              <a:chOff x="3244680" y="3618000"/>
              <a:chExt cx="412560" cy="328320"/>
            </a:xfrm>
          </p:grpSpPr>
          <p:sp>
            <p:nvSpPr>
              <p:cNvPr id="1145" name=""/>
              <p:cNvSpPr/>
              <p:nvPr/>
            </p:nvSpPr>
            <p:spPr>
              <a:xfrm>
                <a:off x="3244680" y="36180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249000" y="361800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>
              <a:off x="3435480" y="3933720"/>
              <a:ext cx="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336680" y="3157560"/>
            <a:ext cx="2117520" cy="1256760"/>
            <a:chOff x="1336680" y="3157560"/>
            <a:chExt cx="2117520" cy="1256760"/>
          </a:xfrm>
        </p:grpSpPr>
        <p:sp>
          <p:nvSpPr>
            <p:cNvPr id="1149" name=""/>
            <p:cNvSpPr/>
            <p:nvPr/>
          </p:nvSpPr>
          <p:spPr>
            <a:xfrm>
              <a:off x="2949840" y="36590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1336680" y="3157560"/>
              <a:ext cx="2117520" cy="1256760"/>
              <a:chOff x="1336680" y="3157560"/>
              <a:chExt cx="2117520" cy="1256760"/>
            </a:xfrm>
          </p:grpSpPr>
          <p:sp>
            <p:nvSpPr>
              <p:cNvPr id="1151" name=""/>
              <p:cNvSpPr/>
              <p:nvPr/>
            </p:nvSpPr>
            <p:spPr>
              <a:xfrm>
                <a:off x="1944720" y="3157560"/>
                <a:ext cx="579240" cy="223560"/>
              </a:xfrm>
              <a:custGeom>
                <a:avLst/>
                <a:gdLst/>
                <a:ahLst/>
                <a:rect l="l" t="t" r="r" b="b"/>
                <a:pathLst>
                  <a:path w="430" h="234">
                    <a:moveTo>
                      <a:pt x="58" y="215"/>
                    </a:moveTo>
                    <a:cubicBezTo>
                      <a:pt x="49" y="199"/>
                      <a:pt x="8" y="144"/>
                      <a:pt x="4" y="113"/>
                    </a:cubicBezTo>
                    <a:cubicBezTo>
                      <a:pt x="0" y="82"/>
                      <a:pt x="15" y="46"/>
                      <a:pt x="34" y="29"/>
                    </a:cubicBezTo>
                    <a:cubicBezTo>
                      <a:pt x="53" y="12"/>
                      <a:pt x="96" y="3"/>
                      <a:pt x="122" y="10"/>
                    </a:cubicBezTo>
                    <a:cubicBezTo>
                      <a:pt x="148" y="17"/>
                      <a:pt x="178" y="38"/>
                      <a:pt x="189" y="72"/>
                    </a:cubicBezTo>
                    <a:cubicBezTo>
                      <a:pt x="200" y="105"/>
                      <a:pt x="199" y="185"/>
                      <a:pt x="189" y="209"/>
                    </a:cubicBezTo>
                    <a:cubicBezTo>
                      <a:pt x="179" y="233"/>
                      <a:pt x="143" y="234"/>
                      <a:pt x="127" y="216"/>
                    </a:cubicBezTo>
                    <a:cubicBezTo>
                      <a:pt x="112" y="198"/>
                      <a:pt x="96" y="134"/>
                      <a:pt x="97" y="103"/>
                    </a:cubicBezTo>
                    <a:cubicBezTo>
                      <a:pt x="97" y="71"/>
                      <a:pt x="109" y="44"/>
                      <a:pt x="132" y="27"/>
                    </a:cubicBezTo>
                    <a:cubicBezTo>
                      <a:pt x="156" y="10"/>
                      <a:pt x="207" y="0"/>
                      <a:pt x="235" y="3"/>
                    </a:cubicBezTo>
                    <a:cubicBezTo>
                      <a:pt x="263" y="6"/>
                      <a:pt x="286" y="20"/>
                      <a:pt x="302" y="44"/>
                    </a:cubicBezTo>
                    <a:cubicBezTo>
                      <a:pt x="317" y="69"/>
                      <a:pt x="327" y="122"/>
                      <a:pt x="327" y="151"/>
                    </a:cubicBezTo>
                    <a:cubicBezTo>
                      <a:pt x="327" y="180"/>
                      <a:pt x="315" y="206"/>
                      <a:pt x="302" y="216"/>
                    </a:cubicBezTo>
                    <a:cubicBezTo>
                      <a:pt x="289" y="227"/>
                      <a:pt x="263" y="231"/>
                      <a:pt x="250" y="213"/>
                    </a:cubicBezTo>
                    <a:cubicBezTo>
                      <a:pt x="238" y="195"/>
                      <a:pt x="225" y="137"/>
                      <a:pt x="225" y="110"/>
                    </a:cubicBezTo>
                    <a:cubicBezTo>
                      <a:pt x="225" y="83"/>
                      <a:pt x="242" y="66"/>
                      <a:pt x="250" y="51"/>
                    </a:cubicBezTo>
                    <a:cubicBezTo>
                      <a:pt x="259" y="36"/>
                      <a:pt x="262" y="28"/>
                      <a:pt x="276" y="20"/>
                    </a:cubicBezTo>
                    <a:cubicBezTo>
                      <a:pt x="290" y="12"/>
                      <a:pt x="315" y="4"/>
                      <a:pt x="333" y="3"/>
                    </a:cubicBezTo>
                    <a:cubicBezTo>
                      <a:pt x="350" y="2"/>
                      <a:pt x="370" y="3"/>
                      <a:pt x="384" y="13"/>
                    </a:cubicBezTo>
                    <a:cubicBezTo>
                      <a:pt x="398" y="24"/>
                      <a:pt x="408" y="42"/>
                      <a:pt x="415" y="65"/>
                    </a:cubicBezTo>
                    <a:cubicBezTo>
                      <a:pt x="421" y="87"/>
                      <a:pt x="430" y="123"/>
                      <a:pt x="425" y="147"/>
                    </a:cubicBezTo>
                    <a:cubicBezTo>
                      <a:pt x="420" y="172"/>
                      <a:pt x="392" y="199"/>
                      <a:pt x="384" y="213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784160" y="3349440"/>
                <a:ext cx="0" cy="653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111400" y="341604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792080" y="4089240"/>
                <a:ext cx="0" cy="325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476360" y="4000320"/>
                <a:ext cx="6490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695240" y="4081320"/>
                <a:ext cx="211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2707920" y="3177000"/>
                <a:ext cx="412560" cy="546480"/>
                <a:chOff x="2707920" y="3177000"/>
                <a:chExt cx="412560" cy="54648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2707920" y="3177000"/>
                  <a:ext cx="328320" cy="412560"/>
                  <a:chOff x="2707920" y="3177000"/>
                  <a:chExt cx="328320" cy="4125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 flipV="1">
                    <a:off x="3036240" y="3181320"/>
                    <a:ext cx="0" cy="408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 rot="16200000">
                    <a:off x="2667600" y="3216960"/>
                    <a:ext cx="408240" cy="327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"/>
                <p:cNvSpPr/>
                <p:nvPr/>
              </p:nvSpPr>
              <p:spPr>
                <a:xfrm>
                  <a:off x="3116520" y="3583080"/>
                  <a:ext cx="0" cy="1404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030840" y="3504600"/>
                  <a:ext cx="89640" cy="925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 flipH="1">
                <a:off x="3009960" y="3381120"/>
                <a:ext cx="444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463480" y="3381120"/>
                <a:ext cx="2286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1777680" y="3368520"/>
                <a:ext cx="2286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36680" y="3709800"/>
                <a:ext cx="417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au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7" name=""/>
          <p:cNvSpPr/>
          <p:nvPr/>
        </p:nvSpPr>
        <p:spPr>
          <a:xfrm>
            <a:off x="5423040" y="1700280"/>
            <a:ext cx="4314600" cy="14508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’interrupteur auxiliaire assure le blocage de K2, puis lors de la phase d’oscillation, le passage par 0 de V</a:t>
            </a: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K1 </a:t>
            </a: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et donc la commutation d’amorç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81160" y="5129280"/>
            <a:ext cx="8112240" cy="178884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remarque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a croissance de la tension VK1 est dépendante de Is</a:t>
            </a:r>
            <a:r>
              <a:rPr b="0" lang="en-US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imit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Ka fonctionne en Z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a tension Vaux conditionne l’amplitude de l’oscillation qui assure la commutation d’amorçage de 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09040" y="4127400"/>
            <a:ext cx="1625400" cy="52020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Analyse du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90000" y="1049400"/>
            <a:ext cx="88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tructure fonctionnelle :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à partir de la structure ZVS inver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4865-6246-4584-AA63-8D258B6C2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à auxiliaire ZC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974240" y="105876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tructure fonctionnelle :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source d’entrée à point mili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3387600" y="2130480"/>
            <a:ext cx="233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3384720" y="4646520"/>
            <a:ext cx="403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21480" y="211932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21480" y="2765520"/>
            <a:ext cx="0" cy="11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21480" y="4238640"/>
            <a:ext cx="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5718240" y="3330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467400" y="3108240"/>
            <a:ext cx="509760" cy="44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972480" y="3330720"/>
            <a:ext cx="48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721560" y="3108240"/>
            <a:ext cx="0" cy="4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957560" y="3330720"/>
            <a:ext cx="77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0000" y="2136600"/>
            <a:ext cx="0" cy="63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65680" y="278136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65680" y="286380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950000" y="2871720"/>
            <a:ext cx="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05240" y="4114800"/>
            <a:ext cx="0" cy="5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05240" y="2127240"/>
            <a:ext cx="0" cy="55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089160" y="266688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308400" y="2747880"/>
            <a:ext cx="21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442280" y="333072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5383080" y="2431800"/>
            <a:ext cx="546840" cy="412560"/>
            <a:chOff x="5383080" y="2431800"/>
            <a:chExt cx="546840" cy="412560"/>
          </a:xfrm>
        </p:grpSpPr>
        <p:grpSp>
          <p:nvGrpSpPr>
            <p:cNvPr id="1194" name=""/>
            <p:cNvGrpSpPr/>
            <p:nvPr/>
          </p:nvGrpSpPr>
          <p:grpSpPr>
            <a:xfrm>
              <a:off x="5517000" y="2431800"/>
              <a:ext cx="412920" cy="328320"/>
              <a:chOff x="5517000" y="2431800"/>
              <a:chExt cx="412920" cy="328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5517000" y="276012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5521320" y="2431440"/>
                <a:ext cx="408600" cy="32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5383080" y="2840400"/>
              <a:ext cx="14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5509800" y="2754720"/>
              <a:ext cx="92520" cy="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3546360" y="240192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22600" y="368316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638760" y="361332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072120" y="3986280"/>
            <a:ext cx="38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46520" y="24321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45120" y="245916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5518080" y="3897360"/>
            <a:ext cx="412560" cy="328320"/>
            <a:chOff x="5518080" y="3897360"/>
            <a:chExt cx="412560" cy="328320"/>
          </a:xfrm>
        </p:grpSpPr>
        <p:sp>
          <p:nvSpPr>
            <p:cNvPr id="1206" name=""/>
            <p:cNvSpPr/>
            <p:nvPr/>
          </p:nvSpPr>
          <p:spPr>
            <a:xfrm>
              <a:off x="5518080" y="389736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522400" y="3897360"/>
              <a:ext cx="40824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5210280" y="27068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02320" y="297180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089160" y="4051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308400" y="4132440"/>
            <a:ext cx="21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05240" y="2743200"/>
            <a:ext cx="0" cy="13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571920" y="4218120"/>
            <a:ext cx="54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3403080" y="3044880"/>
            <a:ext cx="2315880" cy="775800"/>
            <a:chOff x="3403080" y="3044880"/>
            <a:chExt cx="2315880" cy="775800"/>
          </a:xfrm>
        </p:grpSpPr>
        <p:sp>
          <p:nvSpPr>
            <p:cNvPr id="1215" name=""/>
            <p:cNvSpPr/>
            <p:nvPr/>
          </p:nvSpPr>
          <p:spPr>
            <a:xfrm flipH="1">
              <a:off x="3544560" y="304488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3403080" y="3138480"/>
              <a:ext cx="749520" cy="682200"/>
              <a:chOff x="3403080" y="3138480"/>
              <a:chExt cx="749520" cy="68220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3403080" y="3382560"/>
                <a:ext cx="672840" cy="438120"/>
                <a:chOff x="3403080" y="3382560"/>
                <a:chExt cx="672840" cy="438120"/>
              </a:xfrm>
            </p:grpSpPr>
            <p:sp>
              <p:nvSpPr>
                <p:cNvPr id="1218" name=""/>
                <p:cNvSpPr/>
                <p:nvPr/>
              </p:nvSpPr>
              <p:spPr>
                <a:xfrm flipH="1">
                  <a:off x="3930120" y="3612600"/>
                  <a:ext cx="1458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9" name=""/>
                <p:cNvGrpSpPr/>
                <p:nvPr/>
              </p:nvGrpSpPr>
              <p:grpSpPr>
                <a:xfrm>
                  <a:off x="3606480" y="3408120"/>
                  <a:ext cx="328320" cy="412560"/>
                  <a:chOff x="3606480" y="3408120"/>
                  <a:chExt cx="328320" cy="41256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3934800" y="3408120"/>
                    <a:ext cx="0" cy="40824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 flipV="1" rot="16200000">
                    <a:off x="3566520" y="3452400"/>
                    <a:ext cx="40824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"/>
                <p:cNvSpPr/>
                <p:nvPr/>
              </p:nvSpPr>
              <p:spPr>
                <a:xfrm flipH="1">
                  <a:off x="3403080" y="3617640"/>
                  <a:ext cx="2062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V="1">
                  <a:off x="4008240" y="3382560"/>
                  <a:ext cx="0" cy="968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3941640" y="3476160"/>
                  <a:ext cx="72720" cy="55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H="1">
                <a:off x="3919320" y="313848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4382640" y="3386160"/>
              <a:ext cx="70668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5046120" y="3605040"/>
              <a:ext cx="67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4055760" y="3605040"/>
              <a:ext cx="419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800280" y="4849920"/>
            <a:ext cx="8111880" cy="16488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remarque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a croissance de la tension VK1 est dépendante de Is </a:t>
            </a:r>
            <a:r>
              <a:rPr b="0" lang="en-US" sz="2000" spc="-1" strike="noStrike">
                <a:solidFill>
                  <a:srgbClr val="99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990099"/>
                </a:solidFill>
                <a:latin typeface="Tahoma"/>
              </a:rPr>
              <a:t>limit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a contrainte de courant dans Ka e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5398920" y="5505480"/>
                <a:ext cx="1632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au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4D24-558C-4F3F-BB3C-44BC288D0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VS à fréquence fix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37000" y="5111640"/>
            <a:ext cx="3921120" cy="145116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Le second interrupteur auxiliaire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a</a:t>
            </a: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 assure le passage à Ve de V</a:t>
            </a:r>
            <a:r>
              <a:rPr b="0" lang="en-US" sz="1200" spc="-1" strike="noStrike">
                <a:solidFill>
                  <a:srgbClr val="4d4d4d"/>
                </a:solidFill>
                <a:latin typeface="Tahoma"/>
              </a:rPr>
              <a:t>K1 </a:t>
            </a:r>
            <a:r>
              <a:rPr b="0" lang="en-US" sz="1600" spc="-1" strike="noStrike">
                <a:solidFill>
                  <a:srgbClr val="4d4d4d"/>
                </a:solidFill>
                <a:latin typeface="Tahoma"/>
              </a:rPr>
              <a:t>et donc la commutation de blocage par un régime oscillant indépendant d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rche à vid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38960" y="10587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ouvell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47440" y="2016000"/>
            <a:ext cx="233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44200" y="4532400"/>
            <a:ext cx="404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181320" y="200484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181320" y="2651040"/>
            <a:ext cx="0" cy="112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81320" y="4124160"/>
            <a:ext cx="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177720" y="32162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927600" y="2994120"/>
            <a:ext cx="509400" cy="442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431960" y="321624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81400" y="2994120"/>
            <a:ext cx="0" cy="4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404800" y="3216240"/>
            <a:ext cx="77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09840" y="2022480"/>
            <a:ext cx="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225520" y="266688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225520" y="274968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09840" y="2757600"/>
            <a:ext cx="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65080" y="4000680"/>
            <a:ext cx="0" cy="54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65080" y="2013120"/>
            <a:ext cx="0" cy="55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49360" y="25527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8240" y="2633760"/>
            <a:ext cx="21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02120" y="321624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2843280" y="2317680"/>
            <a:ext cx="546840" cy="412560"/>
            <a:chOff x="2843280" y="2317680"/>
            <a:chExt cx="546840" cy="412560"/>
          </a:xfrm>
        </p:grpSpPr>
        <p:grpSp>
          <p:nvGrpSpPr>
            <p:cNvPr id="1255" name=""/>
            <p:cNvGrpSpPr/>
            <p:nvPr/>
          </p:nvGrpSpPr>
          <p:grpSpPr>
            <a:xfrm>
              <a:off x="2977200" y="2317680"/>
              <a:ext cx="412920" cy="328320"/>
              <a:chOff x="2977200" y="2317680"/>
              <a:chExt cx="412920" cy="328320"/>
            </a:xfrm>
          </p:grpSpPr>
          <p:sp>
            <p:nvSpPr>
              <p:cNvPr id="1256" name=""/>
              <p:cNvSpPr/>
              <p:nvPr/>
            </p:nvSpPr>
            <p:spPr>
              <a:xfrm>
                <a:off x="2977200" y="264600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2981520" y="2317680"/>
                <a:ext cx="40860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 flipH="1">
              <a:off x="2843280" y="2726280"/>
              <a:ext cx="14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2970000" y="2640600"/>
              <a:ext cx="92520" cy="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1006560" y="2287440"/>
            <a:ext cx="54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882800" y="356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98960" y="34988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532320" y="3871800"/>
            <a:ext cx="3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06720" y="2317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604960" y="2344680"/>
            <a:ext cx="3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2978280" y="3782880"/>
            <a:ext cx="412200" cy="328320"/>
            <a:chOff x="2978280" y="3782880"/>
            <a:chExt cx="412200" cy="328320"/>
          </a:xfrm>
        </p:grpSpPr>
        <p:sp>
          <p:nvSpPr>
            <p:cNvPr id="1267" name=""/>
            <p:cNvSpPr/>
            <p:nvPr/>
          </p:nvSpPr>
          <p:spPr>
            <a:xfrm>
              <a:off x="2978280" y="3782880"/>
              <a:ext cx="40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82600" y="3782880"/>
              <a:ext cx="40788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2670120" y="25923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2857680"/>
            <a:ext cx="36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49360" y="39369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68240" y="4017960"/>
            <a:ext cx="21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65080" y="2629080"/>
            <a:ext cx="0" cy="130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031760" y="410364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863280" y="3268440"/>
            <a:ext cx="672840" cy="438120"/>
            <a:chOff x="863280" y="3268440"/>
            <a:chExt cx="672840" cy="438120"/>
          </a:xfrm>
        </p:grpSpPr>
        <p:sp>
          <p:nvSpPr>
            <p:cNvPr id="1276" name=""/>
            <p:cNvSpPr/>
            <p:nvPr/>
          </p:nvSpPr>
          <p:spPr>
            <a:xfrm flipH="1">
              <a:off x="1390320" y="349848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1066680" y="3294000"/>
              <a:ext cx="328320" cy="412560"/>
              <a:chOff x="1066680" y="3294000"/>
              <a:chExt cx="328320" cy="412560"/>
            </a:xfrm>
          </p:grpSpPr>
          <p:sp>
            <p:nvSpPr>
              <p:cNvPr id="1278" name=""/>
              <p:cNvSpPr/>
              <p:nvPr/>
            </p:nvSpPr>
            <p:spPr>
              <a:xfrm>
                <a:off x="1395000" y="3294000"/>
                <a:ext cx="0" cy="40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 rot="16200000">
                <a:off x="1026720" y="333828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 flipH="1">
              <a:off x="863280" y="3503520"/>
              <a:ext cx="20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1468440" y="3268440"/>
              <a:ext cx="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401840" y="3362040"/>
              <a:ext cx="72720" cy="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 flipH="1">
            <a:off x="1382760" y="3024360"/>
            <a:ext cx="2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843200" y="3271680"/>
            <a:ext cx="706320" cy="249480"/>
          </a:xfrm>
          <a:custGeom>
            <a:avLst/>
            <a:gdLst/>
            <a:ahLst/>
            <a:rect l="l" t="t" r="r" b="b"/>
            <a:pathLst>
              <a:path w="430" h="234">
                <a:moveTo>
                  <a:pt x="58" y="215"/>
                </a:moveTo>
                <a:cubicBezTo>
                  <a:pt x="49" y="199"/>
                  <a:pt x="8" y="144"/>
                  <a:pt x="4" y="113"/>
                </a:cubicBezTo>
                <a:cubicBezTo>
                  <a:pt x="0" y="82"/>
                  <a:pt x="15" y="46"/>
                  <a:pt x="34" y="29"/>
                </a:cubicBezTo>
                <a:cubicBezTo>
                  <a:pt x="53" y="12"/>
                  <a:pt x="96" y="3"/>
                  <a:pt x="122" y="10"/>
                </a:cubicBezTo>
                <a:cubicBezTo>
                  <a:pt x="148" y="17"/>
                  <a:pt x="178" y="38"/>
                  <a:pt x="189" y="72"/>
                </a:cubicBezTo>
                <a:cubicBezTo>
                  <a:pt x="200" y="105"/>
                  <a:pt x="199" y="185"/>
                  <a:pt x="189" y="209"/>
                </a:cubicBezTo>
                <a:cubicBezTo>
                  <a:pt x="179" y="233"/>
                  <a:pt x="143" y="234"/>
                  <a:pt x="127" y="216"/>
                </a:cubicBezTo>
                <a:cubicBezTo>
                  <a:pt x="112" y="198"/>
                  <a:pt x="96" y="134"/>
                  <a:pt x="97" y="103"/>
                </a:cubicBezTo>
                <a:cubicBezTo>
                  <a:pt x="97" y="71"/>
                  <a:pt x="109" y="44"/>
                  <a:pt x="132" y="27"/>
                </a:cubicBezTo>
                <a:cubicBezTo>
                  <a:pt x="156" y="10"/>
                  <a:pt x="207" y="0"/>
                  <a:pt x="235" y="3"/>
                </a:cubicBezTo>
                <a:cubicBezTo>
                  <a:pt x="263" y="6"/>
                  <a:pt x="286" y="20"/>
                  <a:pt x="302" y="44"/>
                </a:cubicBezTo>
                <a:cubicBezTo>
                  <a:pt x="317" y="69"/>
                  <a:pt x="327" y="122"/>
                  <a:pt x="327" y="151"/>
                </a:cubicBezTo>
                <a:cubicBezTo>
                  <a:pt x="327" y="180"/>
                  <a:pt x="315" y="206"/>
                  <a:pt x="302" y="216"/>
                </a:cubicBezTo>
                <a:cubicBezTo>
                  <a:pt x="289" y="227"/>
                  <a:pt x="263" y="231"/>
                  <a:pt x="250" y="213"/>
                </a:cubicBezTo>
                <a:cubicBezTo>
                  <a:pt x="238" y="195"/>
                  <a:pt x="225" y="137"/>
                  <a:pt x="225" y="110"/>
                </a:cubicBezTo>
                <a:cubicBezTo>
                  <a:pt x="225" y="83"/>
                  <a:pt x="242" y="66"/>
                  <a:pt x="250" y="51"/>
                </a:cubicBezTo>
                <a:cubicBezTo>
                  <a:pt x="259" y="36"/>
                  <a:pt x="262" y="28"/>
                  <a:pt x="276" y="20"/>
                </a:cubicBezTo>
                <a:cubicBezTo>
                  <a:pt x="290" y="12"/>
                  <a:pt x="315" y="4"/>
                  <a:pt x="333" y="3"/>
                </a:cubicBezTo>
                <a:cubicBezTo>
                  <a:pt x="350" y="2"/>
                  <a:pt x="370" y="3"/>
                  <a:pt x="384" y="13"/>
                </a:cubicBezTo>
                <a:cubicBezTo>
                  <a:pt x="398" y="24"/>
                  <a:pt x="408" y="42"/>
                  <a:pt x="415" y="65"/>
                </a:cubicBezTo>
                <a:cubicBezTo>
                  <a:pt x="421" y="87"/>
                  <a:pt x="430" y="123"/>
                  <a:pt x="425" y="147"/>
                </a:cubicBezTo>
                <a:cubicBezTo>
                  <a:pt x="420" y="172"/>
                  <a:pt x="392" y="199"/>
                  <a:pt x="384" y="2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506680" y="349092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1515960" y="349092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800280" y="2529000"/>
            <a:ext cx="1193400" cy="981000"/>
            <a:chOff x="800280" y="2529000"/>
            <a:chExt cx="1193400" cy="981000"/>
          </a:xfrm>
        </p:grpSpPr>
        <p:sp>
          <p:nvSpPr>
            <p:cNvPr id="1288" name=""/>
            <p:cNvSpPr/>
            <p:nvPr/>
          </p:nvSpPr>
          <p:spPr>
            <a:xfrm flipV="1">
              <a:off x="942840" y="2771280"/>
              <a:ext cx="0" cy="96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936360" y="2865600"/>
              <a:ext cx="73080" cy="5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800280" y="2529000"/>
              <a:ext cx="1193400" cy="981000"/>
              <a:chOff x="800280" y="2529000"/>
              <a:chExt cx="1193400" cy="981000"/>
            </a:xfrm>
          </p:grpSpPr>
          <p:sp>
            <p:nvSpPr>
              <p:cNvPr id="1291" name=""/>
              <p:cNvSpPr/>
              <p:nvPr/>
            </p:nvSpPr>
            <p:spPr>
              <a:xfrm flipH="1">
                <a:off x="1588320" y="2638440"/>
                <a:ext cx="405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ahoma"/>
                  </a:rPr>
                  <a:t>K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00280" y="2529000"/>
                <a:ext cx="23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3" name=""/>
              <p:cNvGrpSpPr/>
              <p:nvPr/>
            </p:nvGrpSpPr>
            <p:grpSpPr>
              <a:xfrm>
                <a:off x="874800" y="2797200"/>
                <a:ext cx="774720" cy="712800"/>
                <a:chOff x="874800" y="2797200"/>
                <a:chExt cx="774720" cy="71280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874800" y="3002040"/>
                  <a:ext cx="1458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1014480" y="2797200"/>
                  <a:ext cx="328320" cy="412200"/>
                  <a:chOff x="1014480" y="2797200"/>
                  <a:chExt cx="328320" cy="412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1014480" y="2797200"/>
                    <a:ext cx="0" cy="40788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 rot="5400000">
                    <a:off x="974520" y="2840760"/>
                    <a:ext cx="40788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8" name=""/>
                <p:cNvSpPr/>
                <p:nvPr/>
              </p:nvSpPr>
              <p:spPr>
                <a:xfrm>
                  <a:off x="1341360" y="3006720"/>
                  <a:ext cx="3081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1649520" y="3014640"/>
                  <a:ext cx="0" cy="4953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0" name=""/>
          <p:cNvSpPr/>
          <p:nvPr/>
        </p:nvSpPr>
        <p:spPr>
          <a:xfrm>
            <a:off x="4076640" y="1058760"/>
            <a:ext cx="4859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amélioration du blocage de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89760" y="2930400"/>
            <a:ext cx="1625760" cy="52020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Analyse du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40D6-16EA-4229-9758-AA59780FF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Structure ARC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717720" y="3146400"/>
            <a:ext cx="4079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3720600" y="5662440"/>
            <a:ext cx="5821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810560" y="3135240"/>
            <a:ext cx="144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810560" y="3781440"/>
            <a:ext cx="1440" cy="11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10560" y="5254560"/>
            <a:ext cx="1440" cy="4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7806960" y="4346640"/>
            <a:ext cx="762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556480" y="4124160"/>
            <a:ext cx="509760" cy="44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9061560" y="4346640"/>
            <a:ext cx="482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810640" y="4124160"/>
            <a:ext cx="1440" cy="4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7034040" y="4346640"/>
            <a:ext cx="773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039080" y="3152880"/>
            <a:ext cx="1440" cy="63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54760" y="3797280"/>
            <a:ext cx="368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54760" y="3879720"/>
            <a:ext cx="368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039080" y="3887640"/>
            <a:ext cx="144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903920" y="5130720"/>
            <a:ext cx="1440" cy="5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03920" y="3143160"/>
            <a:ext cx="14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9531360" y="4346640"/>
            <a:ext cx="1440" cy="132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7472520" y="3447720"/>
            <a:ext cx="546840" cy="412560"/>
            <a:chOff x="7472520" y="3447720"/>
            <a:chExt cx="546840" cy="412560"/>
          </a:xfrm>
        </p:grpSpPr>
        <p:grpSp>
          <p:nvGrpSpPr>
            <p:cNvPr id="1321" name=""/>
            <p:cNvGrpSpPr/>
            <p:nvPr/>
          </p:nvGrpSpPr>
          <p:grpSpPr>
            <a:xfrm>
              <a:off x="7606440" y="3447720"/>
              <a:ext cx="412920" cy="328320"/>
              <a:chOff x="7606440" y="3447720"/>
              <a:chExt cx="412920" cy="328320"/>
            </a:xfrm>
          </p:grpSpPr>
          <p:sp>
            <p:nvSpPr>
              <p:cNvPr id="1322" name=""/>
              <p:cNvSpPr/>
              <p:nvPr/>
            </p:nvSpPr>
            <p:spPr>
              <a:xfrm>
                <a:off x="7606440" y="377604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7610760" y="3447360"/>
                <a:ext cx="408600" cy="327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"/>
            <p:cNvSpPr/>
            <p:nvPr/>
          </p:nvSpPr>
          <p:spPr>
            <a:xfrm flipH="1">
              <a:off x="7472520" y="3856320"/>
              <a:ext cx="14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7599240" y="3770640"/>
              <a:ext cx="92520" cy="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3292560" y="3979800"/>
            <a:ext cx="34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21280" y="46990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9118440" y="4076640"/>
            <a:ext cx="2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894800" y="5392800"/>
            <a:ext cx="3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764400" y="3543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920000" y="3179880"/>
            <a:ext cx="3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7607160" y="4913280"/>
            <a:ext cx="412560" cy="328320"/>
            <a:chOff x="7607160" y="4913280"/>
            <a:chExt cx="412560" cy="328320"/>
          </a:xfrm>
        </p:grpSpPr>
        <p:sp>
          <p:nvSpPr>
            <p:cNvPr id="1333" name=""/>
            <p:cNvSpPr/>
            <p:nvPr/>
          </p:nvSpPr>
          <p:spPr>
            <a:xfrm>
              <a:off x="7607160" y="491328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11480" y="4913280"/>
              <a:ext cx="40824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7299360" y="3722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591400" y="3987720"/>
            <a:ext cx="368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05200" y="5148360"/>
            <a:ext cx="376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903920" y="3616200"/>
            <a:ext cx="1440" cy="144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84640" y="4500720"/>
            <a:ext cx="54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911480" y="4389120"/>
            <a:ext cx="672840" cy="438120"/>
            <a:chOff x="4911480" y="4389120"/>
            <a:chExt cx="672840" cy="438120"/>
          </a:xfrm>
        </p:grpSpPr>
        <p:sp>
          <p:nvSpPr>
            <p:cNvPr id="1341" name=""/>
            <p:cNvSpPr/>
            <p:nvPr/>
          </p:nvSpPr>
          <p:spPr>
            <a:xfrm flipH="1">
              <a:off x="5438520" y="461916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5114880" y="4414680"/>
              <a:ext cx="328320" cy="412560"/>
              <a:chOff x="5114880" y="4414680"/>
              <a:chExt cx="328320" cy="412560"/>
            </a:xfrm>
          </p:grpSpPr>
          <p:sp>
            <p:nvSpPr>
              <p:cNvPr id="1343" name=""/>
              <p:cNvSpPr/>
              <p:nvPr/>
            </p:nvSpPr>
            <p:spPr>
              <a:xfrm>
                <a:off x="5443200" y="4414680"/>
                <a:ext cx="0" cy="40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 flipV="1" rot="16200000">
                <a:off x="5074920" y="445896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 flipH="1">
              <a:off x="4911480" y="4624200"/>
              <a:ext cx="20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5516640" y="4389120"/>
              <a:ext cx="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5450040" y="4482720"/>
              <a:ext cx="72720" cy="5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 flipH="1">
            <a:off x="5421240" y="4154400"/>
            <a:ext cx="2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881680" y="4402080"/>
            <a:ext cx="706320" cy="249120"/>
          </a:xfrm>
          <a:custGeom>
            <a:avLst/>
            <a:gdLst/>
            <a:ahLst/>
            <a:rect l="l" t="t" r="r" b="b"/>
            <a:pathLst>
              <a:path w="430" h="234">
                <a:moveTo>
                  <a:pt x="58" y="215"/>
                </a:moveTo>
                <a:cubicBezTo>
                  <a:pt x="49" y="199"/>
                  <a:pt x="8" y="144"/>
                  <a:pt x="4" y="113"/>
                </a:cubicBezTo>
                <a:cubicBezTo>
                  <a:pt x="0" y="82"/>
                  <a:pt x="15" y="46"/>
                  <a:pt x="34" y="29"/>
                </a:cubicBezTo>
                <a:cubicBezTo>
                  <a:pt x="53" y="12"/>
                  <a:pt x="96" y="3"/>
                  <a:pt x="122" y="10"/>
                </a:cubicBezTo>
                <a:cubicBezTo>
                  <a:pt x="148" y="17"/>
                  <a:pt x="178" y="38"/>
                  <a:pt x="189" y="72"/>
                </a:cubicBezTo>
                <a:cubicBezTo>
                  <a:pt x="200" y="105"/>
                  <a:pt x="199" y="185"/>
                  <a:pt x="189" y="209"/>
                </a:cubicBezTo>
                <a:cubicBezTo>
                  <a:pt x="179" y="233"/>
                  <a:pt x="143" y="234"/>
                  <a:pt x="127" y="216"/>
                </a:cubicBezTo>
                <a:cubicBezTo>
                  <a:pt x="112" y="198"/>
                  <a:pt x="96" y="134"/>
                  <a:pt x="97" y="103"/>
                </a:cubicBezTo>
                <a:cubicBezTo>
                  <a:pt x="97" y="71"/>
                  <a:pt x="109" y="44"/>
                  <a:pt x="132" y="27"/>
                </a:cubicBezTo>
                <a:cubicBezTo>
                  <a:pt x="156" y="10"/>
                  <a:pt x="207" y="0"/>
                  <a:pt x="235" y="3"/>
                </a:cubicBezTo>
                <a:cubicBezTo>
                  <a:pt x="263" y="6"/>
                  <a:pt x="286" y="20"/>
                  <a:pt x="302" y="44"/>
                </a:cubicBezTo>
                <a:cubicBezTo>
                  <a:pt x="317" y="69"/>
                  <a:pt x="327" y="122"/>
                  <a:pt x="327" y="151"/>
                </a:cubicBezTo>
                <a:cubicBezTo>
                  <a:pt x="327" y="180"/>
                  <a:pt x="315" y="206"/>
                  <a:pt x="302" y="216"/>
                </a:cubicBezTo>
                <a:cubicBezTo>
                  <a:pt x="289" y="227"/>
                  <a:pt x="263" y="231"/>
                  <a:pt x="250" y="213"/>
                </a:cubicBezTo>
                <a:cubicBezTo>
                  <a:pt x="238" y="195"/>
                  <a:pt x="225" y="137"/>
                  <a:pt x="225" y="110"/>
                </a:cubicBezTo>
                <a:cubicBezTo>
                  <a:pt x="225" y="83"/>
                  <a:pt x="242" y="66"/>
                  <a:pt x="250" y="51"/>
                </a:cubicBezTo>
                <a:cubicBezTo>
                  <a:pt x="259" y="36"/>
                  <a:pt x="262" y="28"/>
                  <a:pt x="276" y="20"/>
                </a:cubicBezTo>
                <a:cubicBezTo>
                  <a:pt x="290" y="12"/>
                  <a:pt x="315" y="4"/>
                  <a:pt x="333" y="3"/>
                </a:cubicBezTo>
                <a:cubicBezTo>
                  <a:pt x="350" y="2"/>
                  <a:pt x="370" y="3"/>
                  <a:pt x="384" y="13"/>
                </a:cubicBezTo>
                <a:cubicBezTo>
                  <a:pt x="398" y="24"/>
                  <a:pt x="408" y="42"/>
                  <a:pt x="415" y="65"/>
                </a:cubicBezTo>
                <a:cubicBezTo>
                  <a:pt x="421" y="87"/>
                  <a:pt x="430" y="123"/>
                  <a:pt x="425" y="147"/>
                </a:cubicBezTo>
                <a:cubicBezTo>
                  <a:pt x="420" y="172"/>
                  <a:pt x="392" y="199"/>
                  <a:pt x="384" y="2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6525720" y="4621320"/>
            <a:ext cx="1282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5554800" y="4621320"/>
            <a:ext cx="419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 flipV="1">
            <a:off x="5086440" y="3901680"/>
            <a:ext cx="1440" cy="9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5079600" y="3995280"/>
            <a:ext cx="73080" cy="5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5579280" y="370188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057640" y="3659040"/>
            <a:ext cx="2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13280" y="4132440"/>
            <a:ext cx="25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5157720" y="3927600"/>
            <a:ext cx="328320" cy="412200"/>
            <a:chOff x="5157720" y="3927600"/>
            <a:chExt cx="328320" cy="412200"/>
          </a:xfrm>
        </p:grpSpPr>
        <p:sp>
          <p:nvSpPr>
            <p:cNvPr id="1358" name=""/>
            <p:cNvSpPr/>
            <p:nvPr/>
          </p:nvSpPr>
          <p:spPr>
            <a:xfrm>
              <a:off x="5157720" y="3927600"/>
              <a:ext cx="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 rot="5400000">
              <a:off x="5117760" y="3971160"/>
              <a:ext cx="40788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5484960" y="4137120"/>
            <a:ext cx="307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792760" y="4145040"/>
            <a:ext cx="1440" cy="49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381480" y="4292640"/>
            <a:ext cx="649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600360" y="4373640"/>
            <a:ext cx="21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722760" y="3143160"/>
            <a:ext cx="144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722760" y="4375080"/>
            <a:ext cx="1440" cy="128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705200" y="5072040"/>
            <a:ext cx="376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05200" y="3618000"/>
            <a:ext cx="376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05200" y="3548160"/>
            <a:ext cx="376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352760" y="4743360"/>
            <a:ext cx="180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6764400" y="3143160"/>
            <a:ext cx="2223720" cy="2513160"/>
            <a:chOff x="6764400" y="3143160"/>
            <a:chExt cx="2223720" cy="2513160"/>
          </a:xfrm>
        </p:grpSpPr>
        <p:sp>
          <p:nvSpPr>
            <p:cNvPr id="1371" name=""/>
            <p:cNvSpPr/>
            <p:nvPr/>
          </p:nvSpPr>
          <p:spPr>
            <a:xfrm>
              <a:off x="8353440" y="3143160"/>
              <a:ext cx="0" cy="290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2" name=""/>
            <p:cNvGrpSpPr/>
            <p:nvPr/>
          </p:nvGrpSpPr>
          <p:grpSpPr>
            <a:xfrm>
              <a:off x="6764400" y="3146400"/>
              <a:ext cx="2223720" cy="2509920"/>
              <a:chOff x="6764400" y="3146400"/>
              <a:chExt cx="2223720" cy="2509920"/>
            </a:xfrm>
          </p:grpSpPr>
          <p:sp>
            <p:nvSpPr>
              <p:cNvPr id="1373" name=""/>
              <p:cNvSpPr/>
              <p:nvPr/>
            </p:nvSpPr>
            <p:spPr>
              <a:xfrm flipH="1">
                <a:off x="8619840" y="4701960"/>
                <a:ext cx="368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39080" y="4324320"/>
                <a:ext cx="0" cy="755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54760" y="5092560"/>
                <a:ext cx="3682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54760" y="5175360"/>
                <a:ext cx="3682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039080" y="5183280"/>
                <a:ext cx="0" cy="469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764400" y="483876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cc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353440" y="3778200"/>
                <a:ext cx="0" cy="549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8150040" y="3436920"/>
                <a:ext cx="412560" cy="328320"/>
                <a:chOff x="8150040" y="3436920"/>
                <a:chExt cx="412560" cy="3283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8150040" y="3436920"/>
                  <a:ext cx="408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154360" y="3436920"/>
                  <a:ext cx="40824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8362800" y="4335480"/>
                <a:ext cx="0" cy="5680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8024760" y="4914720"/>
                <a:ext cx="546840" cy="412560"/>
                <a:chOff x="8024760" y="4914720"/>
                <a:chExt cx="546840" cy="412560"/>
              </a:xfrm>
            </p:grpSpPr>
            <p:grpSp>
              <p:nvGrpSpPr>
                <p:cNvPr id="1385" name=""/>
                <p:cNvGrpSpPr/>
                <p:nvPr/>
              </p:nvGrpSpPr>
              <p:grpSpPr>
                <a:xfrm>
                  <a:off x="8158680" y="4914720"/>
                  <a:ext cx="412920" cy="328320"/>
                  <a:chOff x="8158680" y="4914720"/>
                  <a:chExt cx="412920" cy="32832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8158680" y="5243040"/>
                    <a:ext cx="4086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8163000" y="4914720"/>
                    <a:ext cx="40860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8" name=""/>
                <p:cNvSpPr/>
                <p:nvPr/>
              </p:nvSpPr>
              <p:spPr>
                <a:xfrm flipH="1">
                  <a:off x="8024760" y="5323320"/>
                  <a:ext cx="1404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8151480" y="5237640"/>
                  <a:ext cx="92520" cy="896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0" name=""/>
              <p:cNvSpPr/>
              <p:nvPr/>
            </p:nvSpPr>
            <p:spPr>
              <a:xfrm>
                <a:off x="8362800" y="5268960"/>
                <a:ext cx="0" cy="387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818480" y="3146400"/>
                <a:ext cx="5270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2" name=""/>
          <p:cNvSpPr/>
          <p:nvPr/>
        </p:nvSpPr>
        <p:spPr>
          <a:xfrm>
            <a:off x="603360" y="1457280"/>
            <a:ext cx="84582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Structure bidirectionnelle en courant : bras d’ondule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ssociation de deux structures unidirectionnelles en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607760" y="105732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ARCP : </a:t>
            </a:r>
            <a:r>
              <a:rPr b="0" lang="fr-FR" sz="2400" spc="-1" strike="noStrike">
                <a:solidFill>
                  <a:srgbClr val="1c1c1c"/>
                </a:solidFill>
                <a:latin typeface="Tahoma"/>
              </a:rPr>
              <a:t>A</a:t>
            </a: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uxiliary </a:t>
            </a:r>
            <a:r>
              <a:rPr b="0" lang="fr-FR" sz="2400" spc="-1" strike="noStrike">
                <a:solidFill>
                  <a:srgbClr val="1c1c1c"/>
                </a:solidFill>
                <a:latin typeface="Tahoma"/>
              </a:rPr>
              <a:t>R</a:t>
            </a: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esonant </a:t>
            </a:r>
            <a:r>
              <a:rPr b="0" lang="fr-FR" sz="2400" spc="-1" strike="noStrike">
                <a:solidFill>
                  <a:srgbClr val="1c1c1c"/>
                </a:solidFill>
                <a:latin typeface="Tahoma"/>
              </a:rPr>
              <a:t>C</a:t>
            </a: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ommutated </a:t>
            </a:r>
            <a:r>
              <a:rPr b="0" lang="fr-FR" sz="2400" spc="-1" strike="noStrike">
                <a:solidFill>
                  <a:srgbClr val="1c1c1c"/>
                </a:solidFill>
                <a:latin typeface="Tahoma"/>
              </a:rPr>
              <a:t>P</a:t>
            </a: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ole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346040" y="5979960"/>
            <a:ext cx="8112240" cy="98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e même auxiliaire assure les deux phases de mise en conduction des interrupteurs principaux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e fonctionnement à vide es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3557-CCC7-40A1-ABA1-31EC9BE83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397320" y="20350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2 relations  rigid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5238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k1 – Ik2 = Is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25146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Vk1 + Vk2 = Ve 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5880" y="1828800"/>
            <a:ext cx="129564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286000"/>
            <a:ext cx="129564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691080"/>
            <a:ext cx="46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Pendant les commut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34340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La relation 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(1)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impose la conduction simultanée de k1, 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5562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La relation 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(2)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impose Vk1 </a:t>
            </a:r>
            <a:r>
              <a:rPr b="0" lang="en-US" sz="2400" spc="-1" strike="noStrike">
                <a:solidFill>
                  <a:srgbClr val="1c1c1c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100400"/>
            <a:ext cx="281916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Échauffement considérable de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L FAUT BRISER LES RELATIONS 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2360" y="1523880"/>
            <a:ext cx="2712960" cy="2186280"/>
            <a:chOff x="252360" y="1523880"/>
            <a:chExt cx="2712960" cy="2186280"/>
          </a:xfrm>
        </p:grpSpPr>
        <p:sp>
          <p:nvSpPr>
            <p:cNvPr id="66" name=""/>
            <p:cNvSpPr/>
            <p:nvPr/>
          </p:nvSpPr>
          <p:spPr>
            <a:xfrm>
              <a:off x="1511280" y="189540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0" y="0"/>
                  </a:moveTo>
                  <a:lnTo>
                    <a:pt x="229" y="0"/>
                  </a:lnTo>
                  <a:lnTo>
                    <a:pt x="113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4000" y="1884240"/>
              <a:ext cx="398160" cy="395280"/>
            </a:xfrm>
            <a:custGeom>
              <a:avLst/>
              <a:gdLst/>
              <a:ahLst/>
              <a:rect l="l" t="t" r="r" b="b"/>
              <a:pathLst>
                <a:path w="251" h="249">
                  <a:moveTo>
                    <a:pt x="19" y="3"/>
                  </a:moveTo>
                  <a:lnTo>
                    <a:pt x="11" y="15"/>
                  </a:lnTo>
                  <a:lnTo>
                    <a:pt x="240" y="15"/>
                  </a:lnTo>
                  <a:lnTo>
                    <a:pt x="232" y="3"/>
                  </a:lnTo>
                  <a:lnTo>
                    <a:pt x="117" y="230"/>
                  </a:lnTo>
                  <a:lnTo>
                    <a:pt x="132" y="230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24" y="24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11280" y="2243160"/>
              <a:ext cx="363600" cy="2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68360" y="2246400"/>
              <a:ext cx="225360" cy="95040"/>
            </a:xfrm>
            <a:custGeom>
              <a:avLst/>
              <a:gdLst/>
              <a:ahLst/>
              <a:rect l="l" t="t" r="r" b="b"/>
              <a:pathLst>
                <a:path w="142" h="60">
                  <a:moveTo>
                    <a:pt x="130" y="0"/>
                  </a:moveTo>
                  <a:lnTo>
                    <a:pt x="84" y="46"/>
                  </a:lnTo>
                  <a:lnTo>
                    <a:pt x="90" y="44"/>
                  </a:lnTo>
                  <a:lnTo>
                    <a:pt x="0" y="44"/>
                  </a:lnTo>
                  <a:lnTo>
                    <a:pt x="0" y="60"/>
                  </a:lnTo>
                  <a:lnTo>
                    <a:pt x="94" y="60"/>
                  </a:lnTo>
                  <a:lnTo>
                    <a:pt x="142" y="1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68360" y="2246400"/>
              <a:ext cx="298440" cy="20160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77" y="0"/>
                  </a:moveTo>
                  <a:lnTo>
                    <a:pt x="84" y="114"/>
                  </a:lnTo>
                  <a:lnTo>
                    <a:pt x="90" y="112"/>
                  </a:lnTo>
                  <a:lnTo>
                    <a:pt x="0" y="112"/>
                  </a:lnTo>
                  <a:lnTo>
                    <a:pt x="0" y="127"/>
                  </a:lnTo>
                  <a:lnTo>
                    <a:pt x="94" y="127"/>
                  </a:lnTo>
                  <a:lnTo>
                    <a:pt x="188" y="12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9400" y="2255760"/>
              <a:ext cx="24120" cy="72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0840" y="1523880"/>
              <a:ext cx="1282680" cy="1201680"/>
            </a:xfrm>
            <a:custGeom>
              <a:avLst/>
              <a:gdLst/>
              <a:ahLst/>
              <a:rect l="l" t="t" r="r" b="b"/>
              <a:pathLst>
                <a:path w="808" h="757">
                  <a:moveTo>
                    <a:pt x="808" y="234"/>
                  </a:moveTo>
                  <a:lnTo>
                    <a:pt x="808" y="0"/>
                  </a:lnTo>
                  <a:lnTo>
                    <a:pt x="0" y="0"/>
                  </a:lnTo>
                  <a:lnTo>
                    <a:pt x="0" y="757"/>
                  </a:lnTo>
                  <a:lnTo>
                    <a:pt x="15" y="757"/>
                  </a:lnTo>
                  <a:lnTo>
                    <a:pt x="15" y="8"/>
                  </a:lnTo>
                  <a:lnTo>
                    <a:pt x="7" y="15"/>
                  </a:lnTo>
                  <a:lnTo>
                    <a:pt x="800" y="15"/>
                  </a:lnTo>
                  <a:lnTo>
                    <a:pt x="793" y="8"/>
                  </a:lnTo>
                  <a:lnTo>
                    <a:pt x="793" y="234"/>
                  </a:lnTo>
                  <a:lnTo>
                    <a:pt x="808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2360" y="2712960"/>
              <a:ext cx="360360" cy="23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8920" y="2786040"/>
              <a:ext cx="145800" cy="25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11280" y="2967120"/>
              <a:ext cx="363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11280" y="297828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113" y="0"/>
                  </a:moveTo>
                  <a:lnTo>
                    <a:pt x="229" y="227"/>
                  </a:lnTo>
                  <a:lnTo>
                    <a:pt x="0" y="22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4000" y="2954160"/>
              <a:ext cx="398160" cy="39708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132" y="19"/>
                  </a:moveTo>
                  <a:lnTo>
                    <a:pt x="117" y="19"/>
                  </a:lnTo>
                  <a:lnTo>
                    <a:pt x="232" y="246"/>
                  </a:lnTo>
                  <a:lnTo>
                    <a:pt x="240" y="234"/>
                  </a:lnTo>
                  <a:lnTo>
                    <a:pt x="11" y="234"/>
                  </a:lnTo>
                  <a:lnTo>
                    <a:pt x="19" y="246"/>
                  </a:lnTo>
                  <a:lnTo>
                    <a:pt x="132" y="19"/>
                  </a:lnTo>
                  <a:lnTo>
                    <a:pt x="124" y="0"/>
                  </a:lnTo>
                  <a:lnTo>
                    <a:pt x="0" y="250"/>
                  </a:lnTo>
                  <a:lnTo>
                    <a:pt x="251" y="250"/>
                  </a:lnTo>
                  <a:lnTo>
                    <a:pt x="124" y="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0840" y="2798640"/>
              <a:ext cx="1282680" cy="91152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793" y="340"/>
                  </a:moveTo>
                  <a:lnTo>
                    <a:pt x="793" y="566"/>
                  </a:lnTo>
                  <a:lnTo>
                    <a:pt x="800" y="559"/>
                  </a:lnTo>
                  <a:lnTo>
                    <a:pt x="7" y="559"/>
                  </a:lnTo>
                  <a:lnTo>
                    <a:pt x="15" y="56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08" y="574"/>
                  </a:lnTo>
                  <a:lnTo>
                    <a:pt x="808" y="340"/>
                  </a:lnTo>
                  <a:lnTo>
                    <a:pt x="793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0560" y="2606760"/>
              <a:ext cx="5428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3440" y="2435400"/>
              <a:ext cx="3636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2640" y="2424240"/>
              <a:ext cx="384120" cy="38736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0" y="121"/>
                  </a:moveTo>
                  <a:lnTo>
                    <a:pt x="0" y="140"/>
                  </a:lnTo>
                  <a:lnTo>
                    <a:pt x="3" y="151"/>
                  </a:lnTo>
                  <a:lnTo>
                    <a:pt x="3" y="157"/>
                  </a:lnTo>
                  <a:lnTo>
                    <a:pt x="5" y="163"/>
                  </a:lnTo>
                  <a:lnTo>
                    <a:pt x="11" y="174"/>
                  </a:lnTo>
                  <a:lnTo>
                    <a:pt x="15" y="178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3" y="194"/>
                  </a:lnTo>
                  <a:lnTo>
                    <a:pt x="48" y="219"/>
                  </a:lnTo>
                  <a:lnTo>
                    <a:pt x="53" y="220"/>
                  </a:lnTo>
                  <a:lnTo>
                    <a:pt x="57" y="224"/>
                  </a:lnTo>
                  <a:lnTo>
                    <a:pt x="61" y="226"/>
                  </a:lnTo>
                  <a:lnTo>
                    <a:pt x="67" y="232"/>
                  </a:lnTo>
                  <a:lnTo>
                    <a:pt x="73" y="234"/>
                  </a:lnTo>
                  <a:lnTo>
                    <a:pt x="76" y="236"/>
                  </a:lnTo>
                  <a:lnTo>
                    <a:pt x="96" y="242"/>
                  </a:lnTo>
                  <a:lnTo>
                    <a:pt x="107" y="242"/>
                  </a:lnTo>
                  <a:lnTo>
                    <a:pt x="113" y="244"/>
                  </a:lnTo>
                  <a:lnTo>
                    <a:pt x="128" y="244"/>
                  </a:lnTo>
                  <a:lnTo>
                    <a:pt x="134" y="242"/>
                  </a:lnTo>
                  <a:lnTo>
                    <a:pt x="146" y="242"/>
                  </a:lnTo>
                  <a:lnTo>
                    <a:pt x="153" y="240"/>
                  </a:lnTo>
                  <a:lnTo>
                    <a:pt x="157" y="238"/>
                  </a:lnTo>
                  <a:lnTo>
                    <a:pt x="174" y="230"/>
                  </a:lnTo>
                  <a:lnTo>
                    <a:pt x="178" y="226"/>
                  </a:lnTo>
                  <a:lnTo>
                    <a:pt x="184" y="224"/>
                  </a:lnTo>
                  <a:lnTo>
                    <a:pt x="188" y="220"/>
                  </a:lnTo>
                  <a:lnTo>
                    <a:pt x="192" y="219"/>
                  </a:lnTo>
                  <a:lnTo>
                    <a:pt x="197" y="215"/>
                  </a:lnTo>
                  <a:lnTo>
                    <a:pt x="203" y="211"/>
                  </a:lnTo>
                  <a:lnTo>
                    <a:pt x="211" y="201"/>
                  </a:lnTo>
                  <a:lnTo>
                    <a:pt x="213" y="197"/>
                  </a:lnTo>
                  <a:lnTo>
                    <a:pt x="217" y="196"/>
                  </a:lnTo>
                  <a:lnTo>
                    <a:pt x="220" y="188"/>
                  </a:lnTo>
                  <a:lnTo>
                    <a:pt x="222" y="184"/>
                  </a:lnTo>
                  <a:lnTo>
                    <a:pt x="226" y="178"/>
                  </a:lnTo>
                  <a:lnTo>
                    <a:pt x="230" y="174"/>
                  </a:lnTo>
                  <a:lnTo>
                    <a:pt x="234" y="163"/>
                  </a:lnTo>
                  <a:lnTo>
                    <a:pt x="236" y="159"/>
                  </a:lnTo>
                  <a:lnTo>
                    <a:pt x="240" y="146"/>
                  </a:lnTo>
                  <a:lnTo>
                    <a:pt x="240" y="134"/>
                  </a:lnTo>
                  <a:lnTo>
                    <a:pt x="242" y="128"/>
                  </a:lnTo>
                  <a:lnTo>
                    <a:pt x="242" y="113"/>
                  </a:lnTo>
                  <a:lnTo>
                    <a:pt x="240" y="107"/>
                  </a:lnTo>
                  <a:lnTo>
                    <a:pt x="240" y="96"/>
                  </a:lnTo>
                  <a:lnTo>
                    <a:pt x="234" y="76"/>
                  </a:lnTo>
                  <a:lnTo>
                    <a:pt x="232" y="73"/>
                  </a:lnTo>
                  <a:lnTo>
                    <a:pt x="226" y="61"/>
                  </a:lnTo>
                  <a:lnTo>
                    <a:pt x="222" y="57"/>
                  </a:lnTo>
                  <a:lnTo>
                    <a:pt x="220" y="53"/>
                  </a:lnTo>
                  <a:lnTo>
                    <a:pt x="217" y="46"/>
                  </a:lnTo>
                  <a:lnTo>
                    <a:pt x="213" y="44"/>
                  </a:lnTo>
                  <a:lnTo>
                    <a:pt x="211" y="40"/>
                  </a:lnTo>
                  <a:lnTo>
                    <a:pt x="203" y="30"/>
                  </a:lnTo>
                  <a:lnTo>
                    <a:pt x="197" y="27"/>
                  </a:lnTo>
                  <a:lnTo>
                    <a:pt x="192" y="23"/>
                  </a:lnTo>
                  <a:lnTo>
                    <a:pt x="188" y="21"/>
                  </a:lnTo>
                  <a:lnTo>
                    <a:pt x="184" y="17"/>
                  </a:lnTo>
                  <a:lnTo>
                    <a:pt x="178" y="15"/>
                  </a:lnTo>
                  <a:lnTo>
                    <a:pt x="174" y="11"/>
                  </a:lnTo>
                  <a:lnTo>
                    <a:pt x="155" y="3"/>
                  </a:lnTo>
                  <a:lnTo>
                    <a:pt x="151" y="3"/>
                  </a:lnTo>
                  <a:lnTo>
                    <a:pt x="140" y="0"/>
                  </a:lnTo>
                  <a:lnTo>
                    <a:pt x="101" y="0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6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1" y="15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6"/>
                  </a:lnTo>
                  <a:lnTo>
                    <a:pt x="3" y="84"/>
                  </a:lnTo>
                  <a:lnTo>
                    <a:pt x="3" y="90"/>
                  </a:lnTo>
                  <a:lnTo>
                    <a:pt x="0" y="101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15" y="105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1" y="84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6" y="69"/>
                  </a:lnTo>
                  <a:lnTo>
                    <a:pt x="28" y="65"/>
                  </a:lnTo>
                  <a:lnTo>
                    <a:pt x="32" y="61"/>
                  </a:lnTo>
                  <a:lnTo>
                    <a:pt x="34" y="55"/>
                  </a:lnTo>
                  <a:lnTo>
                    <a:pt x="55" y="34"/>
                  </a:lnTo>
                  <a:lnTo>
                    <a:pt x="61" y="32"/>
                  </a:lnTo>
                  <a:lnTo>
                    <a:pt x="65" y="28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3"/>
                  </a:lnTo>
                  <a:lnTo>
                    <a:pt x="84" y="21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105" y="15"/>
                  </a:lnTo>
                  <a:lnTo>
                    <a:pt x="136" y="15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6" y="28"/>
                  </a:lnTo>
                  <a:lnTo>
                    <a:pt x="180" y="32"/>
                  </a:lnTo>
                  <a:lnTo>
                    <a:pt x="184" y="34"/>
                  </a:lnTo>
                  <a:lnTo>
                    <a:pt x="186" y="38"/>
                  </a:lnTo>
                  <a:lnTo>
                    <a:pt x="192" y="42"/>
                  </a:lnTo>
                  <a:lnTo>
                    <a:pt x="199" y="48"/>
                  </a:lnTo>
                  <a:lnTo>
                    <a:pt x="201" y="51"/>
                  </a:lnTo>
                  <a:lnTo>
                    <a:pt x="205" y="57"/>
                  </a:lnTo>
                  <a:lnTo>
                    <a:pt x="209" y="61"/>
                  </a:lnTo>
                  <a:lnTo>
                    <a:pt x="211" y="65"/>
                  </a:lnTo>
                  <a:lnTo>
                    <a:pt x="215" y="69"/>
                  </a:lnTo>
                  <a:lnTo>
                    <a:pt x="217" y="80"/>
                  </a:lnTo>
                  <a:lnTo>
                    <a:pt x="219" y="84"/>
                  </a:lnTo>
                  <a:lnTo>
                    <a:pt x="224" y="99"/>
                  </a:lnTo>
                  <a:lnTo>
                    <a:pt x="224" y="111"/>
                  </a:lnTo>
                  <a:lnTo>
                    <a:pt x="226" y="117"/>
                  </a:lnTo>
                  <a:lnTo>
                    <a:pt x="226" y="124"/>
                  </a:lnTo>
                  <a:lnTo>
                    <a:pt x="224" y="130"/>
                  </a:lnTo>
                  <a:lnTo>
                    <a:pt x="224" y="142"/>
                  </a:lnTo>
                  <a:lnTo>
                    <a:pt x="220" y="151"/>
                  </a:lnTo>
                  <a:lnTo>
                    <a:pt x="219" y="155"/>
                  </a:lnTo>
                  <a:lnTo>
                    <a:pt x="215" y="167"/>
                  </a:lnTo>
                  <a:lnTo>
                    <a:pt x="215" y="171"/>
                  </a:lnTo>
                  <a:lnTo>
                    <a:pt x="211" y="176"/>
                  </a:lnTo>
                  <a:lnTo>
                    <a:pt x="209" y="180"/>
                  </a:lnTo>
                  <a:lnTo>
                    <a:pt x="205" y="184"/>
                  </a:lnTo>
                  <a:lnTo>
                    <a:pt x="201" y="190"/>
                  </a:lnTo>
                  <a:lnTo>
                    <a:pt x="199" y="194"/>
                  </a:lnTo>
                  <a:lnTo>
                    <a:pt x="192" y="199"/>
                  </a:lnTo>
                  <a:lnTo>
                    <a:pt x="186" y="203"/>
                  </a:lnTo>
                  <a:lnTo>
                    <a:pt x="184" y="207"/>
                  </a:lnTo>
                  <a:lnTo>
                    <a:pt x="180" y="209"/>
                  </a:lnTo>
                  <a:lnTo>
                    <a:pt x="176" y="213"/>
                  </a:lnTo>
                  <a:lnTo>
                    <a:pt x="170" y="215"/>
                  </a:lnTo>
                  <a:lnTo>
                    <a:pt x="167" y="219"/>
                  </a:lnTo>
                  <a:lnTo>
                    <a:pt x="149" y="222"/>
                  </a:lnTo>
                  <a:lnTo>
                    <a:pt x="146" y="224"/>
                  </a:lnTo>
                  <a:lnTo>
                    <a:pt x="142" y="226"/>
                  </a:lnTo>
                  <a:lnTo>
                    <a:pt x="130" y="226"/>
                  </a:lnTo>
                  <a:lnTo>
                    <a:pt x="124" y="228"/>
                  </a:lnTo>
                  <a:lnTo>
                    <a:pt x="117" y="228"/>
                  </a:lnTo>
                  <a:lnTo>
                    <a:pt x="111" y="226"/>
                  </a:lnTo>
                  <a:lnTo>
                    <a:pt x="99" y="226"/>
                  </a:lnTo>
                  <a:lnTo>
                    <a:pt x="84" y="220"/>
                  </a:lnTo>
                  <a:lnTo>
                    <a:pt x="80" y="219"/>
                  </a:lnTo>
                  <a:lnTo>
                    <a:pt x="74" y="217"/>
                  </a:lnTo>
                  <a:lnTo>
                    <a:pt x="69" y="215"/>
                  </a:lnTo>
                  <a:lnTo>
                    <a:pt x="65" y="213"/>
                  </a:lnTo>
                  <a:lnTo>
                    <a:pt x="61" y="209"/>
                  </a:lnTo>
                  <a:lnTo>
                    <a:pt x="55" y="207"/>
                  </a:lnTo>
                  <a:lnTo>
                    <a:pt x="34" y="186"/>
                  </a:lnTo>
                  <a:lnTo>
                    <a:pt x="32" y="180"/>
                  </a:lnTo>
                  <a:lnTo>
                    <a:pt x="28" y="176"/>
                  </a:lnTo>
                  <a:lnTo>
                    <a:pt x="26" y="171"/>
                  </a:lnTo>
                  <a:lnTo>
                    <a:pt x="23" y="167"/>
                  </a:lnTo>
                  <a:lnTo>
                    <a:pt x="21" y="155"/>
                  </a:lnTo>
                  <a:lnTo>
                    <a:pt x="19" y="153"/>
                  </a:lnTo>
                  <a:lnTo>
                    <a:pt x="19" y="148"/>
                  </a:lnTo>
                  <a:lnTo>
                    <a:pt x="15" y="136"/>
                  </a:lnTo>
                  <a:lnTo>
                    <a:pt x="15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1920" y="2435400"/>
              <a:ext cx="23760" cy="3632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90560" y="2606760"/>
              <a:ext cx="1274760" cy="1103400"/>
            </a:xfrm>
            <a:custGeom>
              <a:avLst/>
              <a:gdLst/>
              <a:ahLst/>
              <a:rect l="l" t="t" r="r" b="b"/>
              <a:pathLst>
                <a:path w="803" h="695">
                  <a:moveTo>
                    <a:pt x="569" y="15"/>
                  </a:moveTo>
                  <a:lnTo>
                    <a:pt x="795" y="15"/>
                  </a:lnTo>
                  <a:lnTo>
                    <a:pt x="788" y="8"/>
                  </a:lnTo>
                  <a:lnTo>
                    <a:pt x="788" y="687"/>
                  </a:lnTo>
                  <a:lnTo>
                    <a:pt x="795" y="680"/>
                  </a:lnTo>
                  <a:lnTo>
                    <a:pt x="0" y="680"/>
                  </a:lnTo>
                  <a:lnTo>
                    <a:pt x="0" y="695"/>
                  </a:lnTo>
                  <a:lnTo>
                    <a:pt x="803" y="695"/>
                  </a:lnTo>
                  <a:lnTo>
                    <a:pt x="803" y="0"/>
                  </a:lnTo>
                  <a:lnTo>
                    <a:pt x="569" y="0"/>
                  </a:lnTo>
                  <a:lnTo>
                    <a:pt x="56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74960" y="1752480"/>
              <a:ext cx="12600" cy="61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7320" y="17524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32120" y="173988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4" y="39"/>
                  </a:moveTo>
                  <a:lnTo>
                    <a:pt x="19" y="43"/>
                  </a:lnTo>
                  <a:lnTo>
                    <a:pt x="35" y="10"/>
                  </a:lnTo>
                  <a:lnTo>
                    <a:pt x="27" y="10"/>
                  </a:lnTo>
                  <a:lnTo>
                    <a:pt x="42" y="43"/>
                  </a:lnTo>
                  <a:lnTo>
                    <a:pt x="48" y="39"/>
                  </a:lnTo>
                  <a:lnTo>
                    <a:pt x="31" y="18"/>
                  </a:lnTo>
                  <a:lnTo>
                    <a:pt x="14" y="39"/>
                  </a:lnTo>
                  <a:lnTo>
                    <a:pt x="0" y="64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62" y="64"/>
                  </a:lnTo>
                  <a:lnTo>
                    <a:pt x="31" y="0"/>
                  </a:lnTo>
                  <a:lnTo>
                    <a:pt x="0" y="64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4960" y="2868480"/>
              <a:ext cx="1260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7320" y="28684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8240" y="285588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10" y="39"/>
                  </a:moveTo>
                  <a:lnTo>
                    <a:pt x="15" y="43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38" y="43"/>
                  </a:lnTo>
                  <a:lnTo>
                    <a:pt x="44" y="39"/>
                  </a:lnTo>
                  <a:lnTo>
                    <a:pt x="27" y="21"/>
                  </a:lnTo>
                  <a:lnTo>
                    <a:pt x="10" y="39"/>
                  </a:lnTo>
                  <a:lnTo>
                    <a:pt x="0" y="58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54" y="58"/>
                  </a:lnTo>
                  <a:lnTo>
                    <a:pt x="27" y="0"/>
                  </a:lnTo>
                  <a:lnTo>
                    <a:pt x="0" y="58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040" y="2581200"/>
              <a:ext cx="1260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720" y="258120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31"/>
                  </a:moveTo>
                  <a:lnTo>
                    <a:pt x="18" y="0"/>
                  </a:lnTo>
                  <a:lnTo>
                    <a:pt x="33" y="31"/>
                  </a:lnTo>
                  <a:lnTo>
                    <a:pt x="18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960" y="2570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14" y="36"/>
                  </a:moveTo>
                  <a:lnTo>
                    <a:pt x="19" y="40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44" y="40"/>
                  </a:lnTo>
                  <a:lnTo>
                    <a:pt x="50" y="36"/>
                  </a:lnTo>
                  <a:lnTo>
                    <a:pt x="33" y="19"/>
                  </a:lnTo>
                  <a:lnTo>
                    <a:pt x="14" y="36"/>
                  </a:lnTo>
                  <a:lnTo>
                    <a:pt x="0" y="56"/>
                  </a:lnTo>
                  <a:lnTo>
                    <a:pt x="35" y="25"/>
                  </a:lnTo>
                  <a:lnTo>
                    <a:pt x="31" y="25"/>
                  </a:lnTo>
                  <a:lnTo>
                    <a:pt x="62" y="57"/>
                  </a:lnTo>
                  <a:lnTo>
                    <a:pt x="33" y="0"/>
                  </a:lnTo>
                  <a:lnTo>
                    <a:pt x="0" y="5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000" y="2612880"/>
              <a:ext cx="14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59040" y="25909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2" y="18"/>
                  </a:lnTo>
                  <a:lnTo>
                    <a:pt x="0" y="33"/>
                  </a:lnTo>
                  <a:lnTo>
                    <a:pt x="15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30600" y="2570040"/>
              <a:ext cx="91800" cy="9072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9" y="11"/>
                  </a:moveTo>
                  <a:lnTo>
                    <a:pt x="16" y="17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16" y="42"/>
                  </a:lnTo>
                  <a:lnTo>
                    <a:pt x="19" y="48"/>
                  </a:lnTo>
                  <a:lnTo>
                    <a:pt x="37" y="31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31" y="32"/>
                  </a:lnTo>
                  <a:lnTo>
                    <a:pt x="31" y="29"/>
                  </a:lnTo>
                  <a:lnTo>
                    <a:pt x="0" y="57"/>
                  </a:lnTo>
                  <a:lnTo>
                    <a:pt x="58" y="31"/>
                  </a:lnTo>
                  <a:lnTo>
                    <a:pt x="0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85880" y="2365200"/>
              <a:ext cx="11160" cy="14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6800" y="24573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15" y="32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43040" y="24210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50" y="25"/>
                  </a:moveTo>
                  <a:lnTo>
                    <a:pt x="44" y="21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50" y="25"/>
                  </a:lnTo>
                  <a:lnTo>
                    <a:pt x="63" y="4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3" y="4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85880" y="2689200"/>
              <a:ext cx="111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66800" y="2819520"/>
              <a:ext cx="52560" cy="48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0"/>
                  </a:moveTo>
                  <a:lnTo>
                    <a:pt x="15" y="31"/>
                  </a:lnTo>
                  <a:lnTo>
                    <a:pt x="0" y="0"/>
                  </a:lnTo>
                  <a:lnTo>
                    <a:pt x="15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46280" y="278928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48" y="21"/>
                  </a:moveTo>
                  <a:lnTo>
                    <a:pt x="42" y="17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17" y="17"/>
                  </a:lnTo>
                  <a:lnTo>
                    <a:pt x="11" y="21"/>
                  </a:lnTo>
                  <a:lnTo>
                    <a:pt x="28" y="39"/>
                  </a:lnTo>
                  <a:lnTo>
                    <a:pt x="48" y="21"/>
                  </a:lnTo>
                  <a:lnTo>
                    <a:pt x="61" y="2"/>
                  </a:lnTo>
                  <a:lnTo>
                    <a:pt x="27" y="33"/>
                  </a:lnTo>
                  <a:lnTo>
                    <a:pt x="30" y="33"/>
                  </a:lnTo>
                  <a:lnTo>
                    <a:pt x="0" y="0"/>
                  </a:lnTo>
                  <a:lnTo>
                    <a:pt x="28" y="58"/>
                  </a:lnTo>
                  <a:lnTo>
                    <a:pt x="61" y="2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600" y="2695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42640" y="197172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61360" y="304488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200" y="1898640"/>
              <a:ext cx="15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9680" y="235116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3200" y="267012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18720" y="232236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33720" y="219564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1560" y="2374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520" y="1932120"/>
              <a:ext cx="12600" cy="25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7880" y="19321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3"/>
                  </a:moveTo>
                  <a:lnTo>
                    <a:pt x="15" y="0"/>
                  </a:lnTo>
                  <a:lnTo>
                    <a:pt x="31" y="33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120" y="192096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13" y="38"/>
                  </a:moveTo>
                  <a:lnTo>
                    <a:pt x="19" y="42"/>
                  </a:lnTo>
                  <a:lnTo>
                    <a:pt x="34" y="9"/>
                  </a:lnTo>
                  <a:lnTo>
                    <a:pt x="26" y="9"/>
                  </a:lnTo>
                  <a:lnTo>
                    <a:pt x="42" y="42"/>
                  </a:lnTo>
                  <a:lnTo>
                    <a:pt x="48" y="38"/>
                  </a:lnTo>
                  <a:lnTo>
                    <a:pt x="30" y="17"/>
                  </a:lnTo>
                  <a:lnTo>
                    <a:pt x="13" y="38"/>
                  </a:lnTo>
                  <a:lnTo>
                    <a:pt x="0" y="6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61" y="63"/>
                  </a:lnTo>
                  <a:lnTo>
                    <a:pt x="30" y="0"/>
                  </a:lnTo>
                  <a:lnTo>
                    <a:pt x="0" y="63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E7F5-2017-44E1-A011-A619195BF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onclus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"/>
          <p:cNvSpPr/>
          <p:nvPr/>
        </p:nvSpPr>
        <p:spPr>
          <a:xfrm>
            <a:off x="1173240" y="1668600"/>
            <a:ext cx="8111880" cy="475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Les modes ZVS et ZCS permettent une forte réduction des pertes en commutation mais introduisent des sur-contraintes dans les interrupteurs qui peuvent être cependant limité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Le fonctionnement à fréquence fixe nécessite obligatoirement des auxiliaires parfois complexes et présentant des défauts (pertes supplémentaires dans les semi-conducteurs ou les composants passifs, oscill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Les pertes sont généralement reportées soit dans les semi-conducteurs auxiliaires, soit dans les composants réacti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Globalement ces structures permettent un accroissement de la fréquence de fonctionnement au prix d’une plus grande complexité de commande (auxiliaires) </a:t>
            </a:r>
            <a:r>
              <a:rPr b="0" lang="fr-FR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ccroissement du facteur de mérite du convertisseur : </a:t>
            </a:r>
            <a:r>
              <a:rPr b="0" i="1" lang="fr-FR" sz="2000" spc="-1" strike="noStrike">
                <a:solidFill>
                  <a:srgbClr val="3333cc"/>
                </a:solidFill>
                <a:latin typeface="Tahoma"/>
              </a:rPr>
              <a:t>F</a:t>
            </a:r>
            <a:r>
              <a:rPr b="0" i="1" lang="fr-FR" sz="1800" spc="-1" strike="noStrike">
                <a:solidFill>
                  <a:srgbClr val="3333cc"/>
                </a:solidFill>
                <a:latin typeface="Tahoma"/>
              </a:rPr>
              <a:t>déc</a:t>
            </a:r>
            <a:r>
              <a:rPr b="0" i="1" lang="fr-FR" sz="2000" spc="-1" strike="noStrike">
                <a:solidFill>
                  <a:srgbClr val="3333cc"/>
                </a:solidFill>
                <a:latin typeface="Tahoma"/>
              </a:rPr>
              <a:t>.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>
            <a:hlinkClick r:id="" action="ppaction://hlinkshowjump?jump=firstslide"/>
          </p:cNvPr>
          <p:cNvSpPr/>
          <p:nvPr/>
        </p:nvSpPr>
        <p:spPr>
          <a:xfrm>
            <a:off x="12600" y="6608880"/>
            <a:ext cx="301680" cy="37620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76200"/>
              <a:gd name="textAreaBottom" fmla="*/ 356760 h 376200"/>
            </a:gdLst>
            <a:ahLst/>
            <a:rect l="textAreaLeft" t="textAreaTop" r="textAreaRight" b="textAreaBottom"/>
            <a:pathLst>
              <a:path w="21600" h="26929">
                <a:moveTo>
                  <a:pt x="0" y="0"/>
                </a:moveTo>
                <a:lnTo>
                  <a:pt x="21600" y="0"/>
                </a:lnTo>
                <a:lnTo>
                  <a:pt x="21600" y="26929"/>
                </a:lnTo>
                <a:lnTo>
                  <a:pt x="0" y="26929"/>
                </a:lnTo>
                <a:close/>
              </a:path>
              <a:path fill="lightenLess" w="21600" h="26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29">
                <a:moveTo>
                  <a:pt x="21600" y="0"/>
                </a:moveTo>
                <a:lnTo>
                  <a:pt x="21600" y="26929"/>
                </a:lnTo>
                <a:lnTo>
                  <a:pt x="20200" y="25529"/>
                </a:lnTo>
                <a:lnTo>
                  <a:pt x="20200" y="1400"/>
                </a:lnTo>
                <a:close/>
              </a:path>
              <a:path fill="darkenLess" w="21600" h="26929">
                <a:moveTo>
                  <a:pt x="21600" y="26929"/>
                </a:moveTo>
                <a:lnTo>
                  <a:pt x="0" y="26929"/>
                </a:lnTo>
                <a:lnTo>
                  <a:pt x="1400" y="25529"/>
                </a:lnTo>
                <a:lnTo>
                  <a:pt x="20200" y="25529"/>
                </a:lnTo>
                <a:close/>
              </a:path>
              <a:path fill="lighten" w="21600" h="26929">
                <a:moveTo>
                  <a:pt x="0" y="26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29"/>
                </a:lnTo>
                <a:close/>
              </a:path>
              <a:path fill="darken" w="21600" h="26929">
                <a:moveTo>
                  <a:pt x="10800" y="6502"/>
                </a:moveTo>
                <a:lnTo>
                  <a:pt x="13376" y="9113"/>
                </a:ln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lnTo>
                  <a:pt x="17763" y="13465"/>
                </a:lnTo>
                <a:lnTo>
                  <a:pt x="16109" y="13465"/>
                </a:lnTo>
                <a:lnTo>
                  <a:pt x="16109" y="20654"/>
                </a:lnTo>
                <a:lnTo>
                  <a:pt x="5491" y="20654"/>
                </a:lnTo>
                <a:lnTo>
                  <a:pt x="5491" y="13465"/>
                </a:lnTo>
                <a:lnTo>
                  <a:pt x="3837" y="13465"/>
                </a:lnTo>
                <a:close/>
              </a:path>
              <a:path fill="darkenLess" w="21600" h="26929">
                <a:moveTo>
                  <a:pt x="13376" y="9113"/>
                </a:move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close/>
              </a:path>
              <a:path fill="darkenLess" w="21600" h="26929">
                <a:moveTo>
                  <a:pt x="9877" y="16963"/>
                </a:moveTo>
                <a:lnTo>
                  <a:pt x="11723" y="16963"/>
                </a:lnTo>
                <a:lnTo>
                  <a:pt x="11723" y="20654"/>
                </a:lnTo>
                <a:lnTo>
                  <a:pt x="16109" y="20654"/>
                </a:lnTo>
                <a:lnTo>
                  <a:pt x="16109" y="13465"/>
                </a:lnTo>
                <a:lnTo>
                  <a:pt x="5491" y="13465"/>
                </a:lnTo>
                <a:lnTo>
                  <a:pt x="5491" y="20654"/>
                </a:lnTo>
                <a:lnTo>
                  <a:pt x="9877" y="20654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4A84-8AB3-47E3-BE83-CB067B930D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6800" y="127080"/>
            <a:ext cx="8572680" cy="482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Aide à la commu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496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Vk1 + Vk2 = Ve (2) </a:t>
            </a:r>
            <a:r>
              <a:rPr b="0" lang="en-US" sz="18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Vk1 + Vk2 + V</a:t>
            </a: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= 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914400"/>
            <a:ext cx="0" cy="487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8400" y="3473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Ik1 – Ik2 = Is (1) </a:t>
            </a:r>
            <a:r>
              <a:rPr b="0" lang="en-US" sz="20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Ik1- Ik2 + I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 = Is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74960" y="3484440"/>
            <a:ext cx="1413000" cy="379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0560" y="3548160"/>
            <a:ext cx="1763640" cy="3380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66680" y="1012680"/>
            <a:ext cx="2713320" cy="2359080"/>
            <a:chOff x="1066680" y="1012680"/>
            <a:chExt cx="2713320" cy="2359080"/>
          </a:xfrm>
        </p:grpSpPr>
        <p:sp>
          <p:nvSpPr>
            <p:cNvPr id="121" name=""/>
            <p:cNvSpPr/>
            <p:nvPr/>
          </p:nvSpPr>
          <p:spPr>
            <a:xfrm>
              <a:off x="2325600" y="1558800"/>
              <a:ext cx="363600" cy="35892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0" y="0"/>
                  </a:moveTo>
                  <a:lnTo>
                    <a:pt x="229" y="0"/>
                  </a:lnTo>
                  <a:lnTo>
                    <a:pt x="11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08320" y="1546200"/>
              <a:ext cx="398520" cy="39672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19" y="4"/>
                  </a:moveTo>
                  <a:lnTo>
                    <a:pt x="11" y="15"/>
                  </a:lnTo>
                  <a:lnTo>
                    <a:pt x="240" y="15"/>
                  </a:lnTo>
                  <a:lnTo>
                    <a:pt x="232" y="4"/>
                  </a:lnTo>
                  <a:lnTo>
                    <a:pt x="117" y="230"/>
                  </a:lnTo>
                  <a:lnTo>
                    <a:pt x="132" y="230"/>
                  </a:lnTo>
                  <a:lnTo>
                    <a:pt x="19" y="4"/>
                  </a:lnTo>
                  <a:lnTo>
                    <a:pt x="0" y="0"/>
                  </a:lnTo>
                  <a:lnTo>
                    <a:pt x="124" y="250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5600" y="1906560"/>
              <a:ext cx="363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82680" y="1909800"/>
              <a:ext cx="225720" cy="9360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130" y="0"/>
                  </a:moveTo>
                  <a:lnTo>
                    <a:pt x="84" y="46"/>
                  </a:lnTo>
                  <a:lnTo>
                    <a:pt x="90" y="44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94" y="59"/>
                  </a:lnTo>
                  <a:lnTo>
                    <a:pt x="142" y="1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4080" y="1917720"/>
              <a:ext cx="23760" cy="71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2374920"/>
              <a:ext cx="36036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3240" y="2444760"/>
              <a:ext cx="14580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5600" y="2625840"/>
              <a:ext cx="363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25600" y="2636640"/>
              <a:ext cx="363600" cy="36360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13" y="0"/>
                  </a:moveTo>
                  <a:lnTo>
                    <a:pt x="229" y="229"/>
                  </a:lnTo>
                  <a:lnTo>
                    <a:pt x="0" y="22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08320" y="2612880"/>
              <a:ext cx="398520" cy="400320"/>
            </a:xfrm>
            <a:custGeom>
              <a:avLst/>
              <a:gdLst/>
              <a:ahLst/>
              <a:rect l="l" t="t" r="r" b="b"/>
              <a:pathLst>
                <a:path w="251" h="252">
                  <a:moveTo>
                    <a:pt x="132" y="19"/>
                  </a:moveTo>
                  <a:lnTo>
                    <a:pt x="117" y="19"/>
                  </a:lnTo>
                  <a:lnTo>
                    <a:pt x="232" y="248"/>
                  </a:lnTo>
                  <a:lnTo>
                    <a:pt x="240" y="236"/>
                  </a:lnTo>
                  <a:lnTo>
                    <a:pt x="11" y="236"/>
                  </a:lnTo>
                  <a:lnTo>
                    <a:pt x="19" y="248"/>
                  </a:lnTo>
                  <a:lnTo>
                    <a:pt x="132" y="19"/>
                  </a:lnTo>
                  <a:lnTo>
                    <a:pt x="124" y="0"/>
                  </a:lnTo>
                  <a:lnTo>
                    <a:pt x="0" y="252"/>
                  </a:lnTo>
                  <a:lnTo>
                    <a:pt x="251" y="252"/>
                  </a:lnTo>
                  <a:lnTo>
                    <a:pt x="124" y="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5160" y="2457360"/>
              <a:ext cx="1282680" cy="914400"/>
            </a:xfrm>
            <a:custGeom>
              <a:avLst/>
              <a:gdLst/>
              <a:ahLst/>
              <a:rect l="l" t="t" r="r" b="b"/>
              <a:pathLst>
                <a:path w="808" h="576">
                  <a:moveTo>
                    <a:pt x="793" y="342"/>
                  </a:moveTo>
                  <a:lnTo>
                    <a:pt x="793" y="568"/>
                  </a:lnTo>
                  <a:lnTo>
                    <a:pt x="800" y="561"/>
                  </a:lnTo>
                  <a:lnTo>
                    <a:pt x="7" y="561"/>
                  </a:lnTo>
                  <a:lnTo>
                    <a:pt x="15" y="56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76"/>
                  </a:lnTo>
                  <a:lnTo>
                    <a:pt x="808" y="576"/>
                  </a:lnTo>
                  <a:lnTo>
                    <a:pt x="808" y="342"/>
                  </a:lnTo>
                  <a:lnTo>
                    <a:pt x="79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05240" y="2265480"/>
              <a:ext cx="5428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2098800"/>
              <a:ext cx="363240" cy="36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36960" y="208584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0" y="121"/>
                  </a:moveTo>
                  <a:lnTo>
                    <a:pt x="0" y="140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11" y="175"/>
                  </a:lnTo>
                  <a:lnTo>
                    <a:pt x="15" y="178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3" y="192"/>
                  </a:lnTo>
                  <a:lnTo>
                    <a:pt x="26" y="198"/>
                  </a:lnTo>
                  <a:lnTo>
                    <a:pt x="30" y="203"/>
                  </a:lnTo>
                  <a:lnTo>
                    <a:pt x="40" y="211"/>
                  </a:lnTo>
                  <a:lnTo>
                    <a:pt x="44" y="213"/>
                  </a:lnTo>
                  <a:lnTo>
                    <a:pt x="46" y="217"/>
                  </a:lnTo>
                  <a:lnTo>
                    <a:pt x="53" y="221"/>
                  </a:lnTo>
                  <a:lnTo>
                    <a:pt x="57" y="223"/>
                  </a:lnTo>
                  <a:lnTo>
                    <a:pt x="61" y="226"/>
                  </a:lnTo>
                  <a:lnTo>
                    <a:pt x="73" y="232"/>
                  </a:lnTo>
                  <a:lnTo>
                    <a:pt x="76" y="234"/>
                  </a:lnTo>
                  <a:lnTo>
                    <a:pt x="96" y="240"/>
                  </a:lnTo>
                  <a:lnTo>
                    <a:pt x="107" y="240"/>
                  </a:lnTo>
                  <a:lnTo>
                    <a:pt x="113" y="242"/>
                  </a:lnTo>
                  <a:lnTo>
                    <a:pt x="128" y="242"/>
                  </a:lnTo>
                  <a:lnTo>
                    <a:pt x="134" y="240"/>
                  </a:lnTo>
                  <a:lnTo>
                    <a:pt x="146" y="240"/>
                  </a:lnTo>
                  <a:lnTo>
                    <a:pt x="153" y="238"/>
                  </a:lnTo>
                  <a:lnTo>
                    <a:pt x="157" y="236"/>
                  </a:lnTo>
                  <a:lnTo>
                    <a:pt x="174" y="230"/>
                  </a:lnTo>
                  <a:lnTo>
                    <a:pt x="178" y="226"/>
                  </a:lnTo>
                  <a:lnTo>
                    <a:pt x="184" y="223"/>
                  </a:lnTo>
                  <a:lnTo>
                    <a:pt x="188" y="221"/>
                  </a:lnTo>
                  <a:lnTo>
                    <a:pt x="195" y="213"/>
                  </a:lnTo>
                  <a:lnTo>
                    <a:pt x="201" y="211"/>
                  </a:lnTo>
                  <a:lnTo>
                    <a:pt x="211" y="201"/>
                  </a:lnTo>
                  <a:lnTo>
                    <a:pt x="213" y="196"/>
                  </a:lnTo>
                  <a:lnTo>
                    <a:pt x="220" y="188"/>
                  </a:lnTo>
                  <a:lnTo>
                    <a:pt x="222" y="184"/>
                  </a:lnTo>
                  <a:lnTo>
                    <a:pt x="226" y="178"/>
                  </a:lnTo>
                  <a:lnTo>
                    <a:pt x="230" y="175"/>
                  </a:lnTo>
                  <a:lnTo>
                    <a:pt x="236" y="157"/>
                  </a:lnTo>
                  <a:lnTo>
                    <a:pt x="238" y="153"/>
                  </a:lnTo>
                  <a:lnTo>
                    <a:pt x="240" y="146"/>
                  </a:lnTo>
                  <a:lnTo>
                    <a:pt x="240" y="134"/>
                  </a:lnTo>
                  <a:lnTo>
                    <a:pt x="242" y="129"/>
                  </a:lnTo>
                  <a:lnTo>
                    <a:pt x="242" y="113"/>
                  </a:lnTo>
                  <a:lnTo>
                    <a:pt x="240" y="107"/>
                  </a:lnTo>
                  <a:lnTo>
                    <a:pt x="240" y="96"/>
                  </a:lnTo>
                  <a:lnTo>
                    <a:pt x="234" y="77"/>
                  </a:lnTo>
                  <a:lnTo>
                    <a:pt x="232" y="73"/>
                  </a:lnTo>
                  <a:lnTo>
                    <a:pt x="226" y="61"/>
                  </a:lnTo>
                  <a:lnTo>
                    <a:pt x="222" y="57"/>
                  </a:lnTo>
                  <a:lnTo>
                    <a:pt x="220" y="54"/>
                  </a:lnTo>
                  <a:lnTo>
                    <a:pt x="217" y="46"/>
                  </a:lnTo>
                  <a:lnTo>
                    <a:pt x="213" y="44"/>
                  </a:lnTo>
                  <a:lnTo>
                    <a:pt x="211" y="40"/>
                  </a:lnTo>
                  <a:lnTo>
                    <a:pt x="203" y="31"/>
                  </a:lnTo>
                  <a:lnTo>
                    <a:pt x="197" y="27"/>
                  </a:lnTo>
                  <a:lnTo>
                    <a:pt x="192" y="23"/>
                  </a:lnTo>
                  <a:lnTo>
                    <a:pt x="188" y="21"/>
                  </a:lnTo>
                  <a:lnTo>
                    <a:pt x="184" y="17"/>
                  </a:lnTo>
                  <a:lnTo>
                    <a:pt x="178" y="15"/>
                  </a:lnTo>
                  <a:lnTo>
                    <a:pt x="174" y="11"/>
                  </a:lnTo>
                  <a:lnTo>
                    <a:pt x="155" y="4"/>
                  </a:lnTo>
                  <a:lnTo>
                    <a:pt x="151" y="4"/>
                  </a:lnTo>
                  <a:lnTo>
                    <a:pt x="140" y="0"/>
                  </a:lnTo>
                  <a:lnTo>
                    <a:pt x="101" y="0"/>
                  </a:lnTo>
                  <a:lnTo>
                    <a:pt x="90" y="4"/>
                  </a:lnTo>
                  <a:lnTo>
                    <a:pt x="84" y="4"/>
                  </a:lnTo>
                  <a:lnTo>
                    <a:pt x="76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5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23" y="48"/>
                  </a:lnTo>
                  <a:lnTo>
                    <a:pt x="21" y="54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7"/>
                  </a:lnTo>
                  <a:lnTo>
                    <a:pt x="3" y="84"/>
                  </a:lnTo>
                  <a:lnTo>
                    <a:pt x="3" y="90"/>
                  </a:lnTo>
                  <a:lnTo>
                    <a:pt x="0" y="102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15" y="105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1" y="84"/>
                  </a:lnTo>
                  <a:lnTo>
                    <a:pt x="23" y="81"/>
                  </a:lnTo>
                  <a:lnTo>
                    <a:pt x="25" y="75"/>
                  </a:lnTo>
                  <a:lnTo>
                    <a:pt x="26" y="69"/>
                  </a:lnTo>
                  <a:lnTo>
                    <a:pt x="28" y="65"/>
                  </a:lnTo>
                  <a:lnTo>
                    <a:pt x="32" y="61"/>
                  </a:lnTo>
                  <a:lnTo>
                    <a:pt x="34" y="56"/>
                  </a:lnTo>
                  <a:lnTo>
                    <a:pt x="55" y="34"/>
                  </a:lnTo>
                  <a:lnTo>
                    <a:pt x="61" y="33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3"/>
                  </a:lnTo>
                  <a:lnTo>
                    <a:pt x="84" y="21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105" y="15"/>
                  </a:lnTo>
                  <a:lnTo>
                    <a:pt x="136" y="15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6" y="29"/>
                  </a:lnTo>
                  <a:lnTo>
                    <a:pt x="180" y="33"/>
                  </a:lnTo>
                  <a:lnTo>
                    <a:pt x="184" y="34"/>
                  </a:lnTo>
                  <a:lnTo>
                    <a:pt x="186" y="38"/>
                  </a:lnTo>
                  <a:lnTo>
                    <a:pt x="192" y="42"/>
                  </a:lnTo>
                  <a:lnTo>
                    <a:pt x="199" y="48"/>
                  </a:lnTo>
                  <a:lnTo>
                    <a:pt x="201" y="52"/>
                  </a:lnTo>
                  <a:lnTo>
                    <a:pt x="205" y="57"/>
                  </a:lnTo>
                  <a:lnTo>
                    <a:pt x="209" y="61"/>
                  </a:lnTo>
                  <a:lnTo>
                    <a:pt x="211" y="65"/>
                  </a:lnTo>
                  <a:lnTo>
                    <a:pt x="215" y="69"/>
                  </a:lnTo>
                  <a:lnTo>
                    <a:pt x="217" y="81"/>
                  </a:lnTo>
                  <a:lnTo>
                    <a:pt x="219" y="84"/>
                  </a:lnTo>
                  <a:lnTo>
                    <a:pt x="224" y="100"/>
                  </a:lnTo>
                  <a:lnTo>
                    <a:pt x="224" y="111"/>
                  </a:lnTo>
                  <a:lnTo>
                    <a:pt x="226" y="117"/>
                  </a:lnTo>
                  <a:lnTo>
                    <a:pt x="226" y="125"/>
                  </a:lnTo>
                  <a:lnTo>
                    <a:pt x="224" y="130"/>
                  </a:lnTo>
                  <a:lnTo>
                    <a:pt x="224" y="142"/>
                  </a:lnTo>
                  <a:lnTo>
                    <a:pt x="222" y="146"/>
                  </a:lnTo>
                  <a:lnTo>
                    <a:pt x="220" y="150"/>
                  </a:lnTo>
                  <a:lnTo>
                    <a:pt x="215" y="167"/>
                  </a:lnTo>
                  <a:lnTo>
                    <a:pt x="215" y="171"/>
                  </a:lnTo>
                  <a:lnTo>
                    <a:pt x="211" y="177"/>
                  </a:lnTo>
                  <a:lnTo>
                    <a:pt x="209" y="180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4" y="200"/>
                  </a:lnTo>
                  <a:lnTo>
                    <a:pt x="188" y="201"/>
                  </a:lnTo>
                  <a:lnTo>
                    <a:pt x="180" y="209"/>
                  </a:lnTo>
                  <a:lnTo>
                    <a:pt x="176" y="211"/>
                  </a:lnTo>
                  <a:lnTo>
                    <a:pt x="170" y="215"/>
                  </a:lnTo>
                  <a:lnTo>
                    <a:pt x="167" y="215"/>
                  </a:lnTo>
                  <a:lnTo>
                    <a:pt x="149" y="221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0" y="225"/>
                  </a:lnTo>
                  <a:lnTo>
                    <a:pt x="124" y="226"/>
                  </a:lnTo>
                  <a:lnTo>
                    <a:pt x="117" y="226"/>
                  </a:lnTo>
                  <a:lnTo>
                    <a:pt x="111" y="225"/>
                  </a:lnTo>
                  <a:lnTo>
                    <a:pt x="99" y="225"/>
                  </a:lnTo>
                  <a:lnTo>
                    <a:pt x="84" y="219"/>
                  </a:lnTo>
                  <a:lnTo>
                    <a:pt x="80" y="217"/>
                  </a:lnTo>
                  <a:lnTo>
                    <a:pt x="69" y="215"/>
                  </a:lnTo>
                  <a:lnTo>
                    <a:pt x="65" y="211"/>
                  </a:lnTo>
                  <a:lnTo>
                    <a:pt x="61" y="209"/>
                  </a:lnTo>
                  <a:lnTo>
                    <a:pt x="57" y="205"/>
                  </a:lnTo>
                  <a:lnTo>
                    <a:pt x="51" y="201"/>
                  </a:lnTo>
                  <a:lnTo>
                    <a:pt x="48" y="200"/>
                  </a:lnTo>
                  <a:lnTo>
                    <a:pt x="42" y="192"/>
                  </a:lnTo>
                  <a:lnTo>
                    <a:pt x="38" y="186"/>
                  </a:lnTo>
                  <a:lnTo>
                    <a:pt x="34" y="184"/>
                  </a:lnTo>
                  <a:lnTo>
                    <a:pt x="32" y="180"/>
                  </a:lnTo>
                  <a:lnTo>
                    <a:pt x="28" y="177"/>
                  </a:lnTo>
                  <a:lnTo>
                    <a:pt x="26" y="171"/>
                  </a:lnTo>
                  <a:lnTo>
                    <a:pt x="23" y="167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5" y="136"/>
                  </a:lnTo>
                  <a:lnTo>
                    <a:pt x="15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16240" y="2098800"/>
              <a:ext cx="23760" cy="3585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5240" y="2265480"/>
              <a:ext cx="1274760" cy="1106280"/>
            </a:xfrm>
            <a:custGeom>
              <a:avLst/>
              <a:gdLst/>
              <a:ahLst/>
              <a:rect l="l" t="t" r="r" b="b"/>
              <a:pathLst>
                <a:path w="803" h="697">
                  <a:moveTo>
                    <a:pt x="569" y="16"/>
                  </a:moveTo>
                  <a:lnTo>
                    <a:pt x="795" y="16"/>
                  </a:lnTo>
                  <a:lnTo>
                    <a:pt x="788" y="8"/>
                  </a:lnTo>
                  <a:lnTo>
                    <a:pt x="788" y="689"/>
                  </a:lnTo>
                  <a:lnTo>
                    <a:pt x="795" y="682"/>
                  </a:lnTo>
                  <a:lnTo>
                    <a:pt x="0" y="682"/>
                  </a:lnTo>
                  <a:lnTo>
                    <a:pt x="0" y="697"/>
                  </a:lnTo>
                  <a:lnTo>
                    <a:pt x="803" y="697"/>
                  </a:lnTo>
                  <a:lnTo>
                    <a:pt x="803" y="0"/>
                  </a:lnTo>
                  <a:lnTo>
                    <a:pt x="569" y="0"/>
                  </a:lnTo>
                  <a:lnTo>
                    <a:pt x="5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89280" y="1414440"/>
              <a:ext cx="12600" cy="61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71640" y="1414440"/>
              <a:ext cx="4788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31"/>
                  </a:moveTo>
                  <a:lnTo>
                    <a:pt x="15" y="0"/>
                  </a:lnTo>
                  <a:lnTo>
                    <a:pt x="30" y="31"/>
                  </a:lnTo>
                  <a:lnTo>
                    <a:pt x="15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49680" y="1403280"/>
              <a:ext cx="9180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2" y="36"/>
                  </a:moveTo>
                  <a:lnTo>
                    <a:pt x="17" y="40"/>
                  </a:lnTo>
                  <a:lnTo>
                    <a:pt x="33" y="9"/>
                  </a:lnTo>
                  <a:lnTo>
                    <a:pt x="25" y="9"/>
                  </a:lnTo>
                  <a:lnTo>
                    <a:pt x="40" y="40"/>
                  </a:lnTo>
                  <a:lnTo>
                    <a:pt x="46" y="36"/>
                  </a:lnTo>
                  <a:lnTo>
                    <a:pt x="29" y="19"/>
                  </a:lnTo>
                  <a:lnTo>
                    <a:pt x="12" y="36"/>
                  </a:lnTo>
                  <a:lnTo>
                    <a:pt x="0" y="57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58" y="57"/>
                  </a:lnTo>
                  <a:lnTo>
                    <a:pt x="29" y="0"/>
                  </a:lnTo>
                  <a:lnTo>
                    <a:pt x="0" y="57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89280" y="2530440"/>
              <a:ext cx="1260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71640" y="2530440"/>
              <a:ext cx="4788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6440" y="251928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4" y="38"/>
                  </a:moveTo>
                  <a:lnTo>
                    <a:pt x="19" y="42"/>
                  </a:lnTo>
                  <a:lnTo>
                    <a:pt x="35" y="9"/>
                  </a:lnTo>
                  <a:lnTo>
                    <a:pt x="27" y="9"/>
                  </a:lnTo>
                  <a:lnTo>
                    <a:pt x="42" y="42"/>
                  </a:lnTo>
                  <a:lnTo>
                    <a:pt x="48" y="38"/>
                  </a:lnTo>
                  <a:lnTo>
                    <a:pt x="31" y="17"/>
                  </a:lnTo>
                  <a:lnTo>
                    <a:pt x="14" y="38"/>
                  </a:lnTo>
                  <a:lnTo>
                    <a:pt x="0" y="63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62" y="63"/>
                  </a:lnTo>
                  <a:lnTo>
                    <a:pt x="31" y="0"/>
                  </a:lnTo>
                  <a:lnTo>
                    <a:pt x="0" y="63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0360" y="2241360"/>
              <a:ext cx="1260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08040" y="2241360"/>
              <a:ext cx="5256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18" y="0"/>
                  </a:lnTo>
                  <a:lnTo>
                    <a:pt x="33" y="32"/>
                  </a:lnTo>
                  <a:lnTo>
                    <a:pt x="18" y="1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87520" y="22287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2" y="39"/>
                  </a:moveTo>
                  <a:lnTo>
                    <a:pt x="17" y="42"/>
                  </a:lnTo>
                  <a:lnTo>
                    <a:pt x="35" y="10"/>
                  </a:lnTo>
                  <a:lnTo>
                    <a:pt x="27" y="10"/>
                  </a:lnTo>
                  <a:lnTo>
                    <a:pt x="42" y="42"/>
                  </a:lnTo>
                  <a:lnTo>
                    <a:pt x="48" y="39"/>
                  </a:lnTo>
                  <a:lnTo>
                    <a:pt x="31" y="21"/>
                  </a:lnTo>
                  <a:lnTo>
                    <a:pt x="12" y="39"/>
                  </a:lnTo>
                  <a:lnTo>
                    <a:pt x="0" y="58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58" y="58"/>
                  </a:lnTo>
                  <a:lnTo>
                    <a:pt x="31" y="0"/>
                  </a:lnTo>
                  <a:lnTo>
                    <a:pt x="0" y="58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8320" y="2271600"/>
              <a:ext cx="145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22525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2" y="16"/>
                  </a:lnTo>
                  <a:lnTo>
                    <a:pt x="0" y="33"/>
                  </a:lnTo>
                  <a:lnTo>
                    <a:pt x="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44920" y="2235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9" y="10"/>
                  </a:moveTo>
                  <a:lnTo>
                    <a:pt x="16" y="15"/>
                  </a:lnTo>
                  <a:lnTo>
                    <a:pt x="48" y="31"/>
                  </a:lnTo>
                  <a:lnTo>
                    <a:pt x="48" y="23"/>
                  </a:lnTo>
                  <a:lnTo>
                    <a:pt x="16" y="40"/>
                  </a:lnTo>
                  <a:lnTo>
                    <a:pt x="19" y="46"/>
                  </a:lnTo>
                  <a:lnTo>
                    <a:pt x="37" y="2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31" y="29"/>
                  </a:lnTo>
                  <a:lnTo>
                    <a:pt x="31" y="25"/>
                  </a:lnTo>
                  <a:lnTo>
                    <a:pt x="0" y="58"/>
                  </a:lnTo>
                  <a:lnTo>
                    <a:pt x="58" y="27"/>
                  </a:lnTo>
                  <a:lnTo>
                    <a:pt x="0" y="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0200" y="2027160"/>
              <a:ext cx="1116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1120" y="21193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15" y="33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7360" y="20826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50" y="25"/>
                  </a:moveTo>
                  <a:lnTo>
                    <a:pt x="44" y="21"/>
                  </a:lnTo>
                  <a:lnTo>
                    <a:pt x="27" y="54"/>
                  </a:lnTo>
                  <a:lnTo>
                    <a:pt x="34" y="54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50" y="25"/>
                  </a:lnTo>
                  <a:lnTo>
                    <a:pt x="63" y="4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3" y="4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0200" y="2351160"/>
              <a:ext cx="111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1120" y="24796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15" y="32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7360" y="244332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50" y="24"/>
                  </a:moveTo>
                  <a:lnTo>
                    <a:pt x="44" y="21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19" y="21"/>
                  </a:lnTo>
                  <a:lnTo>
                    <a:pt x="13" y="24"/>
                  </a:lnTo>
                  <a:lnTo>
                    <a:pt x="30" y="44"/>
                  </a:lnTo>
                  <a:lnTo>
                    <a:pt x="50" y="24"/>
                  </a:lnTo>
                  <a:lnTo>
                    <a:pt x="63" y="3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3" y="3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19280" y="23572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56960" y="163188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76040" y="270828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25160" y="1631880"/>
              <a:ext cx="15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4000" y="201276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7520" y="233208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33040" y="198288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8040" y="185724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5160" y="1668600"/>
              <a:ext cx="1116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16080" y="166860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lnTo>
                    <a:pt x="15" y="0"/>
                  </a:lnTo>
                  <a:lnTo>
                    <a:pt x="31" y="31"/>
                  </a:lnTo>
                  <a:lnTo>
                    <a:pt x="15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5560" y="165564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1" y="37"/>
                  </a:moveTo>
                  <a:lnTo>
                    <a:pt x="17" y="40"/>
                  </a:lnTo>
                  <a:lnTo>
                    <a:pt x="32" y="10"/>
                  </a:lnTo>
                  <a:lnTo>
                    <a:pt x="25" y="10"/>
                  </a:lnTo>
                  <a:lnTo>
                    <a:pt x="40" y="40"/>
                  </a:lnTo>
                  <a:lnTo>
                    <a:pt x="46" y="37"/>
                  </a:lnTo>
                  <a:lnTo>
                    <a:pt x="28" y="19"/>
                  </a:lnTo>
                  <a:lnTo>
                    <a:pt x="11" y="37"/>
                  </a:lnTo>
                  <a:lnTo>
                    <a:pt x="0" y="58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57" y="58"/>
                  </a:lnTo>
                  <a:lnTo>
                    <a:pt x="28" y="0"/>
                  </a:lnTo>
                  <a:lnTo>
                    <a:pt x="0" y="58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8680" y="1185840"/>
              <a:ext cx="371520" cy="1201680"/>
            </a:xfrm>
            <a:custGeom>
              <a:avLst/>
              <a:gdLst/>
              <a:ahLst/>
              <a:rect l="l" t="t" r="r" b="b"/>
              <a:pathLst>
                <a:path w="234" h="757">
                  <a:moveTo>
                    <a:pt x="15" y="757"/>
                  </a:moveTo>
                  <a:lnTo>
                    <a:pt x="15" y="8"/>
                  </a:lnTo>
                  <a:lnTo>
                    <a:pt x="7" y="16"/>
                  </a:lnTo>
                  <a:lnTo>
                    <a:pt x="234" y="16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757"/>
                  </a:lnTo>
                  <a:lnTo>
                    <a:pt x="15" y="7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39760" y="1185840"/>
              <a:ext cx="471600" cy="37296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297" y="235"/>
                  </a:moveTo>
                  <a:lnTo>
                    <a:pt x="297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290" y="16"/>
                  </a:lnTo>
                  <a:lnTo>
                    <a:pt x="282" y="8"/>
                  </a:lnTo>
                  <a:lnTo>
                    <a:pt x="282" y="235"/>
                  </a:lnTo>
                  <a:lnTo>
                    <a:pt x="297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93720" y="1012680"/>
              <a:ext cx="15588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8" y="109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2" y="88"/>
                  </a:lnTo>
                  <a:lnTo>
                    <a:pt x="16" y="77"/>
                  </a:lnTo>
                  <a:lnTo>
                    <a:pt x="16" y="71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21" y="56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27" y="35"/>
                  </a:lnTo>
                  <a:lnTo>
                    <a:pt x="31" y="31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1" y="42"/>
                  </a:lnTo>
                  <a:lnTo>
                    <a:pt x="71" y="46"/>
                  </a:lnTo>
                  <a:lnTo>
                    <a:pt x="73" y="54"/>
                  </a:lnTo>
                  <a:lnTo>
                    <a:pt x="75" y="56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1" y="77"/>
                  </a:lnTo>
                  <a:lnTo>
                    <a:pt x="81" y="83"/>
                  </a:lnTo>
                  <a:lnTo>
                    <a:pt x="83" y="90"/>
                  </a:lnTo>
                  <a:lnTo>
                    <a:pt x="85" y="98"/>
                  </a:lnTo>
                  <a:lnTo>
                    <a:pt x="87" y="104"/>
                  </a:lnTo>
                  <a:lnTo>
                    <a:pt x="90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2" y="94"/>
                  </a:lnTo>
                  <a:lnTo>
                    <a:pt x="90" y="86"/>
                  </a:lnTo>
                  <a:lnTo>
                    <a:pt x="89" y="83"/>
                  </a:lnTo>
                  <a:lnTo>
                    <a:pt x="89" y="77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6"/>
                  </a:lnTo>
                  <a:lnTo>
                    <a:pt x="81" y="50"/>
                  </a:lnTo>
                  <a:lnTo>
                    <a:pt x="79" y="46"/>
                  </a:lnTo>
                  <a:lnTo>
                    <a:pt x="79" y="42"/>
                  </a:lnTo>
                  <a:lnTo>
                    <a:pt x="77" y="38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10" y="63"/>
                  </a:lnTo>
                  <a:lnTo>
                    <a:pt x="8" y="71"/>
                  </a:lnTo>
                  <a:lnTo>
                    <a:pt x="8" y="77"/>
                  </a:lnTo>
                  <a:lnTo>
                    <a:pt x="4" y="88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43120" y="101592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8" y="109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2" y="88"/>
                  </a:lnTo>
                  <a:lnTo>
                    <a:pt x="16" y="77"/>
                  </a:lnTo>
                  <a:lnTo>
                    <a:pt x="16" y="71"/>
                  </a:lnTo>
                  <a:lnTo>
                    <a:pt x="18" y="67"/>
                  </a:lnTo>
                  <a:lnTo>
                    <a:pt x="20" y="63"/>
                  </a:lnTo>
                  <a:lnTo>
                    <a:pt x="21" y="56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9" y="34"/>
                  </a:lnTo>
                  <a:lnTo>
                    <a:pt x="69" y="38"/>
                  </a:lnTo>
                  <a:lnTo>
                    <a:pt x="71" y="42"/>
                  </a:lnTo>
                  <a:lnTo>
                    <a:pt x="71" y="46"/>
                  </a:lnTo>
                  <a:lnTo>
                    <a:pt x="73" y="54"/>
                  </a:lnTo>
                  <a:lnTo>
                    <a:pt x="75" y="56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1" y="77"/>
                  </a:lnTo>
                  <a:lnTo>
                    <a:pt x="81" y="82"/>
                  </a:lnTo>
                  <a:lnTo>
                    <a:pt x="83" y="90"/>
                  </a:lnTo>
                  <a:lnTo>
                    <a:pt x="85" y="98"/>
                  </a:lnTo>
                  <a:lnTo>
                    <a:pt x="87" y="104"/>
                  </a:lnTo>
                  <a:lnTo>
                    <a:pt x="91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3" y="94"/>
                  </a:lnTo>
                  <a:lnTo>
                    <a:pt x="91" y="86"/>
                  </a:lnTo>
                  <a:lnTo>
                    <a:pt x="89" y="82"/>
                  </a:lnTo>
                  <a:lnTo>
                    <a:pt x="89" y="77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6"/>
                  </a:lnTo>
                  <a:lnTo>
                    <a:pt x="81" y="50"/>
                  </a:lnTo>
                  <a:lnTo>
                    <a:pt x="79" y="46"/>
                  </a:lnTo>
                  <a:lnTo>
                    <a:pt x="79" y="42"/>
                  </a:lnTo>
                  <a:lnTo>
                    <a:pt x="77" y="38"/>
                  </a:lnTo>
                  <a:lnTo>
                    <a:pt x="77" y="34"/>
                  </a:lnTo>
                  <a:lnTo>
                    <a:pt x="75" y="29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6" y="10"/>
                  </a:lnTo>
                  <a:lnTo>
                    <a:pt x="56" y="0"/>
                  </a:lnTo>
                  <a:lnTo>
                    <a:pt x="43" y="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71"/>
                  </a:lnTo>
                  <a:lnTo>
                    <a:pt x="8" y="77"/>
                  </a:lnTo>
                  <a:lnTo>
                    <a:pt x="4" y="88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95400" y="102240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10" y="109"/>
                  </a:lnTo>
                  <a:lnTo>
                    <a:pt x="10" y="102"/>
                  </a:lnTo>
                  <a:lnTo>
                    <a:pt x="12" y="98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16" y="77"/>
                  </a:lnTo>
                  <a:lnTo>
                    <a:pt x="20" y="65"/>
                  </a:lnTo>
                  <a:lnTo>
                    <a:pt x="20" y="61"/>
                  </a:lnTo>
                  <a:lnTo>
                    <a:pt x="21" y="57"/>
                  </a:lnTo>
                  <a:lnTo>
                    <a:pt x="23" y="52"/>
                  </a:lnTo>
                  <a:lnTo>
                    <a:pt x="23" y="46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31" y="30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43" y="9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64" y="25"/>
                  </a:lnTo>
                  <a:lnTo>
                    <a:pt x="64" y="30"/>
                  </a:lnTo>
                  <a:lnTo>
                    <a:pt x="66" y="32"/>
                  </a:lnTo>
                  <a:lnTo>
                    <a:pt x="69" y="38"/>
                  </a:lnTo>
                  <a:lnTo>
                    <a:pt x="69" y="42"/>
                  </a:lnTo>
                  <a:lnTo>
                    <a:pt x="71" y="48"/>
                  </a:lnTo>
                  <a:lnTo>
                    <a:pt x="73" y="54"/>
                  </a:lnTo>
                  <a:lnTo>
                    <a:pt x="75" y="55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3" y="82"/>
                  </a:lnTo>
                  <a:lnTo>
                    <a:pt x="83" y="88"/>
                  </a:lnTo>
                  <a:lnTo>
                    <a:pt x="85" y="98"/>
                  </a:lnTo>
                  <a:lnTo>
                    <a:pt x="87" y="103"/>
                  </a:lnTo>
                  <a:lnTo>
                    <a:pt x="91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3" y="94"/>
                  </a:lnTo>
                  <a:lnTo>
                    <a:pt x="91" y="88"/>
                  </a:lnTo>
                  <a:lnTo>
                    <a:pt x="91" y="82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5"/>
                  </a:lnTo>
                  <a:lnTo>
                    <a:pt x="81" y="50"/>
                  </a:lnTo>
                  <a:lnTo>
                    <a:pt x="79" y="44"/>
                  </a:lnTo>
                  <a:lnTo>
                    <a:pt x="77" y="42"/>
                  </a:lnTo>
                  <a:lnTo>
                    <a:pt x="77" y="38"/>
                  </a:lnTo>
                  <a:lnTo>
                    <a:pt x="73" y="29"/>
                  </a:lnTo>
                  <a:lnTo>
                    <a:pt x="71" y="27"/>
                  </a:lnTo>
                  <a:lnTo>
                    <a:pt x="71" y="25"/>
                  </a:lnTo>
                  <a:lnTo>
                    <a:pt x="69" y="19"/>
                  </a:lnTo>
                  <a:lnTo>
                    <a:pt x="66" y="15"/>
                  </a:lnTo>
                  <a:lnTo>
                    <a:pt x="66" y="13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16" y="46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2" y="61"/>
                  </a:lnTo>
                  <a:lnTo>
                    <a:pt x="12" y="65"/>
                  </a:lnTo>
                  <a:lnTo>
                    <a:pt x="8" y="77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4"/>
                  </a:lnTo>
                  <a:lnTo>
                    <a:pt x="2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30360" y="1301760"/>
              <a:ext cx="5731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0360" y="1284120"/>
              <a:ext cx="5220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31"/>
                  </a:moveTo>
                  <a:lnTo>
                    <a:pt x="0" y="15"/>
                  </a:lnTo>
                  <a:lnTo>
                    <a:pt x="33" y="0"/>
                  </a:lnTo>
                  <a:lnTo>
                    <a:pt x="15" y="1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7760" y="1260360"/>
              <a:ext cx="101520" cy="968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9" y="48"/>
                  </a:moveTo>
                  <a:lnTo>
                    <a:pt x="42" y="42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42" y="19"/>
                  </a:lnTo>
                  <a:lnTo>
                    <a:pt x="39" y="13"/>
                  </a:lnTo>
                  <a:lnTo>
                    <a:pt x="18" y="30"/>
                  </a:lnTo>
                  <a:lnTo>
                    <a:pt x="39" y="48"/>
                  </a:lnTo>
                  <a:lnTo>
                    <a:pt x="64" y="61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64" y="0"/>
                  </a:lnTo>
                  <a:lnTo>
                    <a:pt x="0" y="30"/>
                  </a:lnTo>
                  <a:lnTo>
                    <a:pt x="64" y="61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0360" y="1347840"/>
              <a:ext cx="18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172200" y="1087560"/>
            <a:ext cx="2712960" cy="2185920"/>
            <a:chOff x="6172200" y="1087560"/>
            <a:chExt cx="2712960" cy="2185920"/>
          </a:xfrm>
        </p:grpSpPr>
        <p:sp>
          <p:nvSpPr>
            <p:cNvPr id="176" name=""/>
            <p:cNvSpPr/>
            <p:nvPr/>
          </p:nvSpPr>
          <p:spPr>
            <a:xfrm>
              <a:off x="7431120" y="145908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0" y="0"/>
                  </a:moveTo>
                  <a:lnTo>
                    <a:pt x="229" y="0"/>
                  </a:lnTo>
                  <a:lnTo>
                    <a:pt x="113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13480" y="1447920"/>
              <a:ext cx="398520" cy="395280"/>
            </a:xfrm>
            <a:custGeom>
              <a:avLst/>
              <a:gdLst/>
              <a:ahLst/>
              <a:rect l="l" t="t" r="r" b="b"/>
              <a:pathLst>
                <a:path w="251" h="249">
                  <a:moveTo>
                    <a:pt x="19" y="3"/>
                  </a:moveTo>
                  <a:lnTo>
                    <a:pt x="11" y="15"/>
                  </a:lnTo>
                  <a:lnTo>
                    <a:pt x="240" y="15"/>
                  </a:lnTo>
                  <a:lnTo>
                    <a:pt x="232" y="3"/>
                  </a:lnTo>
                  <a:lnTo>
                    <a:pt x="117" y="230"/>
                  </a:lnTo>
                  <a:lnTo>
                    <a:pt x="132" y="230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24" y="24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1120" y="1806840"/>
              <a:ext cx="363600" cy="2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8200" y="1809720"/>
              <a:ext cx="298440" cy="20160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77" y="0"/>
                  </a:moveTo>
                  <a:lnTo>
                    <a:pt x="84" y="114"/>
                  </a:lnTo>
                  <a:lnTo>
                    <a:pt x="90" y="112"/>
                  </a:lnTo>
                  <a:lnTo>
                    <a:pt x="0" y="112"/>
                  </a:lnTo>
                  <a:lnTo>
                    <a:pt x="0" y="127"/>
                  </a:lnTo>
                  <a:lnTo>
                    <a:pt x="94" y="127"/>
                  </a:lnTo>
                  <a:lnTo>
                    <a:pt x="188" y="12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99240" y="1819440"/>
              <a:ext cx="237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0320" y="1087560"/>
              <a:ext cx="1282680" cy="1201680"/>
            </a:xfrm>
            <a:custGeom>
              <a:avLst/>
              <a:gdLst/>
              <a:ahLst/>
              <a:rect l="l" t="t" r="r" b="b"/>
              <a:pathLst>
                <a:path w="808" h="757">
                  <a:moveTo>
                    <a:pt x="808" y="234"/>
                  </a:moveTo>
                  <a:lnTo>
                    <a:pt x="808" y="0"/>
                  </a:lnTo>
                  <a:lnTo>
                    <a:pt x="0" y="0"/>
                  </a:lnTo>
                  <a:lnTo>
                    <a:pt x="0" y="757"/>
                  </a:lnTo>
                  <a:lnTo>
                    <a:pt x="15" y="757"/>
                  </a:lnTo>
                  <a:lnTo>
                    <a:pt x="15" y="8"/>
                  </a:lnTo>
                  <a:lnTo>
                    <a:pt x="7" y="15"/>
                  </a:lnTo>
                  <a:lnTo>
                    <a:pt x="800" y="15"/>
                  </a:lnTo>
                  <a:lnTo>
                    <a:pt x="793" y="8"/>
                  </a:lnTo>
                  <a:lnTo>
                    <a:pt x="793" y="234"/>
                  </a:lnTo>
                  <a:lnTo>
                    <a:pt x="808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72200" y="2276640"/>
              <a:ext cx="360360" cy="23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78400" y="2349720"/>
              <a:ext cx="14616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31120" y="2530440"/>
              <a:ext cx="363600" cy="24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1120" y="254160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113" y="0"/>
                  </a:moveTo>
                  <a:lnTo>
                    <a:pt x="229" y="227"/>
                  </a:lnTo>
                  <a:lnTo>
                    <a:pt x="0" y="22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13480" y="2517840"/>
              <a:ext cx="398520" cy="39708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132" y="19"/>
                  </a:moveTo>
                  <a:lnTo>
                    <a:pt x="117" y="19"/>
                  </a:lnTo>
                  <a:lnTo>
                    <a:pt x="232" y="246"/>
                  </a:lnTo>
                  <a:lnTo>
                    <a:pt x="240" y="234"/>
                  </a:lnTo>
                  <a:lnTo>
                    <a:pt x="11" y="234"/>
                  </a:lnTo>
                  <a:lnTo>
                    <a:pt x="19" y="246"/>
                  </a:lnTo>
                  <a:lnTo>
                    <a:pt x="132" y="19"/>
                  </a:lnTo>
                  <a:lnTo>
                    <a:pt x="124" y="0"/>
                  </a:lnTo>
                  <a:lnTo>
                    <a:pt x="0" y="250"/>
                  </a:lnTo>
                  <a:lnTo>
                    <a:pt x="251" y="250"/>
                  </a:lnTo>
                  <a:lnTo>
                    <a:pt x="124" y="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0320" y="2362320"/>
              <a:ext cx="1282680" cy="91116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793" y="340"/>
                  </a:moveTo>
                  <a:lnTo>
                    <a:pt x="793" y="566"/>
                  </a:lnTo>
                  <a:lnTo>
                    <a:pt x="800" y="559"/>
                  </a:lnTo>
                  <a:lnTo>
                    <a:pt x="7" y="559"/>
                  </a:lnTo>
                  <a:lnTo>
                    <a:pt x="15" y="56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08" y="574"/>
                  </a:lnTo>
                  <a:lnTo>
                    <a:pt x="808" y="340"/>
                  </a:lnTo>
                  <a:lnTo>
                    <a:pt x="793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10400" y="2170080"/>
              <a:ext cx="54288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53280" y="1998720"/>
              <a:ext cx="36360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42120" y="1987560"/>
              <a:ext cx="384480" cy="38736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0" y="121"/>
                  </a:moveTo>
                  <a:lnTo>
                    <a:pt x="0" y="140"/>
                  </a:lnTo>
                  <a:lnTo>
                    <a:pt x="3" y="151"/>
                  </a:lnTo>
                  <a:lnTo>
                    <a:pt x="3" y="157"/>
                  </a:lnTo>
                  <a:lnTo>
                    <a:pt x="5" y="163"/>
                  </a:lnTo>
                  <a:lnTo>
                    <a:pt x="11" y="174"/>
                  </a:lnTo>
                  <a:lnTo>
                    <a:pt x="15" y="178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3" y="194"/>
                  </a:lnTo>
                  <a:lnTo>
                    <a:pt x="48" y="219"/>
                  </a:lnTo>
                  <a:lnTo>
                    <a:pt x="53" y="220"/>
                  </a:lnTo>
                  <a:lnTo>
                    <a:pt x="57" y="224"/>
                  </a:lnTo>
                  <a:lnTo>
                    <a:pt x="61" y="226"/>
                  </a:lnTo>
                  <a:lnTo>
                    <a:pt x="67" y="232"/>
                  </a:lnTo>
                  <a:lnTo>
                    <a:pt x="73" y="234"/>
                  </a:lnTo>
                  <a:lnTo>
                    <a:pt x="76" y="236"/>
                  </a:lnTo>
                  <a:lnTo>
                    <a:pt x="96" y="242"/>
                  </a:lnTo>
                  <a:lnTo>
                    <a:pt x="107" y="242"/>
                  </a:lnTo>
                  <a:lnTo>
                    <a:pt x="113" y="244"/>
                  </a:lnTo>
                  <a:lnTo>
                    <a:pt x="128" y="244"/>
                  </a:lnTo>
                  <a:lnTo>
                    <a:pt x="134" y="242"/>
                  </a:lnTo>
                  <a:lnTo>
                    <a:pt x="146" y="242"/>
                  </a:lnTo>
                  <a:lnTo>
                    <a:pt x="153" y="240"/>
                  </a:lnTo>
                  <a:lnTo>
                    <a:pt x="157" y="238"/>
                  </a:lnTo>
                  <a:lnTo>
                    <a:pt x="174" y="230"/>
                  </a:lnTo>
                  <a:lnTo>
                    <a:pt x="178" y="226"/>
                  </a:lnTo>
                  <a:lnTo>
                    <a:pt x="184" y="224"/>
                  </a:lnTo>
                  <a:lnTo>
                    <a:pt x="188" y="220"/>
                  </a:lnTo>
                  <a:lnTo>
                    <a:pt x="192" y="219"/>
                  </a:lnTo>
                  <a:lnTo>
                    <a:pt x="197" y="215"/>
                  </a:lnTo>
                  <a:lnTo>
                    <a:pt x="203" y="211"/>
                  </a:lnTo>
                  <a:lnTo>
                    <a:pt x="211" y="201"/>
                  </a:lnTo>
                  <a:lnTo>
                    <a:pt x="213" y="197"/>
                  </a:lnTo>
                  <a:lnTo>
                    <a:pt x="217" y="196"/>
                  </a:lnTo>
                  <a:lnTo>
                    <a:pt x="220" y="188"/>
                  </a:lnTo>
                  <a:lnTo>
                    <a:pt x="222" y="184"/>
                  </a:lnTo>
                  <a:lnTo>
                    <a:pt x="226" y="178"/>
                  </a:lnTo>
                  <a:lnTo>
                    <a:pt x="230" y="174"/>
                  </a:lnTo>
                  <a:lnTo>
                    <a:pt x="234" y="163"/>
                  </a:lnTo>
                  <a:lnTo>
                    <a:pt x="236" y="159"/>
                  </a:lnTo>
                  <a:lnTo>
                    <a:pt x="240" y="146"/>
                  </a:lnTo>
                  <a:lnTo>
                    <a:pt x="240" y="134"/>
                  </a:lnTo>
                  <a:lnTo>
                    <a:pt x="242" y="128"/>
                  </a:lnTo>
                  <a:lnTo>
                    <a:pt x="242" y="113"/>
                  </a:lnTo>
                  <a:lnTo>
                    <a:pt x="240" y="107"/>
                  </a:lnTo>
                  <a:lnTo>
                    <a:pt x="240" y="96"/>
                  </a:lnTo>
                  <a:lnTo>
                    <a:pt x="234" y="76"/>
                  </a:lnTo>
                  <a:lnTo>
                    <a:pt x="232" y="73"/>
                  </a:lnTo>
                  <a:lnTo>
                    <a:pt x="226" y="61"/>
                  </a:lnTo>
                  <a:lnTo>
                    <a:pt x="222" y="57"/>
                  </a:lnTo>
                  <a:lnTo>
                    <a:pt x="220" y="53"/>
                  </a:lnTo>
                  <a:lnTo>
                    <a:pt x="217" y="46"/>
                  </a:lnTo>
                  <a:lnTo>
                    <a:pt x="213" y="44"/>
                  </a:lnTo>
                  <a:lnTo>
                    <a:pt x="211" y="40"/>
                  </a:lnTo>
                  <a:lnTo>
                    <a:pt x="203" y="30"/>
                  </a:lnTo>
                  <a:lnTo>
                    <a:pt x="197" y="27"/>
                  </a:lnTo>
                  <a:lnTo>
                    <a:pt x="192" y="23"/>
                  </a:lnTo>
                  <a:lnTo>
                    <a:pt x="188" y="21"/>
                  </a:lnTo>
                  <a:lnTo>
                    <a:pt x="184" y="17"/>
                  </a:lnTo>
                  <a:lnTo>
                    <a:pt x="178" y="15"/>
                  </a:lnTo>
                  <a:lnTo>
                    <a:pt x="174" y="11"/>
                  </a:lnTo>
                  <a:lnTo>
                    <a:pt x="155" y="3"/>
                  </a:lnTo>
                  <a:lnTo>
                    <a:pt x="151" y="3"/>
                  </a:lnTo>
                  <a:lnTo>
                    <a:pt x="140" y="0"/>
                  </a:lnTo>
                  <a:lnTo>
                    <a:pt x="101" y="0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6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1" y="15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6"/>
                  </a:lnTo>
                  <a:lnTo>
                    <a:pt x="3" y="84"/>
                  </a:lnTo>
                  <a:lnTo>
                    <a:pt x="3" y="90"/>
                  </a:lnTo>
                  <a:lnTo>
                    <a:pt x="0" y="101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15" y="105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1" y="84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6" y="69"/>
                  </a:lnTo>
                  <a:lnTo>
                    <a:pt x="28" y="65"/>
                  </a:lnTo>
                  <a:lnTo>
                    <a:pt x="32" y="61"/>
                  </a:lnTo>
                  <a:lnTo>
                    <a:pt x="34" y="55"/>
                  </a:lnTo>
                  <a:lnTo>
                    <a:pt x="55" y="34"/>
                  </a:lnTo>
                  <a:lnTo>
                    <a:pt x="61" y="32"/>
                  </a:lnTo>
                  <a:lnTo>
                    <a:pt x="65" y="28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3"/>
                  </a:lnTo>
                  <a:lnTo>
                    <a:pt x="84" y="21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105" y="15"/>
                  </a:lnTo>
                  <a:lnTo>
                    <a:pt x="136" y="15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6" y="28"/>
                  </a:lnTo>
                  <a:lnTo>
                    <a:pt x="180" y="32"/>
                  </a:lnTo>
                  <a:lnTo>
                    <a:pt x="184" y="34"/>
                  </a:lnTo>
                  <a:lnTo>
                    <a:pt x="186" y="38"/>
                  </a:lnTo>
                  <a:lnTo>
                    <a:pt x="192" y="42"/>
                  </a:lnTo>
                  <a:lnTo>
                    <a:pt x="199" y="48"/>
                  </a:lnTo>
                  <a:lnTo>
                    <a:pt x="201" y="51"/>
                  </a:lnTo>
                  <a:lnTo>
                    <a:pt x="205" y="57"/>
                  </a:lnTo>
                  <a:lnTo>
                    <a:pt x="209" y="61"/>
                  </a:lnTo>
                  <a:lnTo>
                    <a:pt x="211" y="65"/>
                  </a:lnTo>
                  <a:lnTo>
                    <a:pt x="215" y="69"/>
                  </a:lnTo>
                  <a:lnTo>
                    <a:pt x="217" y="80"/>
                  </a:lnTo>
                  <a:lnTo>
                    <a:pt x="219" y="84"/>
                  </a:lnTo>
                  <a:lnTo>
                    <a:pt x="224" y="99"/>
                  </a:lnTo>
                  <a:lnTo>
                    <a:pt x="224" y="111"/>
                  </a:lnTo>
                  <a:lnTo>
                    <a:pt x="226" y="117"/>
                  </a:lnTo>
                  <a:lnTo>
                    <a:pt x="226" y="124"/>
                  </a:lnTo>
                  <a:lnTo>
                    <a:pt x="224" y="130"/>
                  </a:lnTo>
                  <a:lnTo>
                    <a:pt x="224" y="142"/>
                  </a:lnTo>
                  <a:lnTo>
                    <a:pt x="220" y="151"/>
                  </a:lnTo>
                  <a:lnTo>
                    <a:pt x="219" y="155"/>
                  </a:lnTo>
                  <a:lnTo>
                    <a:pt x="215" y="167"/>
                  </a:lnTo>
                  <a:lnTo>
                    <a:pt x="215" y="171"/>
                  </a:lnTo>
                  <a:lnTo>
                    <a:pt x="211" y="176"/>
                  </a:lnTo>
                  <a:lnTo>
                    <a:pt x="209" y="180"/>
                  </a:lnTo>
                  <a:lnTo>
                    <a:pt x="205" y="184"/>
                  </a:lnTo>
                  <a:lnTo>
                    <a:pt x="201" y="190"/>
                  </a:lnTo>
                  <a:lnTo>
                    <a:pt x="199" y="194"/>
                  </a:lnTo>
                  <a:lnTo>
                    <a:pt x="192" y="199"/>
                  </a:lnTo>
                  <a:lnTo>
                    <a:pt x="186" y="203"/>
                  </a:lnTo>
                  <a:lnTo>
                    <a:pt x="184" y="207"/>
                  </a:lnTo>
                  <a:lnTo>
                    <a:pt x="180" y="209"/>
                  </a:lnTo>
                  <a:lnTo>
                    <a:pt x="176" y="213"/>
                  </a:lnTo>
                  <a:lnTo>
                    <a:pt x="170" y="215"/>
                  </a:lnTo>
                  <a:lnTo>
                    <a:pt x="167" y="219"/>
                  </a:lnTo>
                  <a:lnTo>
                    <a:pt x="149" y="222"/>
                  </a:lnTo>
                  <a:lnTo>
                    <a:pt x="146" y="224"/>
                  </a:lnTo>
                  <a:lnTo>
                    <a:pt x="142" y="226"/>
                  </a:lnTo>
                  <a:lnTo>
                    <a:pt x="130" y="226"/>
                  </a:lnTo>
                  <a:lnTo>
                    <a:pt x="124" y="228"/>
                  </a:lnTo>
                  <a:lnTo>
                    <a:pt x="117" y="228"/>
                  </a:lnTo>
                  <a:lnTo>
                    <a:pt x="111" y="226"/>
                  </a:lnTo>
                  <a:lnTo>
                    <a:pt x="99" y="226"/>
                  </a:lnTo>
                  <a:lnTo>
                    <a:pt x="84" y="220"/>
                  </a:lnTo>
                  <a:lnTo>
                    <a:pt x="80" y="219"/>
                  </a:lnTo>
                  <a:lnTo>
                    <a:pt x="74" y="217"/>
                  </a:lnTo>
                  <a:lnTo>
                    <a:pt x="69" y="215"/>
                  </a:lnTo>
                  <a:lnTo>
                    <a:pt x="65" y="213"/>
                  </a:lnTo>
                  <a:lnTo>
                    <a:pt x="61" y="209"/>
                  </a:lnTo>
                  <a:lnTo>
                    <a:pt x="55" y="207"/>
                  </a:lnTo>
                  <a:lnTo>
                    <a:pt x="34" y="186"/>
                  </a:lnTo>
                  <a:lnTo>
                    <a:pt x="32" y="180"/>
                  </a:lnTo>
                  <a:lnTo>
                    <a:pt x="28" y="176"/>
                  </a:lnTo>
                  <a:lnTo>
                    <a:pt x="26" y="171"/>
                  </a:lnTo>
                  <a:lnTo>
                    <a:pt x="23" y="167"/>
                  </a:lnTo>
                  <a:lnTo>
                    <a:pt x="21" y="155"/>
                  </a:lnTo>
                  <a:lnTo>
                    <a:pt x="19" y="153"/>
                  </a:lnTo>
                  <a:lnTo>
                    <a:pt x="19" y="148"/>
                  </a:lnTo>
                  <a:lnTo>
                    <a:pt x="15" y="136"/>
                  </a:lnTo>
                  <a:lnTo>
                    <a:pt x="15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21760" y="1998720"/>
              <a:ext cx="23760" cy="3636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0400" y="2170080"/>
              <a:ext cx="1274760" cy="1103400"/>
            </a:xfrm>
            <a:custGeom>
              <a:avLst/>
              <a:gdLst/>
              <a:ahLst/>
              <a:rect l="l" t="t" r="r" b="b"/>
              <a:pathLst>
                <a:path w="803" h="695">
                  <a:moveTo>
                    <a:pt x="569" y="15"/>
                  </a:moveTo>
                  <a:lnTo>
                    <a:pt x="795" y="15"/>
                  </a:lnTo>
                  <a:lnTo>
                    <a:pt x="788" y="8"/>
                  </a:lnTo>
                  <a:lnTo>
                    <a:pt x="788" y="687"/>
                  </a:lnTo>
                  <a:lnTo>
                    <a:pt x="795" y="680"/>
                  </a:lnTo>
                  <a:lnTo>
                    <a:pt x="0" y="680"/>
                  </a:lnTo>
                  <a:lnTo>
                    <a:pt x="0" y="695"/>
                  </a:lnTo>
                  <a:lnTo>
                    <a:pt x="803" y="695"/>
                  </a:lnTo>
                  <a:lnTo>
                    <a:pt x="803" y="0"/>
                  </a:lnTo>
                  <a:lnTo>
                    <a:pt x="569" y="0"/>
                  </a:lnTo>
                  <a:lnTo>
                    <a:pt x="56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94800" y="1316160"/>
              <a:ext cx="12600" cy="61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77160" y="13161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1600" y="1303560"/>
              <a:ext cx="9864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14" y="39"/>
                  </a:moveTo>
                  <a:lnTo>
                    <a:pt x="19" y="43"/>
                  </a:lnTo>
                  <a:lnTo>
                    <a:pt x="35" y="10"/>
                  </a:lnTo>
                  <a:lnTo>
                    <a:pt x="27" y="10"/>
                  </a:lnTo>
                  <a:lnTo>
                    <a:pt x="42" y="43"/>
                  </a:lnTo>
                  <a:lnTo>
                    <a:pt x="48" y="39"/>
                  </a:lnTo>
                  <a:lnTo>
                    <a:pt x="31" y="18"/>
                  </a:lnTo>
                  <a:lnTo>
                    <a:pt x="14" y="39"/>
                  </a:lnTo>
                  <a:lnTo>
                    <a:pt x="0" y="64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62" y="64"/>
                  </a:lnTo>
                  <a:lnTo>
                    <a:pt x="31" y="0"/>
                  </a:lnTo>
                  <a:lnTo>
                    <a:pt x="0" y="64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0" y="2432160"/>
              <a:ext cx="1260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77160" y="243216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58080" y="2419560"/>
              <a:ext cx="85680" cy="9216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10" y="39"/>
                  </a:moveTo>
                  <a:lnTo>
                    <a:pt x="15" y="43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38" y="43"/>
                  </a:lnTo>
                  <a:lnTo>
                    <a:pt x="44" y="39"/>
                  </a:lnTo>
                  <a:lnTo>
                    <a:pt x="27" y="21"/>
                  </a:lnTo>
                  <a:lnTo>
                    <a:pt x="10" y="39"/>
                  </a:lnTo>
                  <a:lnTo>
                    <a:pt x="0" y="58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54" y="58"/>
                  </a:lnTo>
                  <a:lnTo>
                    <a:pt x="27" y="0"/>
                  </a:lnTo>
                  <a:lnTo>
                    <a:pt x="0" y="58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35880" y="2144880"/>
              <a:ext cx="126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13560" y="2144880"/>
              <a:ext cx="5220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31"/>
                  </a:moveTo>
                  <a:lnTo>
                    <a:pt x="18" y="0"/>
                  </a:lnTo>
                  <a:lnTo>
                    <a:pt x="33" y="31"/>
                  </a:lnTo>
                  <a:lnTo>
                    <a:pt x="18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89800" y="2133720"/>
              <a:ext cx="9828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14" y="36"/>
                  </a:moveTo>
                  <a:lnTo>
                    <a:pt x="19" y="40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44" y="40"/>
                  </a:lnTo>
                  <a:lnTo>
                    <a:pt x="50" y="36"/>
                  </a:lnTo>
                  <a:lnTo>
                    <a:pt x="33" y="19"/>
                  </a:lnTo>
                  <a:lnTo>
                    <a:pt x="14" y="36"/>
                  </a:lnTo>
                  <a:lnTo>
                    <a:pt x="0" y="56"/>
                  </a:lnTo>
                  <a:lnTo>
                    <a:pt x="35" y="25"/>
                  </a:lnTo>
                  <a:lnTo>
                    <a:pt x="31" y="25"/>
                  </a:lnTo>
                  <a:lnTo>
                    <a:pt x="62" y="57"/>
                  </a:lnTo>
                  <a:lnTo>
                    <a:pt x="33" y="0"/>
                  </a:lnTo>
                  <a:lnTo>
                    <a:pt x="0" y="5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83480" y="2176560"/>
              <a:ext cx="146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78880" y="21542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2" y="18"/>
                  </a:lnTo>
                  <a:lnTo>
                    <a:pt x="0" y="33"/>
                  </a:lnTo>
                  <a:lnTo>
                    <a:pt x="15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50440" y="2133720"/>
              <a:ext cx="9180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9" y="11"/>
                  </a:moveTo>
                  <a:lnTo>
                    <a:pt x="16" y="17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16" y="42"/>
                  </a:lnTo>
                  <a:lnTo>
                    <a:pt x="19" y="48"/>
                  </a:lnTo>
                  <a:lnTo>
                    <a:pt x="37" y="31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31" y="32"/>
                  </a:lnTo>
                  <a:lnTo>
                    <a:pt x="31" y="29"/>
                  </a:lnTo>
                  <a:lnTo>
                    <a:pt x="0" y="57"/>
                  </a:lnTo>
                  <a:lnTo>
                    <a:pt x="58" y="31"/>
                  </a:lnTo>
                  <a:lnTo>
                    <a:pt x="0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5720" y="1928880"/>
              <a:ext cx="11160" cy="14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6640" y="20210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15" y="32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62880" y="19843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50" y="25"/>
                  </a:moveTo>
                  <a:lnTo>
                    <a:pt x="44" y="21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50" y="25"/>
                  </a:lnTo>
                  <a:lnTo>
                    <a:pt x="63" y="4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3" y="4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05720" y="2252880"/>
              <a:ext cx="111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86640" y="23828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0"/>
                  </a:moveTo>
                  <a:lnTo>
                    <a:pt x="15" y="31"/>
                  </a:lnTo>
                  <a:lnTo>
                    <a:pt x="0" y="0"/>
                  </a:lnTo>
                  <a:lnTo>
                    <a:pt x="15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6120" y="2352960"/>
              <a:ext cx="96840" cy="9180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48" y="21"/>
                  </a:moveTo>
                  <a:lnTo>
                    <a:pt x="42" y="17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17" y="17"/>
                  </a:lnTo>
                  <a:lnTo>
                    <a:pt x="11" y="21"/>
                  </a:lnTo>
                  <a:lnTo>
                    <a:pt x="28" y="39"/>
                  </a:lnTo>
                  <a:lnTo>
                    <a:pt x="48" y="21"/>
                  </a:lnTo>
                  <a:lnTo>
                    <a:pt x="61" y="2"/>
                  </a:lnTo>
                  <a:lnTo>
                    <a:pt x="27" y="33"/>
                  </a:lnTo>
                  <a:lnTo>
                    <a:pt x="30" y="33"/>
                  </a:lnTo>
                  <a:lnTo>
                    <a:pt x="0" y="0"/>
                  </a:lnTo>
                  <a:lnTo>
                    <a:pt x="28" y="58"/>
                  </a:lnTo>
                  <a:lnTo>
                    <a:pt x="61" y="2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4440" y="22590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62120" y="153540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81200" y="260856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67040" y="1462320"/>
              <a:ext cx="15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79520" y="191448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3040" y="223380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38560" y="188604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51040" y="1938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45360" y="1495440"/>
              <a:ext cx="12600" cy="254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7720" y="1495440"/>
              <a:ext cx="49320" cy="525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3"/>
                  </a:moveTo>
                  <a:lnTo>
                    <a:pt x="15" y="0"/>
                  </a:lnTo>
                  <a:lnTo>
                    <a:pt x="31" y="33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3960" y="148428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13" y="38"/>
                  </a:moveTo>
                  <a:lnTo>
                    <a:pt x="19" y="42"/>
                  </a:lnTo>
                  <a:lnTo>
                    <a:pt x="34" y="9"/>
                  </a:lnTo>
                  <a:lnTo>
                    <a:pt x="26" y="9"/>
                  </a:lnTo>
                  <a:lnTo>
                    <a:pt x="42" y="42"/>
                  </a:lnTo>
                  <a:lnTo>
                    <a:pt x="48" y="38"/>
                  </a:lnTo>
                  <a:lnTo>
                    <a:pt x="30" y="17"/>
                  </a:lnTo>
                  <a:lnTo>
                    <a:pt x="13" y="38"/>
                  </a:lnTo>
                  <a:lnTo>
                    <a:pt x="0" y="6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61" y="63"/>
                  </a:lnTo>
                  <a:lnTo>
                    <a:pt x="30" y="0"/>
                  </a:lnTo>
                  <a:lnTo>
                    <a:pt x="0" y="63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2600" y="1727280"/>
              <a:ext cx="576360" cy="463680"/>
            </a:xfrm>
            <a:custGeom>
              <a:avLst/>
              <a:gdLst/>
              <a:ahLst/>
              <a:rect l="l" t="t" r="r" b="b"/>
              <a:pathLst>
                <a:path w="363" h="292">
                  <a:moveTo>
                    <a:pt x="363" y="277"/>
                  </a:moveTo>
                  <a:lnTo>
                    <a:pt x="7" y="277"/>
                  </a:lnTo>
                  <a:lnTo>
                    <a:pt x="15" y="28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92"/>
                  </a:lnTo>
                  <a:lnTo>
                    <a:pt x="363" y="292"/>
                  </a:lnTo>
                  <a:lnTo>
                    <a:pt x="363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2600" y="1246320"/>
              <a:ext cx="566640" cy="334800"/>
            </a:xfrm>
            <a:custGeom>
              <a:avLst/>
              <a:gdLst/>
              <a:ahLst/>
              <a:rect l="l" t="t" r="r" b="b"/>
              <a:pathLst>
                <a:path w="357" h="211">
                  <a:moveTo>
                    <a:pt x="15" y="211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357" y="15"/>
                  </a:lnTo>
                  <a:lnTo>
                    <a:pt x="357" y="0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1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00840" y="1568520"/>
              <a:ext cx="285840" cy="25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00840" y="1710000"/>
              <a:ext cx="28584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32600" y="1828800"/>
              <a:ext cx="1116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3520" y="200520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15" y="33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89760" y="196848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48" y="25"/>
                  </a:moveTo>
                  <a:lnTo>
                    <a:pt x="42" y="21"/>
                  </a:lnTo>
                  <a:lnTo>
                    <a:pt x="27" y="54"/>
                  </a:lnTo>
                  <a:lnTo>
                    <a:pt x="34" y="54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6"/>
                  </a:lnTo>
                  <a:lnTo>
                    <a:pt x="48" y="25"/>
                  </a:lnTo>
                  <a:lnTo>
                    <a:pt x="61" y="0"/>
                  </a:lnTo>
                  <a:lnTo>
                    <a:pt x="28" y="39"/>
                  </a:lnTo>
                  <a:lnTo>
                    <a:pt x="32" y="39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1" y="0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5240" y="194148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57200" y="3809880"/>
            <a:ext cx="44956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O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Amorçage sans p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e CALC stocke de l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Blocage commandé inter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3809880"/>
            <a:ext cx="474516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DO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locage sans p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e CALC stocke de l’é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Amorçage commandé inter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95880"/>
            <a:ext cx="65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Il faut donc 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éinitialiser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 l’élément réa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DF25-10A0-4840-BB88-167C4FF29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nterrupteur quasi-résonn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205740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19320" y="2743200"/>
            <a:ext cx="2712960" cy="2359080"/>
            <a:chOff x="1219320" y="2743200"/>
            <a:chExt cx="2712960" cy="2359080"/>
          </a:xfrm>
        </p:grpSpPr>
        <p:sp>
          <p:nvSpPr>
            <p:cNvPr id="236" name=""/>
            <p:cNvSpPr/>
            <p:nvPr/>
          </p:nvSpPr>
          <p:spPr>
            <a:xfrm>
              <a:off x="1380960" y="2916360"/>
              <a:ext cx="371520" cy="1201680"/>
            </a:xfrm>
            <a:custGeom>
              <a:avLst/>
              <a:gdLst/>
              <a:ahLst/>
              <a:rect l="l" t="t" r="r" b="b"/>
              <a:pathLst>
                <a:path w="234" h="757">
                  <a:moveTo>
                    <a:pt x="15" y="757"/>
                  </a:moveTo>
                  <a:lnTo>
                    <a:pt x="15" y="8"/>
                  </a:lnTo>
                  <a:lnTo>
                    <a:pt x="7" y="16"/>
                  </a:lnTo>
                  <a:lnTo>
                    <a:pt x="234" y="16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757"/>
                  </a:lnTo>
                  <a:lnTo>
                    <a:pt x="15" y="7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8240" y="3289320"/>
              <a:ext cx="363240" cy="35892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0" y="0"/>
                  </a:moveTo>
                  <a:lnTo>
                    <a:pt x="229" y="0"/>
                  </a:lnTo>
                  <a:lnTo>
                    <a:pt x="11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60600" y="3276720"/>
              <a:ext cx="398520" cy="39672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19" y="4"/>
                  </a:moveTo>
                  <a:lnTo>
                    <a:pt x="11" y="15"/>
                  </a:lnTo>
                  <a:lnTo>
                    <a:pt x="240" y="15"/>
                  </a:lnTo>
                  <a:lnTo>
                    <a:pt x="232" y="4"/>
                  </a:lnTo>
                  <a:lnTo>
                    <a:pt x="117" y="230"/>
                  </a:lnTo>
                  <a:lnTo>
                    <a:pt x="132" y="230"/>
                  </a:lnTo>
                  <a:lnTo>
                    <a:pt x="19" y="4"/>
                  </a:lnTo>
                  <a:lnTo>
                    <a:pt x="0" y="0"/>
                  </a:lnTo>
                  <a:lnTo>
                    <a:pt x="124" y="250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78240" y="3637080"/>
              <a:ext cx="36324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5320" y="3639960"/>
              <a:ext cx="225360" cy="93960"/>
            </a:xfrm>
            <a:custGeom>
              <a:avLst/>
              <a:gdLst/>
              <a:ahLst/>
              <a:rect l="l" t="t" r="r" b="b"/>
              <a:pathLst>
                <a:path w="142" h="59">
                  <a:moveTo>
                    <a:pt x="130" y="0"/>
                  </a:moveTo>
                  <a:lnTo>
                    <a:pt x="84" y="46"/>
                  </a:lnTo>
                  <a:lnTo>
                    <a:pt x="90" y="44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94" y="59"/>
                  </a:lnTo>
                  <a:lnTo>
                    <a:pt x="142" y="1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6360" y="3648240"/>
              <a:ext cx="23760" cy="71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19320" y="4105440"/>
              <a:ext cx="36036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25520" y="4175280"/>
              <a:ext cx="14616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78240" y="4356000"/>
              <a:ext cx="36324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8240" y="4367160"/>
              <a:ext cx="363240" cy="36360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13" y="0"/>
                  </a:moveTo>
                  <a:lnTo>
                    <a:pt x="229" y="229"/>
                  </a:lnTo>
                  <a:lnTo>
                    <a:pt x="0" y="22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60600" y="4343400"/>
              <a:ext cx="398520" cy="399960"/>
            </a:xfrm>
            <a:custGeom>
              <a:avLst/>
              <a:gdLst/>
              <a:ahLst/>
              <a:rect l="l" t="t" r="r" b="b"/>
              <a:pathLst>
                <a:path w="251" h="252">
                  <a:moveTo>
                    <a:pt x="132" y="19"/>
                  </a:moveTo>
                  <a:lnTo>
                    <a:pt x="117" y="19"/>
                  </a:lnTo>
                  <a:lnTo>
                    <a:pt x="232" y="248"/>
                  </a:lnTo>
                  <a:lnTo>
                    <a:pt x="240" y="236"/>
                  </a:lnTo>
                  <a:lnTo>
                    <a:pt x="11" y="236"/>
                  </a:lnTo>
                  <a:lnTo>
                    <a:pt x="19" y="248"/>
                  </a:lnTo>
                  <a:lnTo>
                    <a:pt x="132" y="19"/>
                  </a:lnTo>
                  <a:lnTo>
                    <a:pt x="124" y="0"/>
                  </a:lnTo>
                  <a:lnTo>
                    <a:pt x="0" y="252"/>
                  </a:lnTo>
                  <a:lnTo>
                    <a:pt x="251" y="252"/>
                  </a:lnTo>
                  <a:lnTo>
                    <a:pt x="124" y="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7440" y="4187880"/>
              <a:ext cx="1282680" cy="914400"/>
            </a:xfrm>
            <a:custGeom>
              <a:avLst/>
              <a:gdLst/>
              <a:ahLst/>
              <a:rect l="l" t="t" r="r" b="b"/>
              <a:pathLst>
                <a:path w="808" h="576">
                  <a:moveTo>
                    <a:pt x="793" y="342"/>
                  </a:moveTo>
                  <a:lnTo>
                    <a:pt x="793" y="568"/>
                  </a:lnTo>
                  <a:lnTo>
                    <a:pt x="800" y="561"/>
                  </a:lnTo>
                  <a:lnTo>
                    <a:pt x="7" y="561"/>
                  </a:lnTo>
                  <a:lnTo>
                    <a:pt x="15" y="56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76"/>
                  </a:lnTo>
                  <a:lnTo>
                    <a:pt x="808" y="576"/>
                  </a:lnTo>
                  <a:lnTo>
                    <a:pt x="808" y="342"/>
                  </a:lnTo>
                  <a:lnTo>
                    <a:pt x="79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57520" y="3995640"/>
              <a:ext cx="5428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828960"/>
              <a:ext cx="363600" cy="36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240" y="381636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0" y="121"/>
                  </a:moveTo>
                  <a:lnTo>
                    <a:pt x="0" y="140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11" y="175"/>
                  </a:lnTo>
                  <a:lnTo>
                    <a:pt x="15" y="178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3" y="192"/>
                  </a:lnTo>
                  <a:lnTo>
                    <a:pt x="26" y="198"/>
                  </a:lnTo>
                  <a:lnTo>
                    <a:pt x="30" y="203"/>
                  </a:lnTo>
                  <a:lnTo>
                    <a:pt x="40" y="211"/>
                  </a:lnTo>
                  <a:lnTo>
                    <a:pt x="44" y="213"/>
                  </a:lnTo>
                  <a:lnTo>
                    <a:pt x="46" y="217"/>
                  </a:lnTo>
                  <a:lnTo>
                    <a:pt x="53" y="221"/>
                  </a:lnTo>
                  <a:lnTo>
                    <a:pt x="57" y="223"/>
                  </a:lnTo>
                  <a:lnTo>
                    <a:pt x="61" y="226"/>
                  </a:lnTo>
                  <a:lnTo>
                    <a:pt x="73" y="232"/>
                  </a:lnTo>
                  <a:lnTo>
                    <a:pt x="76" y="234"/>
                  </a:lnTo>
                  <a:lnTo>
                    <a:pt x="96" y="240"/>
                  </a:lnTo>
                  <a:lnTo>
                    <a:pt x="107" y="240"/>
                  </a:lnTo>
                  <a:lnTo>
                    <a:pt x="113" y="242"/>
                  </a:lnTo>
                  <a:lnTo>
                    <a:pt x="128" y="242"/>
                  </a:lnTo>
                  <a:lnTo>
                    <a:pt x="134" y="240"/>
                  </a:lnTo>
                  <a:lnTo>
                    <a:pt x="146" y="240"/>
                  </a:lnTo>
                  <a:lnTo>
                    <a:pt x="153" y="238"/>
                  </a:lnTo>
                  <a:lnTo>
                    <a:pt x="157" y="236"/>
                  </a:lnTo>
                  <a:lnTo>
                    <a:pt x="174" y="230"/>
                  </a:lnTo>
                  <a:lnTo>
                    <a:pt x="178" y="226"/>
                  </a:lnTo>
                  <a:lnTo>
                    <a:pt x="184" y="223"/>
                  </a:lnTo>
                  <a:lnTo>
                    <a:pt x="188" y="221"/>
                  </a:lnTo>
                  <a:lnTo>
                    <a:pt x="195" y="213"/>
                  </a:lnTo>
                  <a:lnTo>
                    <a:pt x="201" y="211"/>
                  </a:lnTo>
                  <a:lnTo>
                    <a:pt x="211" y="201"/>
                  </a:lnTo>
                  <a:lnTo>
                    <a:pt x="213" y="196"/>
                  </a:lnTo>
                  <a:lnTo>
                    <a:pt x="220" y="188"/>
                  </a:lnTo>
                  <a:lnTo>
                    <a:pt x="222" y="184"/>
                  </a:lnTo>
                  <a:lnTo>
                    <a:pt x="226" y="178"/>
                  </a:lnTo>
                  <a:lnTo>
                    <a:pt x="230" y="175"/>
                  </a:lnTo>
                  <a:lnTo>
                    <a:pt x="236" y="157"/>
                  </a:lnTo>
                  <a:lnTo>
                    <a:pt x="238" y="153"/>
                  </a:lnTo>
                  <a:lnTo>
                    <a:pt x="240" y="146"/>
                  </a:lnTo>
                  <a:lnTo>
                    <a:pt x="240" y="134"/>
                  </a:lnTo>
                  <a:lnTo>
                    <a:pt x="242" y="129"/>
                  </a:lnTo>
                  <a:lnTo>
                    <a:pt x="242" y="113"/>
                  </a:lnTo>
                  <a:lnTo>
                    <a:pt x="240" y="107"/>
                  </a:lnTo>
                  <a:lnTo>
                    <a:pt x="240" y="96"/>
                  </a:lnTo>
                  <a:lnTo>
                    <a:pt x="234" y="77"/>
                  </a:lnTo>
                  <a:lnTo>
                    <a:pt x="232" y="73"/>
                  </a:lnTo>
                  <a:lnTo>
                    <a:pt x="226" y="61"/>
                  </a:lnTo>
                  <a:lnTo>
                    <a:pt x="222" y="57"/>
                  </a:lnTo>
                  <a:lnTo>
                    <a:pt x="220" y="54"/>
                  </a:lnTo>
                  <a:lnTo>
                    <a:pt x="217" y="46"/>
                  </a:lnTo>
                  <a:lnTo>
                    <a:pt x="213" y="44"/>
                  </a:lnTo>
                  <a:lnTo>
                    <a:pt x="211" y="40"/>
                  </a:lnTo>
                  <a:lnTo>
                    <a:pt x="203" y="31"/>
                  </a:lnTo>
                  <a:lnTo>
                    <a:pt x="197" y="27"/>
                  </a:lnTo>
                  <a:lnTo>
                    <a:pt x="192" y="23"/>
                  </a:lnTo>
                  <a:lnTo>
                    <a:pt x="188" y="21"/>
                  </a:lnTo>
                  <a:lnTo>
                    <a:pt x="184" y="17"/>
                  </a:lnTo>
                  <a:lnTo>
                    <a:pt x="178" y="15"/>
                  </a:lnTo>
                  <a:lnTo>
                    <a:pt x="174" y="11"/>
                  </a:lnTo>
                  <a:lnTo>
                    <a:pt x="155" y="4"/>
                  </a:lnTo>
                  <a:lnTo>
                    <a:pt x="151" y="4"/>
                  </a:lnTo>
                  <a:lnTo>
                    <a:pt x="140" y="0"/>
                  </a:lnTo>
                  <a:lnTo>
                    <a:pt x="101" y="0"/>
                  </a:lnTo>
                  <a:lnTo>
                    <a:pt x="90" y="4"/>
                  </a:lnTo>
                  <a:lnTo>
                    <a:pt x="84" y="4"/>
                  </a:lnTo>
                  <a:lnTo>
                    <a:pt x="76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5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23" y="48"/>
                  </a:lnTo>
                  <a:lnTo>
                    <a:pt x="21" y="54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7"/>
                  </a:lnTo>
                  <a:lnTo>
                    <a:pt x="3" y="84"/>
                  </a:lnTo>
                  <a:lnTo>
                    <a:pt x="3" y="90"/>
                  </a:lnTo>
                  <a:lnTo>
                    <a:pt x="0" y="102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15" y="105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1" y="84"/>
                  </a:lnTo>
                  <a:lnTo>
                    <a:pt x="23" y="81"/>
                  </a:lnTo>
                  <a:lnTo>
                    <a:pt x="25" y="75"/>
                  </a:lnTo>
                  <a:lnTo>
                    <a:pt x="26" y="69"/>
                  </a:lnTo>
                  <a:lnTo>
                    <a:pt x="28" y="65"/>
                  </a:lnTo>
                  <a:lnTo>
                    <a:pt x="32" y="61"/>
                  </a:lnTo>
                  <a:lnTo>
                    <a:pt x="34" y="56"/>
                  </a:lnTo>
                  <a:lnTo>
                    <a:pt x="55" y="34"/>
                  </a:lnTo>
                  <a:lnTo>
                    <a:pt x="61" y="33"/>
                  </a:lnTo>
                  <a:lnTo>
                    <a:pt x="65" y="29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3"/>
                  </a:lnTo>
                  <a:lnTo>
                    <a:pt x="84" y="21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105" y="15"/>
                  </a:lnTo>
                  <a:lnTo>
                    <a:pt x="136" y="15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6" y="29"/>
                  </a:lnTo>
                  <a:lnTo>
                    <a:pt x="180" y="33"/>
                  </a:lnTo>
                  <a:lnTo>
                    <a:pt x="184" y="34"/>
                  </a:lnTo>
                  <a:lnTo>
                    <a:pt x="186" y="38"/>
                  </a:lnTo>
                  <a:lnTo>
                    <a:pt x="192" y="42"/>
                  </a:lnTo>
                  <a:lnTo>
                    <a:pt x="199" y="48"/>
                  </a:lnTo>
                  <a:lnTo>
                    <a:pt x="201" y="52"/>
                  </a:lnTo>
                  <a:lnTo>
                    <a:pt x="205" y="57"/>
                  </a:lnTo>
                  <a:lnTo>
                    <a:pt x="209" y="61"/>
                  </a:lnTo>
                  <a:lnTo>
                    <a:pt x="211" y="65"/>
                  </a:lnTo>
                  <a:lnTo>
                    <a:pt x="215" y="69"/>
                  </a:lnTo>
                  <a:lnTo>
                    <a:pt x="217" y="81"/>
                  </a:lnTo>
                  <a:lnTo>
                    <a:pt x="219" y="84"/>
                  </a:lnTo>
                  <a:lnTo>
                    <a:pt x="224" y="100"/>
                  </a:lnTo>
                  <a:lnTo>
                    <a:pt x="224" y="111"/>
                  </a:lnTo>
                  <a:lnTo>
                    <a:pt x="226" y="117"/>
                  </a:lnTo>
                  <a:lnTo>
                    <a:pt x="226" y="125"/>
                  </a:lnTo>
                  <a:lnTo>
                    <a:pt x="224" y="130"/>
                  </a:lnTo>
                  <a:lnTo>
                    <a:pt x="224" y="142"/>
                  </a:lnTo>
                  <a:lnTo>
                    <a:pt x="222" y="146"/>
                  </a:lnTo>
                  <a:lnTo>
                    <a:pt x="220" y="150"/>
                  </a:lnTo>
                  <a:lnTo>
                    <a:pt x="215" y="167"/>
                  </a:lnTo>
                  <a:lnTo>
                    <a:pt x="215" y="171"/>
                  </a:lnTo>
                  <a:lnTo>
                    <a:pt x="211" y="177"/>
                  </a:lnTo>
                  <a:lnTo>
                    <a:pt x="209" y="180"/>
                  </a:lnTo>
                  <a:lnTo>
                    <a:pt x="201" y="188"/>
                  </a:lnTo>
                  <a:lnTo>
                    <a:pt x="199" y="194"/>
                  </a:lnTo>
                  <a:lnTo>
                    <a:pt x="194" y="200"/>
                  </a:lnTo>
                  <a:lnTo>
                    <a:pt x="188" y="201"/>
                  </a:lnTo>
                  <a:lnTo>
                    <a:pt x="180" y="209"/>
                  </a:lnTo>
                  <a:lnTo>
                    <a:pt x="176" y="211"/>
                  </a:lnTo>
                  <a:lnTo>
                    <a:pt x="170" y="215"/>
                  </a:lnTo>
                  <a:lnTo>
                    <a:pt x="167" y="215"/>
                  </a:lnTo>
                  <a:lnTo>
                    <a:pt x="149" y="221"/>
                  </a:lnTo>
                  <a:lnTo>
                    <a:pt x="146" y="223"/>
                  </a:lnTo>
                  <a:lnTo>
                    <a:pt x="142" y="225"/>
                  </a:lnTo>
                  <a:lnTo>
                    <a:pt x="130" y="225"/>
                  </a:lnTo>
                  <a:lnTo>
                    <a:pt x="124" y="226"/>
                  </a:lnTo>
                  <a:lnTo>
                    <a:pt x="117" y="226"/>
                  </a:lnTo>
                  <a:lnTo>
                    <a:pt x="111" y="225"/>
                  </a:lnTo>
                  <a:lnTo>
                    <a:pt x="99" y="225"/>
                  </a:lnTo>
                  <a:lnTo>
                    <a:pt x="84" y="219"/>
                  </a:lnTo>
                  <a:lnTo>
                    <a:pt x="80" y="217"/>
                  </a:lnTo>
                  <a:lnTo>
                    <a:pt x="69" y="215"/>
                  </a:lnTo>
                  <a:lnTo>
                    <a:pt x="65" y="211"/>
                  </a:lnTo>
                  <a:lnTo>
                    <a:pt x="61" y="209"/>
                  </a:lnTo>
                  <a:lnTo>
                    <a:pt x="57" y="205"/>
                  </a:lnTo>
                  <a:lnTo>
                    <a:pt x="51" y="201"/>
                  </a:lnTo>
                  <a:lnTo>
                    <a:pt x="48" y="200"/>
                  </a:lnTo>
                  <a:lnTo>
                    <a:pt x="42" y="192"/>
                  </a:lnTo>
                  <a:lnTo>
                    <a:pt x="38" y="186"/>
                  </a:lnTo>
                  <a:lnTo>
                    <a:pt x="34" y="184"/>
                  </a:lnTo>
                  <a:lnTo>
                    <a:pt x="32" y="180"/>
                  </a:lnTo>
                  <a:lnTo>
                    <a:pt x="28" y="177"/>
                  </a:lnTo>
                  <a:lnTo>
                    <a:pt x="26" y="171"/>
                  </a:lnTo>
                  <a:lnTo>
                    <a:pt x="23" y="167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5" y="136"/>
                  </a:lnTo>
                  <a:lnTo>
                    <a:pt x="15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68520" y="3828960"/>
              <a:ext cx="24120" cy="358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57520" y="3995640"/>
              <a:ext cx="1274760" cy="1106640"/>
            </a:xfrm>
            <a:custGeom>
              <a:avLst/>
              <a:gdLst/>
              <a:ahLst/>
              <a:rect l="l" t="t" r="r" b="b"/>
              <a:pathLst>
                <a:path w="803" h="697">
                  <a:moveTo>
                    <a:pt x="569" y="16"/>
                  </a:moveTo>
                  <a:lnTo>
                    <a:pt x="795" y="16"/>
                  </a:lnTo>
                  <a:lnTo>
                    <a:pt x="788" y="8"/>
                  </a:lnTo>
                  <a:lnTo>
                    <a:pt x="788" y="689"/>
                  </a:lnTo>
                  <a:lnTo>
                    <a:pt x="795" y="682"/>
                  </a:lnTo>
                  <a:lnTo>
                    <a:pt x="0" y="682"/>
                  </a:lnTo>
                  <a:lnTo>
                    <a:pt x="0" y="697"/>
                  </a:lnTo>
                  <a:lnTo>
                    <a:pt x="803" y="697"/>
                  </a:lnTo>
                  <a:lnTo>
                    <a:pt x="803" y="0"/>
                  </a:lnTo>
                  <a:lnTo>
                    <a:pt x="569" y="0"/>
                  </a:lnTo>
                  <a:lnTo>
                    <a:pt x="5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1560" y="3144960"/>
              <a:ext cx="12600" cy="61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24280" y="314496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31"/>
                  </a:moveTo>
                  <a:lnTo>
                    <a:pt x="15" y="0"/>
                  </a:lnTo>
                  <a:lnTo>
                    <a:pt x="30" y="31"/>
                  </a:lnTo>
                  <a:lnTo>
                    <a:pt x="15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01960" y="31338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2" y="36"/>
                  </a:moveTo>
                  <a:lnTo>
                    <a:pt x="17" y="40"/>
                  </a:lnTo>
                  <a:lnTo>
                    <a:pt x="33" y="9"/>
                  </a:lnTo>
                  <a:lnTo>
                    <a:pt x="25" y="9"/>
                  </a:lnTo>
                  <a:lnTo>
                    <a:pt x="40" y="40"/>
                  </a:lnTo>
                  <a:lnTo>
                    <a:pt x="46" y="36"/>
                  </a:lnTo>
                  <a:lnTo>
                    <a:pt x="29" y="19"/>
                  </a:lnTo>
                  <a:lnTo>
                    <a:pt x="12" y="36"/>
                  </a:lnTo>
                  <a:lnTo>
                    <a:pt x="0" y="57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58" y="57"/>
                  </a:lnTo>
                  <a:lnTo>
                    <a:pt x="29" y="0"/>
                  </a:lnTo>
                  <a:lnTo>
                    <a:pt x="0" y="57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41560" y="4260960"/>
              <a:ext cx="1260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24280" y="4260960"/>
              <a:ext cx="47520" cy="52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33"/>
                  </a:moveTo>
                  <a:lnTo>
                    <a:pt x="15" y="0"/>
                  </a:lnTo>
                  <a:lnTo>
                    <a:pt x="30" y="33"/>
                  </a:lnTo>
                  <a:lnTo>
                    <a:pt x="15" y="1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8720" y="4249800"/>
              <a:ext cx="9864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4" y="38"/>
                  </a:moveTo>
                  <a:lnTo>
                    <a:pt x="19" y="42"/>
                  </a:lnTo>
                  <a:lnTo>
                    <a:pt x="35" y="9"/>
                  </a:lnTo>
                  <a:lnTo>
                    <a:pt x="27" y="9"/>
                  </a:lnTo>
                  <a:lnTo>
                    <a:pt x="42" y="42"/>
                  </a:lnTo>
                  <a:lnTo>
                    <a:pt x="48" y="38"/>
                  </a:lnTo>
                  <a:lnTo>
                    <a:pt x="31" y="17"/>
                  </a:lnTo>
                  <a:lnTo>
                    <a:pt x="14" y="38"/>
                  </a:lnTo>
                  <a:lnTo>
                    <a:pt x="0" y="63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62" y="63"/>
                  </a:lnTo>
                  <a:lnTo>
                    <a:pt x="31" y="0"/>
                  </a:lnTo>
                  <a:lnTo>
                    <a:pt x="0" y="63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82640" y="3971880"/>
              <a:ext cx="1296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60680" y="39718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18" y="0"/>
                  </a:lnTo>
                  <a:lnTo>
                    <a:pt x="33" y="32"/>
                  </a:lnTo>
                  <a:lnTo>
                    <a:pt x="18" y="1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9800" y="39592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2" y="39"/>
                  </a:moveTo>
                  <a:lnTo>
                    <a:pt x="17" y="42"/>
                  </a:lnTo>
                  <a:lnTo>
                    <a:pt x="35" y="10"/>
                  </a:lnTo>
                  <a:lnTo>
                    <a:pt x="27" y="10"/>
                  </a:lnTo>
                  <a:lnTo>
                    <a:pt x="42" y="42"/>
                  </a:lnTo>
                  <a:lnTo>
                    <a:pt x="48" y="39"/>
                  </a:lnTo>
                  <a:lnTo>
                    <a:pt x="31" y="21"/>
                  </a:lnTo>
                  <a:lnTo>
                    <a:pt x="12" y="39"/>
                  </a:lnTo>
                  <a:lnTo>
                    <a:pt x="0" y="58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58" y="58"/>
                  </a:lnTo>
                  <a:lnTo>
                    <a:pt x="31" y="0"/>
                  </a:lnTo>
                  <a:lnTo>
                    <a:pt x="0" y="58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30600" y="4002120"/>
              <a:ext cx="146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26000" y="398304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2" y="16"/>
                  </a:lnTo>
                  <a:lnTo>
                    <a:pt x="0" y="33"/>
                  </a:lnTo>
                  <a:lnTo>
                    <a:pt x="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7200" y="39654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9" y="10"/>
                  </a:moveTo>
                  <a:lnTo>
                    <a:pt x="16" y="15"/>
                  </a:lnTo>
                  <a:lnTo>
                    <a:pt x="48" y="31"/>
                  </a:lnTo>
                  <a:lnTo>
                    <a:pt x="48" y="23"/>
                  </a:lnTo>
                  <a:lnTo>
                    <a:pt x="16" y="40"/>
                  </a:lnTo>
                  <a:lnTo>
                    <a:pt x="19" y="46"/>
                  </a:lnTo>
                  <a:lnTo>
                    <a:pt x="37" y="2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31" y="29"/>
                  </a:lnTo>
                  <a:lnTo>
                    <a:pt x="31" y="25"/>
                  </a:lnTo>
                  <a:lnTo>
                    <a:pt x="0" y="58"/>
                  </a:lnTo>
                  <a:lnTo>
                    <a:pt x="58" y="27"/>
                  </a:lnTo>
                  <a:lnTo>
                    <a:pt x="0" y="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1560" y="4087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9240" y="336240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28320" y="443880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85320" y="371304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0320" y="35877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2400" y="2916360"/>
              <a:ext cx="471600" cy="37296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297" y="235"/>
                  </a:moveTo>
                  <a:lnTo>
                    <a:pt x="297" y="0"/>
                  </a:lnTo>
                  <a:lnTo>
                    <a:pt x="0" y="2"/>
                  </a:lnTo>
                  <a:lnTo>
                    <a:pt x="0" y="18"/>
                  </a:lnTo>
                  <a:lnTo>
                    <a:pt x="290" y="16"/>
                  </a:lnTo>
                  <a:lnTo>
                    <a:pt x="282" y="8"/>
                  </a:lnTo>
                  <a:lnTo>
                    <a:pt x="282" y="235"/>
                  </a:lnTo>
                  <a:lnTo>
                    <a:pt x="297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46360" y="274320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8" y="109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2" y="88"/>
                  </a:lnTo>
                  <a:lnTo>
                    <a:pt x="16" y="77"/>
                  </a:lnTo>
                  <a:lnTo>
                    <a:pt x="16" y="71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21" y="56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27" y="35"/>
                  </a:lnTo>
                  <a:lnTo>
                    <a:pt x="31" y="31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1" y="42"/>
                  </a:lnTo>
                  <a:lnTo>
                    <a:pt x="71" y="46"/>
                  </a:lnTo>
                  <a:lnTo>
                    <a:pt x="73" y="54"/>
                  </a:lnTo>
                  <a:lnTo>
                    <a:pt x="75" y="56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1" y="77"/>
                  </a:lnTo>
                  <a:lnTo>
                    <a:pt x="81" y="83"/>
                  </a:lnTo>
                  <a:lnTo>
                    <a:pt x="83" y="90"/>
                  </a:lnTo>
                  <a:lnTo>
                    <a:pt x="85" y="98"/>
                  </a:lnTo>
                  <a:lnTo>
                    <a:pt x="87" y="104"/>
                  </a:lnTo>
                  <a:lnTo>
                    <a:pt x="90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2" y="94"/>
                  </a:lnTo>
                  <a:lnTo>
                    <a:pt x="90" y="86"/>
                  </a:lnTo>
                  <a:lnTo>
                    <a:pt x="89" y="83"/>
                  </a:lnTo>
                  <a:lnTo>
                    <a:pt x="89" y="77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6"/>
                  </a:lnTo>
                  <a:lnTo>
                    <a:pt x="81" y="50"/>
                  </a:lnTo>
                  <a:lnTo>
                    <a:pt x="79" y="46"/>
                  </a:lnTo>
                  <a:lnTo>
                    <a:pt x="79" y="42"/>
                  </a:lnTo>
                  <a:lnTo>
                    <a:pt x="77" y="38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10" y="63"/>
                  </a:lnTo>
                  <a:lnTo>
                    <a:pt x="8" y="71"/>
                  </a:lnTo>
                  <a:lnTo>
                    <a:pt x="8" y="77"/>
                  </a:lnTo>
                  <a:lnTo>
                    <a:pt x="4" y="88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5400" y="274644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8" y="109"/>
                  </a:lnTo>
                  <a:lnTo>
                    <a:pt x="10" y="104"/>
                  </a:lnTo>
                  <a:lnTo>
                    <a:pt x="12" y="96"/>
                  </a:lnTo>
                  <a:lnTo>
                    <a:pt x="12" y="88"/>
                  </a:lnTo>
                  <a:lnTo>
                    <a:pt x="16" y="77"/>
                  </a:lnTo>
                  <a:lnTo>
                    <a:pt x="16" y="71"/>
                  </a:lnTo>
                  <a:lnTo>
                    <a:pt x="18" y="67"/>
                  </a:lnTo>
                  <a:lnTo>
                    <a:pt x="20" y="63"/>
                  </a:lnTo>
                  <a:lnTo>
                    <a:pt x="21" y="56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46" y="8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8"/>
                  </a:lnTo>
                  <a:lnTo>
                    <a:pt x="54" y="10"/>
                  </a:lnTo>
                  <a:lnTo>
                    <a:pt x="58" y="13"/>
                  </a:lnTo>
                  <a:lnTo>
                    <a:pt x="58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9" y="34"/>
                  </a:lnTo>
                  <a:lnTo>
                    <a:pt x="69" y="38"/>
                  </a:lnTo>
                  <a:lnTo>
                    <a:pt x="71" y="42"/>
                  </a:lnTo>
                  <a:lnTo>
                    <a:pt x="71" y="46"/>
                  </a:lnTo>
                  <a:lnTo>
                    <a:pt x="73" y="54"/>
                  </a:lnTo>
                  <a:lnTo>
                    <a:pt x="75" y="56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1" y="77"/>
                  </a:lnTo>
                  <a:lnTo>
                    <a:pt x="81" y="82"/>
                  </a:lnTo>
                  <a:lnTo>
                    <a:pt x="83" y="90"/>
                  </a:lnTo>
                  <a:lnTo>
                    <a:pt x="85" y="98"/>
                  </a:lnTo>
                  <a:lnTo>
                    <a:pt x="87" y="104"/>
                  </a:lnTo>
                  <a:lnTo>
                    <a:pt x="91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3" y="94"/>
                  </a:lnTo>
                  <a:lnTo>
                    <a:pt x="91" y="86"/>
                  </a:lnTo>
                  <a:lnTo>
                    <a:pt x="89" y="82"/>
                  </a:lnTo>
                  <a:lnTo>
                    <a:pt x="89" y="77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6"/>
                  </a:lnTo>
                  <a:lnTo>
                    <a:pt x="81" y="50"/>
                  </a:lnTo>
                  <a:lnTo>
                    <a:pt x="79" y="46"/>
                  </a:lnTo>
                  <a:lnTo>
                    <a:pt x="79" y="42"/>
                  </a:lnTo>
                  <a:lnTo>
                    <a:pt x="77" y="38"/>
                  </a:lnTo>
                  <a:lnTo>
                    <a:pt x="77" y="34"/>
                  </a:lnTo>
                  <a:lnTo>
                    <a:pt x="75" y="29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7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6" y="10"/>
                  </a:lnTo>
                  <a:lnTo>
                    <a:pt x="56" y="0"/>
                  </a:lnTo>
                  <a:lnTo>
                    <a:pt x="43" y="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71"/>
                  </a:lnTo>
                  <a:lnTo>
                    <a:pt x="8" y="77"/>
                  </a:lnTo>
                  <a:lnTo>
                    <a:pt x="4" y="88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8040" y="2752560"/>
              <a:ext cx="155520" cy="185760"/>
            </a:xfrm>
            <a:custGeom>
              <a:avLst/>
              <a:gdLst/>
              <a:ahLst/>
              <a:rect l="l" t="t" r="r" b="b"/>
              <a:pathLst>
                <a:path w="98" h="117">
                  <a:moveTo>
                    <a:pt x="8" y="117"/>
                  </a:moveTo>
                  <a:lnTo>
                    <a:pt x="10" y="109"/>
                  </a:lnTo>
                  <a:lnTo>
                    <a:pt x="10" y="102"/>
                  </a:lnTo>
                  <a:lnTo>
                    <a:pt x="12" y="98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16" y="77"/>
                  </a:lnTo>
                  <a:lnTo>
                    <a:pt x="20" y="65"/>
                  </a:lnTo>
                  <a:lnTo>
                    <a:pt x="20" y="61"/>
                  </a:lnTo>
                  <a:lnTo>
                    <a:pt x="21" y="57"/>
                  </a:lnTo>
                  <a:lnTo>
                    <a:pt x="23" y="52"/>
                  </a:lnTo>
                  <a:lnTo>
                    <a:pt x="23" y="46"/>
                  </a:lnTo>
                  <a:lnTo>
                    <a:pt x="27" y="38"/>
                  </a:lnTo>
                  <a:lnTo>
                    <a:pt x="27" y="34"/>
                  </a:lnTo>
                  <a:lnTo>
                    <a:pt x="31" y="30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43" y="9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64" y="25"/>
                  </a:lnTo>
                  <a:lnTo>
                    <a:pt x="64" y="30"/>
                  </a:lnTo>
                  <a:lnTo>
                    <a:pt x="66" y="32"/>
                  </a:lnTo>
                  <a:lnTo>
                    <a:pt x="69" y="38"/>
                  </a:lnTo>
                  <a:lnTo>
                    <a:pt x="69" y="42"/>
                  </a:lnTo>
                  <a:lnTo>
                    <a:pt x="71" y="48"/>
                  </a:lnTo>
                  <a:lnTo>
                    <a:pt x="73" y="54"/>
                  </a:lnTo>
                  <a:lnTo>
                    <a:pt x="75" y="55"/>
                  </a:lnTo>
                  <a:lnTo>
                    <a:pt x="75" y="61"/>
                  </a:lnTo>
                  <a:lnTo>
                    <a:pt x="77" y="67"/>
                  </a:lnTo>
                  <a:lnTo>
                    <a:pt x="83" y="82"/>
                  </a:lnTo>
                  <a:lnTo>
                    <a:pt x="83" y="88"/>
                  </a:lnTo>
                  <a:lnTo>
                    <a:pt x="85" y="98"/>
                  </a:lnTo>
                  <a:lnTo>
                    <a:pt x="87" y="103"/>
                  </a:lnTo>
                  <a:lnTo>
                    <a:pt x="91" y="117"/>
                  </a:lnTo>
                  <a:lnTo>
                    <a:pt x="98" y="117"/>
                  </a:lnTo>
                  <a:lnTo>
                    <a:pt x="94" y="100"/>
                  </a:lnTo>
                  <a:lnTo>
                    <a:pt x="93" y="94"/>
                  </a:lnTo>
                  <a:lnTo>
                    <a:pt x="91" y="88"/>
                  </a:lnTo>
                  <a:lnTo>
                    <a:pt x="91" y="82"/>
                  </a:lnTo>
                  <a:lnTo>
                    <a:pt x="85" y="63"/>
                  </a:lnTo>
                  <a:lnTo>
                    <a:pt x="83" y="61"/>
                  </a:lnTo>
                  <a:lnTo>
                    <a:pt x="83" y="55"/>
                  </a:lnTo>
                  <a:lnTo>
                    <a:pt x="81" y="50"/>
                  </a:lnTo>
                  <a:lnTo>
                    <a:pt x="79" y="44"/>
                  </a:lnTo>
                  <a:lnTo>
                    <a:pt x="77" y="42"/>
                  </a:lnTo>
                  <a:lnTo>
                    <a:pt x="77" y="38"/>
                  </a:lnTo>
                  <a:lnTo>
                    <a:pt x="73" y="29"/>
                  </a:lnTo>
                  <a:lnTo>
                    <a:pt x="71" y="27"/>
                  </a:lnTo>
                  <a:lnTo>
                    <a:pt x="71" y="25"/>
                  </a:lnTo>
                  <a:lnTo>
                    <a:pt x="69" y="19"/>
                  </a:lnTo>
                  <a:lnTo>
                    <a:pt x="66" y="15"/>
                  </a:lnTo>
                  <a:lnTo>
                    <a:pt x="66" y="13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16" y="46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2" y="61"/>
                  </a:lnTo>
                  <a:lnTo>
                    <a:pt x="12" y="65"/>
                  </a:lnTo>
                  <a:lnTo>
                    <a:pt x="8" y="77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4"/>
                  </a:lnTo>
                  <a:lnTo>
                    <a:pt x="2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8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82640" y="3032280"/>
              <a:ext cx="5731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82640" y="3014640"/>
              <a:ext cx="5256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31"/>
                  </a:moveTo>
                  <a:lnTo>
                    <a:pt x="0" y="15"/>
                  </a:lnTo>
                  <a:lnTo>
                    <a:pt x="33" y="0"/>
                  </a:lnTo>
                  <a:lnTo>
                    <a:pt x="15" y="1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0040" y="2990880"/>
              <a:ext cx="101520" cy="9684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9" y="48"/>
                  </a:moveTo>
                  <a:lnTo>
                    <a:pt x="42" y="42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42" y="19"/>
                  </a:lnTo>
                  <a:lnTo>
                    <a:pt x="39" y="13"/>
                  </a:lnTo>
                  <a:lnTo>
                    <a:pt x="18" y="30"/>
                  </a:lnTo>
                  <a:lnTo>
                    <a:pt x="39" y="48"/>
                  </a:lnTo>
                  <a:lnTo>
                    <a:pt x="64" y="61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64" y="0"/>
                  </a:lnTo>
                  <a:lnTo>
                    <a:pt x="0" y="30"/>
                  </a:lnTo>
                  <a:lnTo>
                    <a:pt x="64" y="61"/>
                  </a:lnTo>
                  <a:lnTo>
                    <a:pt x="3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62640" y="3078000"/>
              <a:ext cx="18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46400" y="4621320"/>
              <a:ext cx="403200" cy="264960"/>
            </a:xfrm>
            <a:custGeom>
              <a:avLst/>
              <a:gdLst/>
              <a:ahLst/>
              <a:rect l="l" t="t" r="r" b="b"/>
              <a:pathLst>
                <a:path w="254" h="167">
                  <a:moveTo>
                    <a:pt x="254" y="151"/>
                  </a:moveTo>
                  <a:lnTo>
                    <a:pt x="8" y="151"/>
                  </a:lnTo>
                  <a:lnTo>
                    <a:pt x="16" y="15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254" y="167"/>
                  </a:lnTo>
                  <a:lnTo>
                    <a:pt x="254" y="151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6080" y="4614840"/>
              <a:ext cx="282600" cy="23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16080" y="4498920"/>
              <a:ext cx="282600" cy="23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46400" y="4211640"/>
              <a:ext cx="411120" cy="290520"/>
            </a:xfrm>
            <a:custGeom>
              <a:avLst/>
              <a:gdLst/>
              <a:ahLst/>
              <a:rect l="l" t="t" r="r" b="b"/>
              <a:pathLst>
                <a:path w="259" h="183">
                  <a:moveTo>
                    <a:pt x="16" y="183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259" y="16"/>
                  </a:lnTo>
                  <a:lnTo>
                    <a:pt x="259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16" y="183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84760" y="4313160"/>
              <a:ext cx="10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324480" y="2913120"/>
            <a:ext cx="2713320" cy="2185920"/>
            <a:chOff x="6324480" y="2913120"/>
            <a:chExt cx="2713320" cy="2185920"/>
          </a:xfrm>
        </p:grpSpPr>
        <p:sp>
          <p:nvSpPr>
            <p:cNvPr id="284" name=""/>
            <p:cNvSpPr/>
            <p:nvPr/>
          </p:nvSpPr>
          <p:spPr>
            <a:xfrm>
              <a:off x="7583400" y="328464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0" y="0"/>
                  </a:moveTo>
                  <a:lnTo>
                    <a:pt x="229" y="0"/>
                  </a:lnTo>
                  <a:lnTo>
                    <a:pt x="113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66120" y="3273480"/>
              <a:ext cx="398520" cy="395280"/>
            </a:xfrm>
            <a:custGeom>
              <a:avLst/>
              <a:gdLst/>
              <a:ahLst/>
              <a:rect l="l" t="t" r="r" b="b"/>
              <a:pathLst>
                <a:path w="251" h="249">
                  <a:moveTo>
                    <a:pt x="19" y="3"/>
                  </a:moveTo>
                  <a:lnTo>
                    <a:pt x="11" y="15"/>
                  </a:lnTo>
                  <a:lnTo>
                    <a:pt x="240" y="15"/>
                  </a:lnTo>
                  <a:lnTo>
                    <a:pt x="232" y="3"/>
                  </a:lnTo>
                  <a:lnTo>
                    <a:pt x="117" y="230"/>
                  </a:lnTo>
                  <a:lnTo>
                    <a:pt x="132" y="230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24" y="24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3400" y="3632040"/>
              <a:ext cx="363600" cy="25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40480" y="3635280"/>
              <a:ext cx="298440" cy="20160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77" y="0"/>
                  </a:moveTo>
                  <a:lnTo>
                    <a:pt x="84" y="114"/>
                  </a:lnTo>
                  <a:lnTo>
                    <a:pt x="90" y="112"/>
                  </a:lnTo>
                  <a:lnTo>
                    <a:pt x="0" y="112"/>
                  </a:lnTo>
                  <a:lnTo>
                    <a:pt x="0" y="127"/>
                  </a:lnTo>
                  <a:lnTo>
                    <a:pt x="94" y="127"/>
                  </a:lnTo>
                  <a:lnTo>
                    <a:pt x="188" y="12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51880" y="3645000"/>
              <a:ext cx="23760" cy="54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92960" y="2913120"/>
              <a:ext cx="1282680" cy="1201680"/>
            </a:xfrm>
            <a:custGeom>
              <a:avLst/>
              <a:gdLst/>
              <a:ahLst/>
              <a:rect l="l" t="t" r="r" b="b"/>
              <a:pathLst>
                <a:path w="808" h="757">
                  <a:moveTo>
                    <a:pt x="808" y="234"/>
                  </a:moveTo>
                  <a:lnTo>
                    <a:pt x="808" y="0"/>
                  </a:lnTo>
                  <a:lnTo>
                    <a:pt x="0" y="0"/>
                  </a:lnTo>
                  <a:lnTo>
                    <a:pt x="0" y="757"/>
                  </a:lnTo>
                  <a:lnTo>
                    <a:pt x="15" y="757"/>
                  </a:lnTo>
                  <a:lnTo>
                    <a:pt x="15" y="8"/>
                  </a:lnTo>
                  <a:lnTo>
                    <a:pt x="7" y="15"/>
                  </a:lnTo>
                  <a:lnTo>
                    <a:pt x="800" y="15"/>
                  </a:lnTo>
                  <a:lnTo>
                    <a:pt x="793" y="8"/>
                  </a:lnTo>
                  <a:lnTo>
                    <a:pt x="793" y="234"/>
                  </a:lnTo>
                  <a:lnTo>
                    <a:pt x="808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4102200"/>
              <a:ext cx="360360" cy="23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31040" y="4175280"/>
              <a:ext cx="145800" cy="25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83400" y="4572000"/>
              <a:ext cx="363600" cy="2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83400" y="4584600"/>
              <a:ext cx="363600" cy="35892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113" y="0"/>
                  </a:moveTo>
                  <a:lnTo>
                    <a:pt x="229" y="226"/>
                  </a:lnTo>
                  <a:lnTo>
                    <a:pt x="0" y="22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66120" y="4559400"/>
              <a:ext cx="398520" cy="39672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132" y="19"/>
                  </a:moveTo>
                  <a:lnTo>
                    <a:pt x="117" y="19"/>
                  </a:lnTo>
                  <a:lnTo>
                    <a:pt x="232" y="246"/>
                  </a:lnTo>
                  <a:lnTo>
                    <a:pt x="240" y="235"/>
                  </a:lnTo>
                  <a:lnTo>
                    <a:pt x="11" y="235"/>
                  </a:lnTo>
                  <a:lnTo>
                    <a:pt x="19" y="246"/>
                  </a:lnTo>
                  <a:lnTo>
                    <a:pt x="132" y="19"/>
                  </a:lnTo>
                  <a:lnTo>
                    <a:pt x="124" y="0"/>
                  </a:lnTo>
                  <a:lnTo>
                    <a:pt x="0" y="250"/>
                  </a:lnTo>
                  <a:lnTo>
                    <a:pt x="251" y="250"/>
                  </a:lnTo>
                  <a:lnTo>
                    <a:pt x="124" y="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92960" y="4187880"/>
              <a:ext cx="1282680" cy="911160"/>
            </a:xfrm>
            <a:custGeom>
              <a:avLst/>
              <a:gdLst/>
              <a:ahLst/>
              <a:rect l="l" t="t" r="r" b="b"/>
              <a:pathLst>
                <a:path w="808" h="574">
                  <a:moveTo>
                    <a:pt x="793" y="482"/>
                  </a:moveTo>
                  <a:lnTo>
                    <a:pt x="793" y="566"/>
                  </a:lnTo>
                  <a:lnTo>
                    <a:pt x="800" y="559"/>
                  </a:lnTo>
                  <a:lnTo>
                    <a:pt x="7" y="559"/>
                  </a:lnTo>
                  <a:lnTo>
                    <a:pt x="15" y="56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74"/>
                  </a:lnTo>
                  <a:lnTo>
                    <a:pt x="808" y="574"/>
                  </a:lnTo>
                  <a:lnTo>
                    <a:pt x="808" y="482"/>
                  </a:lnTo>
                  <a:lnTo>
                    <a:pt x="793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63040" y="3995640"/>
              <a:ext cx="5428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05920" y="3824280"/>
              <a:ext cx="36324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94760" y="3813120"/>
              <a:ext cx="384120" cy="38736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0" y="121"/>
                  </a:moveTo>
                  <a:lnTo>
                    <a:pt x="0" y="140"/>
                  </a:lnTo>
                  <a:lnTo>
                    <a:pt x="3" y="151"/>
                  </a:lnTo>
                  <a:lnTo>
                    <a:pt x="3" y="157"/>
                  </a:lnTo>
                  <a:lnTo>
                    <a:pt x="5" y="163"/>
                  </a:lnTo>
                  <a:lnTo>
                    <a:pt x="11" y="174"/>
                  </a:lnTo>
                  <a:lnTo>
                    <a:pt x="15" y="178"/>
                  </a:lnTo>
                  <a:lnTo>
                    <a:pt x="17" y="184"/>
                  </a:lnTo>
                  <a:lnTo>
                    <a:pt x="21" y="188"/>
                  </a:lnTo>
                  <a:lnTo>
                    <a:pt x="23" y="194"/>
                  </a:lnTo>
                  <a:lnTo>
                    <a:pt x="48" y="219"/>
                  </a:lnTo>
                  <a:lnTo>
                    <a:pt x="53" y="220"/>
                  </a:lnTo>
                  <a:lnTo>
                    <a:pt x="57" y="224"/>
                  </a:lnTo>
                  <a:lnTo>
                    <a:pt x="61" y="226"/>
                  </a:lnTo>
                  <a:lnTo>
                    <a:pt x="67" y="232"/>
                  </a:lnTo>
                  <a:lnTo>
                    <a:pt x="73" y="234"/>
                  </a:lnTo>
                  <a:lnTo>
                    <a:pt x="76" y="236"/>
                  </a:lnTo>
                  <a:lnTo>
                    <a:pt x="96" y="242"/>
                  </a:lnTo>
                  <a:lnTo>
                    <a:pt x="107" y="242"/>
                  </a:lnTo>
                  <a:lnTo>
                    <a:pt x="113" y="244"/>
                  </a:lnTo>
                  <a:lnTo>
                    <a:pt x="128" y="244"/>
                  </a:lnTo>
                  <a:lnTo>
                    <a:pt x="134" y="242"/>
                  </a:lnTo>
                  <a:lnTo>
                    <a:pt x="146" y="242"/>
                  </a:lnTo>
                  <a:lnTo>
                    <a:pt x="153" y="240"/>
                  </a:lnTo>
                  <a:lnTo>
                    <a:pt x="157" y="238"/>
                  </a:lnTo>
                  <a:lnTo>
                    <a:pt x="174" y="230"/>
                  </a:lnTo>
                  <a:lnTo>
                    <a:pt x="178" y="226"/>
                  </a:lnTo>
                  <a:lnTo>
                    <a:pt x="184" y="224"/>
                  </a:lnTo>
                  <a:lnTo>
                    <a:pt x="188" y="220"/>
                  </a:lnTo>
                  <a:lnTo>
                    <a:pt x="192" y="219"/>
                  </a:lnTo>
                  <a:lnTo>
                    <a:pt x="197" y="215"/>
                  </a:lnTo>
                  <a:lnTo>
                    <a:pt x="203" y="211"/>
                  </a:lnTo>
                  <a:lnTo>
                    <a:pt x="211" y="201"/>
                  </a:lnTo>
                  <a:lnTo>
                    <a:pt x="213" y="197"/>
                  </a:lnTo>
                  <a:lnTo>
                    <a:pt x="217" y="196"/>
                  </a:lnTo>
                  <a:lnTo>
                    <a:pt x="220" y="188"/>
                  </a:lnTo>
                  <a:lnTo>
                    <a:pt x="222" y="184"/>
                  </a:lnTo>
                  <a:lnTo>
                    <a:pt x="226" y="178"/>
                  </a:lnTo>
                  <a:lnTo>
                    <a:pt x="230" y="174"/>
                  </a:lnTo>
                  <a:lnTo>
                    <a:pt x="234" y="163"/>
                  </a:lnTo>
                  <a:lnTo>
                    <a:pt x="236" y="159"/>
                  </a:lnTo>
                  <a:lnTo>
                    <a:pt x="240" y="146"/>
                  </a:lnTo>
                  <a:lnTo>
                    <a:pt x="240" y="134"/>
                  </a:lnTo>
                  <a:lnTo>
                    <a:pt x="242" y="128"/>
                  </a:lnTo>
                  <a:lnTo>
                    <a:pt x="242" y="113"/>
                  </a:lnTo>
                  <a:lnTo>
                    <a:pt x="240" y="107"/>
                  </a:lnTo>
                  <a:lnTo>
                    <a:pt x="240" y="96"/>
                  </a:lnTo>
                  <a:lnTo>
                    <a:pt x="234" y="76"/>
                  </a:lnTo>
                  <a:lnTo>
                    <a:pt x="232" y="73"/>
                  </a:lnTo>
                  <a:lnTo>
                    <a:pt x="226" y="61"/>
                  </a:lnTo>
                  <a:lnTo>
                    <a:pt x="222" y="57"/>
                  </a:lnTo>
                  <a:lnTo>
                    <a:pt x="220" y="53"/>
                  </a:lnTo>
                  <a:lnTo>
                    <a:pt x="217" y="46"/>
                  </a:lnTo>
                  <a:lnTo>
                    <a:pt x="213" y="44"/>
                  </a:lnTo>
                  <a:lnTo>
                    <a:pt x="211" y="40"/>
                  </a:lnTo>
                  <a:lnTo>
                    <a:pt x="203" y="30"/>
                  </a:lnTo>
                  <a:lnTo>
                    <a:pt x="197" y="27"/>
                  </a:lnTo>
                  <a:lnTo>
                    <a:pt x="192" y="23"/>
                  </a:lnTo>
                  <a:lnTo>
                    <a:pt x="188" y="21"/>
                  </a:lnTo>
                  <a:lnTo>
                    <a:pt x="184" y="17"/>
                  </a:lnTo>
                  <a:lnTo>
                    <a:pt x="178" y="15"/>
                  </a:lnTo>
                  <a:lnTo>
                    <a:pt x="174" y="11"/>
                  </a:lnTo>
                  <a:lnTo>
                    <a:pt x="155" y="3"/>
                  </a:lnTo>
                  <a:lnTo>
                    <a:pt x="151" y="3"/>
                  </a:lnTo>
                  <a:lnTo>
                    <a:pt x="140" y="0"/>
                  </a:lnTo>
                  <a:lnTo>
                    <a:pt x="101" y="0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6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1" y="15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17" y="57"/>
                  </a:lnTo>
                  <a:lnTo>
                    <a:pt x="15" y="6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6"/>
                  </a:lnTo>
                  <a:lnTo>
                    <a:pt x="3" y="84"/>
                  </a:lnTo>
                  <a:lnTo>
                    <a:pt x="3" y="90"/>
                  </a:lnTo>
                  <a:lnTo>
                    <a:pt x="0" y="101"/>
                  </a:lnTo>
                  <a:lnTo>
                    <a:pt x="0" y="121"/>
                  </a:lnTo>
                  <a:lnTo>
                    <a:pt x="15" y="121"/>
                  </a:lnTo>
                  <a:lnTo>
                    <a:pt x="15" y="105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1" y="84"/>
                  </a:lnTo>
                  <a:lnTo>
                    <a:pt x="23" y="80"/>
                  </a:lnTo>
                  <a:lnTo>
                    <a:pt x="25" y="75"/>
                  </a:lnTo>
                  <a:lnTo>
                    <a:pt x="26" y="69"/>
                  </a:lnTo>
                  <a:lnTo>
                    <a:pt x="28" y="65"/>
                  </a:lnTo>
                  <a:lnTo>
                    <a:pt x="32" y="61"/>
                  </a:lnTo>
                  <a:lnTo>
                    <a:pt x="34" y="55"/>
                  </a:lnTo>
                  <a:lnTo>
                    <a:pt x="55" y="34"/>
                  </a:lnTo>
                  <a:lnTo>
                    <a:pt x="61" y="32"/>
                  </a:lnTo>
                  <a:lnTo>
                    <a:pt x="65" y="28"/>
                  </a:lnTo>
                  <a:lnTo>
                    <a:pt x="69" y="27"/>
                  </a:lnTo>
                  <a:lnTo>
                    <a:pt x="74" y="25"/>
                  </a:lnTo>
                  <a:lnTo>
                    <a:pt x="80" y="23"/>
                  </a:lnTo>
                  <a:lnTo>
                    <a:pt x="84" y="21"/>
                  </a:lnTo>
                  <a:lnTo>
                    <a:pt x="88" y="19"/>
                  </a:lnTo>
                  <a:lnTo>
                    <a:pt x="94" y="19"/>
                  </a:lnTo>
                  <a:lnTo>
                    <a:pt x="105" y="15"/>
                  </a:lnTo>
                  <a:lnTo>
                    <a:pt x="136" y="15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6" y="28"/>
                  </a:lnTo>
                  <a:lnTo>
                    <a:pt x="180" y="32"/>
                  </a:lnTo>
                  <a:lnTo>
                    <a:pt x="184" y="34"/>
                  </a:lnTo>
                  <a:lnTo>
                    <a:pt x="186" y="38"/>
                  </a:lnTo>
                  <a:lnTo>
                    <a:pt x="192" y="42"/>
                  </a:lnTo>
                  <a:lnTo>
                    <a:pt x="199" y="48"/>
                  </a:lnTo>
                  <a:lnTo>
                    <a:pt x="201" y="51"/>
                  </a:lnTo>
                  <a:lnTo>
                    <a:pt x="205" y="57"/>
                  </a:lnTo>
                  <a:lnTo>
                    <a:pt x="209" y="61"/>
                  </a:lnTo>
                  <a:lnTo>
                    <a:pt x="211" y="65"/>
                  </a:lnTo>
                  <a:lnTo>
                    <a:pt x="215" y="69"/>
                  </a:lnTo>
                  <a:lnTo>
                    <a:pt x="217" y="80"/>
                  </a:lnTo>
                  <a:lnTo>
                    <a:pt x="219" y="84"/>
                  </a:lnTo>
                  <a:lnTo>
                    <a:pt x="224" y="99"/>
                  </a:lnTo>
                  <a:lnTo>
                    <a:pt x="224" y="111"/>
                  </a:lnTo>
                  <a:lnTo>
                    <a:pt x="226" y="117"/>
                  </a:lnTo>
                  <a:lnTo>
                    <a:pt x="226" y="124"/>
                  </a:lnTo>
                  <a:lnTo>
                    <a:pt x="224" y="130"/>
                  </a:lnTo>
                  <a:lnTo>
                    <a:pt x="224" y="142"/>
                  </a:lnTo>
                  <a:lnTo>
                    <a:pt x="220" y="151"/>
                  </a:lnTo>
                  <a:lnTo>
                    <a:pt x="219" y="155"/>
                  </a:lnTo>
                  <a:lnTo>
                    <a:pt x="215" y="167"/>
                  </a:lnTo>
                  <a:lnTo>
                    <a:pt x="215" y="171"/>
                  </a:lnTo>
                  <a:lnTo>
                    <a:pt x="211" y="176"/>
                  </a:lnTo>
                  <a:lnTo>
                    <a:pt x="209" y="180"/>
                  </a:lnTo>
                  <a:lnTo>
                    <a:pt x="205" y="184"/>
                  </a:lnTo>
                  <a:lnTo>
                    <a:pt x="201" y="190"/>
                  </a:lnTo>
                  <a:lnTo>
                    <a:pt x="199" y="194"/>
                  </a:lnTo>
                  <a:lnTo>
                    <a:pt x="192" y="199"/>
                  </a:lnTo>
                  <a:lnTo>
                    <a:pt x="186" y="203"/>
                  </a:lnTo>
                  <a:lnTo>
                    <a:pt x="184" y="207"/>
                  </a:lnTo>
                  <a:lnTo>
                    <a:pt x="180" y="209"/>
                  </a:lnTo>
                  <a:lnTo>
                    <a:pt x="176" y="213"/>
                  </a:lnTo>
                  <a:lnTo>
                    <a:pt x="170" y="215"/>
                  </a:lnTo>
                  <a:lnTo>
                    <a:pt x="167" y="219"/>
                  </a:lnTo>
                  <a:lnTo>
                    <a:pt x="149" y="222"/>
                  </a:lnTo>
                  <a:lnTo>
                    <a:pt x="146" y="224"/>
                  </a:lnTo>
                  <a:lnTo>
                    <a:pt x="142" y="226"/>
                  </a:lnTo>
                  <a:lnTo>
                    <a:pt x="130" y="226"/>
                  </a:lnTo>
                  <a:lnTo>
                    <a:pt x="124" y="228"/>
                  </a:lnTo>
                  <a:lnTo>
                    <a:pt x="117" y="228"/>
                  </a:lnTo>
                  <a:lnTo>
                    <a:pt x="111" y="226"/>
                  </a:lnTo>
                  <a:lnTo>
                    <a:pt x="99" y="226"/>
                  </a:lnTo>
                  <a:lnTo>
                    <a:pt x="84" y="220"/>
                  </a:lnTo>
                  <a:lnTo>
                    <a:pt x="80" y="219"/>
                  </a:lnTo>
                  <a:lnTo>
                    <a:pt x="74" y="217"/>
                  </a:lnTo>
                  <a:lnTo>
                    <a:pt x="69" y="215"/>
                  </a:lnTo>
                  <a:lnTo>
                    <a:pt x="65" y="213"/>
                  </a:lnTo>
                  <a:lnTo>
                    <a:pt x="61" y="209"/>
                  </a:lnTo>
                  <a:lnTo>
                    <a:pt x="55" y="207"/>
                  </a:lnTo>
                  <a:lnTo>
                    <a:pt x="34" y="186"/>
                  </a:lnTo>
                  <a:lnTo>
                    <a:pt x="32" y="180"/>
                  </a:lnTo>
                  <a:lnTo>
                    <a:pt x="28" y="176"/>
                  </a:lnTo>
                  <a:lnTo>
                    <a:pt x="26" y="171"/>
                  </a:lnTo>
                  <a:lnTo>
                    <a:pt x="23" y="167"/>
                  </a:lnTo>
                  <a:lnTo>
                    <a:pt x="21" y="155"/>
                  </a:lnTo>
                  <a:lnTo>
                    <a:pt x="19" y="153"/>
                  </a:lnTo>
                  <a:lnTo>
                    <a:pt x="19" y="148"/>
                  </a:lnTo>
                  <a:lnTo>
                    <a:pt x="15" y="136"/>
                  </a:lnTo>
                  <a:lnTo>
                    <a:pt x="15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74040" y="3824280"/>
              <a:ext cx="23760" cy="3636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63040" y="3995640"/>
              <a:ext cx="1274760" cy="1103400"/>
            </a:xfrm>
            <a:custGeom>
              <a:avLst/>
              <a:gdLst/>
              <a:ahLst/>
              <a:rect l="l" t="t" r="r" b="b"/>
              <a:pathLst>
                <a:path w="803" h="695">
                  <a:moveTo>
                    <a:pt x="569" y="15"/>
                  </a:moveTo>
                  <a:lnTo>
                    <a:pt x="795" y="15"/>
                  </a:lnTo>
                  <a:lnTo>
                    <a:pt x="788" y="8"/>
                  </a:lnTo>
                  <a:lnTo>
                    <a:pt x="788" y="687"/>
                  </a:lnTo>
                  <a:lnTo>
                    <a:pt x="795" y="680"/>
                  </a:lnTo>
                  <a:lnTo>
                    <a:pt x="0" y="680"/>
                  </a:lnTo>
                  <a:lnTo>
                    <a:pt x="0" y="695"/>
                  </a:lnTo>
                  <a:lnTo>
                    <a:pt x="803" y="695"/>
                  </a:lnTo>
                  <a:lnTo>
                    <a:pt x="803" y="0"/>
                  </a:lnTo>
                  <a:lnTo>
                    <a:pt x="569" y="0"/>
                  </a:lnTo>
                  <a:lnTo>
                    <a:pt x="56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3970440"/>
              <a:ext cx="1260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65840" y="3970440"/>
              <a:ext cx="52560" cy="48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31"/>
                  </a:moveTo>
                  <a:lnTo>
                    <a:pt x="18" y="0"/>
                  </a:lnTo>
                  <a:lnTo>
                    <a:pt x="33" y="31"/>
                  </a:lnTo>
                  <a:lnTo>
                    <a:pt x="18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42080" y="3959280"/>
              <a:ext cx="9828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14" y="36"/>
                  </a:moveTo>
                  <a:lnTo>
                    <a:pt x="19" y="40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44" y="40"/>
                  </a:lnTo>
                  <a:lnTo>
                    <a:pt x="50" y="36"/>
                  </a:lnTo>
                  <a:lnTo>
                    <a:pt x="33" y="19"/>
                  </a:lnTo>
                  <a:lnTo>
                    <a:pt x="14" y="36"/>
                  </a:lnTo>
                  <a:lnTo>
                    <a:pt x="0" y="56"/>
                  </a:lnTo>
                  <a:lnTo>
                    <a:pt x="35" y="25"/>
                  </a:lnTo>
                  <a:lnTo>
                    <a:pt x="31" y="25"/>
                  </a:lnTo>
                  <a:lnTo>
                    <a:pt x="62" y="57"/>
                  </a:lnTo>
                  <a:lnTo>
                    <a:pt x="33" y="0"/>
                  </a:lnTo>
                  <a:lnTo>
                    <a:pt x="0" y="5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36120" y="4002120"/>
              <a:ext cx="14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31160" y="397980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32" y="18"/>
                  </a:lnTo>
                  <a:lnTo>
                    <a:pt x="0" y="33"/>
                  </a:lnTo>
                  <a:lnTo>
                    <a:pt x="15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02720" y="395928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19" y="11"/>
                  </a:moveTo>
                  <a:lnTo>
                    <a:pt x="16" y="17"/>
                  </a:lnTo>
                  <a:lnTo>
                    <a:pt x="48" y="34"/>
                  </a:lnTo>
                  <a:lnTo>
                    <a:pt x="48" y="27"/>
                  </a:lnTo>
                  <a:lnTo>
                    <a:pt x="16" y="42"/>
                  </a:lnTo>
                  <a:lnTo>
                    <a:pt x="19" y="48"/>
                  </a:lnTo>
                  <a:lnTo>
                    <a:pt x="37" y="31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31" y="32"/>
                  </a:lnTo>
                  <a:lnTo>
                    <a:pt x="31" y="29"/>
                  </a:lnTo>
                  <a:lnTo>
                    <a:pt x="0" y="57"/>
                  </a:lnTo>
                  <a:lnTo>
                    <a:pt x="58" y="31"/>
                  </a:lnTo>
                  <a:lnTo>
                    <a:pt x="0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8000" y="3754440"/>
              <a:ext cx="11160" cy="14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38920" y="38466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15" y="32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15160" y="380988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50" y="25"/>
                  </a:moveTo>
                  <a:lnTo>
                    <a:pt x="44" y="21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4"/>
                  </a:lnTo>
                  <a:lnTo>
                    <a:pt x="50" y="25"/>
                  </a:lnTo>
                  <a:lnTo>
                    <a:pt x="63" y="4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3" y="4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58000" y="4016520"/>
              <a:ext cx="11160" cy="18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8920" y="4148280"/>
              <a:ext cx="52560" cy="48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0"/>
                  </a:moveTo>
                  <a:lnTo>
                    <a:pt x="15" y="31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18400" y="411804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8" y="21"/>
                  </a:moveTo>
                  <a:lnTo>
                    <a:pt x="42" y="17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17" y="17"/>
                  </a:lnTo>
                  <a:lnTo>
                    <a:pt x="11" y="21"/>
                  </a:lnTo>
                  <a:lnTo>
                    <a:pt x="28" y="38"/>
                  </a:lnTo>
                  <a:lnTo>
                    <a:pt x="48" y="21"/>
                  </a:lnTo>
                  <a:lnTo>
                    <a:pt x="61" y="2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0" y="0"/>
                  </a:lnTo>
                  <a:lnTo>
                    <a:pt x="28" y="57"/>
                  </a:lnTo>
                  <a:lnTo>
                    <a:pt x="61" y="2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77080" y="408456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31800" y="374004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25320" y="4059360"/>
              <a:ext cx="24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k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90840" y="371160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3680" y="37638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84880" y="3552840"/>
              <a:ext cx="576360" cy="463680"/>
            </a:xfrm>
            <a:custGeom>
              <a:avLst/>
              <a:gdLst/>
              <a:ahLst/>
              <a:rect l="l" t="t" r="r" b="b"/>
              <a:pathLst>
                <a:path w="363" h="292">
                  <a:moveTo>
                    <a:pt x="363" y="277"/>
                  </a:moveTo>
                  <a:lnTo>
                    <a:pt x="7" y="277"/>
                  </a:lnTo>
                  <a:lnTo>
                    <a:pt x="15" y="28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92"/>
                  </a:lnTo>
                  <a:lnTo>
                    <a:pt x="363" y="292"/>
                  </a:lnTo>
                  <a:lnTo>
                    <a:pt x="363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84880" y="3071880"/>
              <a:ext cx="567000" cy="334800"/>
            </a:xfrm>
            <a:custGeom>
              <a:avLst/>
              <a:gdLst/>
              <a:ahLst/>
              <a:rect l="l" t="t" r="r" b="b"/>
              <a:pathLst>
                <a:path w="357" h="211">
                  <a:moveTo>
                    <a:pt x="15" y="211"/>
                  </a:moveTo>
                  <a:lnTo>
                    <a:pt x="15" y="8"/>
                  </a:lnTo>
                  <a:lnTo>
                    <a:pt x="7" y="15"/>
                  </a:lnTo>
                  <a:lnTo>
                    <a:pt x="357" y="15"/>
                  </a:lnTo>
                  <a:lnTo>
                    <a:pt x="357" y="0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1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53120" y="3394080"/>
              <a:ext cx="285840" cy="25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53120" y="3535200"/>
              <a:ext cx="285840" cy="24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84880" y="3654360"/>
              <a:ext cx="1116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65800" y="383076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15" y="33"/>
                  </a:lnTo>
                  <a:lnTo>
                    <a:pt x="0" y="0"/>
                  </a:lnTo>
                  <a:lnTo>
                    <a:pt x="15" y="1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42040" y="379404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48" y="25"/>
                  </a:moveTo>
                  <a:lnTo>
                    <a:pt x="42" y="21"/>
                  </a:lnTo>
                  <a:lnTo>
                    <a:pt x="27" y="54"/>
                  </a:lnTo>
                  <a:lnTo>
                    <a:pt x="34" y="54"/>
                  </a:lnTo>
                  <a:lnTo>
                    <a:pt x="19" y="21"/>
                  </a:lnTo>
                  <a:lnTo>
                    <a:pt x="13" y="25"/>
                  </a:lnTo>
                  <a:lnTo>
                    <a:pt x="30" y="46"/>
                  </a:lnTo>
                  <a:lnTo>
                    <a:pt x="48" y="25"/>
                  </a:lnTo>
                  <a:lnTo>
                    <a:pt x="61" y="0"/>
                  </a:lnTo>
                  <a:lnTo>
                    <a:pt x="28" y="39"/>
                  </a:lnTo>
                  <a:lnTo>
                    <a:pt x="32" y="39"/>
                  </a:lnTo>
                  <a:lnTo>
                    <a:pt x="0" y="0"/>
                  </a:lnTo>
                  <a:lnTo>
                    <a:pt x="30" y="63"/>
                  </a:lnTo>
                  <a:lnTo>
                    <a:pt x="61" y="0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77880" y="376704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5920" y="4200480"/>
              <a:ext cx="135000" cy="11268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2" y="7"/>
                  </a:moveTo>
                  <a:lnTo>
                    <a:pt x="12" y="7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4" y="19"/>
                  </a:lnTo>
                  <a:lnTo>
                    <a:pt x="58" y="21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69" y="28"/>
                  </a:lnTo>
                  <a:lnTo>
                    <a:pt x="71" y="26"/>
                  </a:lnTo>
                  <a:lnTo>
                    <a:pt x="69" y="28"/>
                  </a:lnTo>
                  <a:lnTo>
                    <a:pt x="73" y="32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7" y="32"/>
                  </a:lnTo>
                  <a:lnTo>
                    <a:pt x="77" y="34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6"/>
                  </a:lnTo>
                  <a:lnTo>
                    <a:pt x="77" y="32"/>
                  </a:lnTo>
                  <a:lnTo>
                    <a:pt x="79" y="32"/>
                  </a:lnTo>
                  <a:lnTo>
                    <a:pt x="75" y="34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71" y="42"/>
                  </a:lnTo>
                  <a:lnTo>
                    <a:pt x="69" y="40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4"/>
                  </a:lnTo>
                  <a:lnTo>
                    <a:pt x="60" y="44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50" y="48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3" y="51"/>
                  </a:lnTo>
                  <a:lnTo>
                    <a:pt x="41" y="51"/>
                  </a:lnTo>
                  <a:lnTo>
                    <a:pt x="37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5" y="55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2" y="59"/>
                  </a:lnTo>
                  <a:lnTo>
                    <a:pt x="4" y="61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8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21" y="65"/>
                  </a:lnTo>
                  <a:lnTo>
                    <a:pt x="25" y="63"/>
                  </a:lnTo>
                  <a:lnTo>
                    <a:pt x="29" y="63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9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8" y="53"/>
                  </a:lnTo>
                  <a:lnTo>
                    <a:pt x="62" y="53"/>
                  </a:lnTo>
                  <a:lnTo>
                    <a:pt x="64" y="51"/>
                  </a:lnTo>
                  <a:lnTo>
                    <a:pt x="68" y="51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5" y="46"/>
                  </a:lnTo>
                  <a:lnTo>
                    <a:pt x="75" y="44"/>
                  </a:lnTo>
                  <a:lnTo>
                    <a:pt x="77" y="46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5" y="34"/>
                  </a:lnTo>
                  <a:lnTo>
                    <a:pt x="83" y="30"/>
                  </a:lnTo>
                  <a:lnTo>
                    <a:pt x="81" y="30"/>
                  </a:lnTo>
                  <a:lnTo>
                    <a:pt x="81" y="28"/>
                  </a:lnTo>
                  <a:lnTo>
                    <a:pt x="79" y="28"/>
                  </a:lnTo>
                  <a:lnTo>
                    <a:pt x="79" y="26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8" y="17"/>
                  </a:lnTo>
                  <a:lnTo>
                    <a:pt x="66" y="17"/>
                  </a:lnTo>
                  <a:lnTo>
                    <a:pt x="62" y="13"/>
                  </a:lnTo>
                  <a:lnTo>
                    <a:pt x="58" y="13"/>
                  </a:lnTo>
                  <a:lnTo>
                    <a:pt x="54" y="11"/>
                  </a:lnTo>
                  <a:lnTo>
                    <a:pt x="52" y="9"/>
                  </a:lnTo>
                  <a:lnTo>
                    <a:pt x="46" y="9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3" y="3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63040" y="4303800"/>
              <a:ext cx="134640" cy="11268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2" y="8"/>
                  </a:moveTo>
                  <a:lnTo>
                    <a:pt x="12" y="8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5" y="11"/>
                  </a:lnTo>
                  <a:lnTo>
                    <a:pt x="33" y="11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4" y="19"/>
                  </a:lnTo>
                  <a:lnTo>
                    <a:pt x="58" y="21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6" y="27"/>
                  </a:lnTo>
                  <a:lnTo>
                    <a:pt x="68" y="27"/>
                  </a:lnTo>
                  <a:lnTo>
                    <a:pt x="70" y="29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7" y="33"/>
                  </a:lnTo>
                  <a:lnTo>
                    <a:pt x="77" y="34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6"/>
                  </a:lnTo>
                  <a:lnTo>
                    <a:pt x="77" y="33"/>
                  </a:lnTo>
                  <a:lnTo>
                    <a:pt x="79" y="33"/>
                  </a:lnTo>
                  <a:lnTo>
                    <a:pt x="75" y="34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71" y="42"/>
                  </a:lnTo>
                  <a:lnTo>
                    <a:pt x="70" y="40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4"/>
                  </a:lnTo>
                  <a:lnTo>
                    <a:pt x="60" y="44"/>
                  </a:lnTo>
                  <a:lnTo>
                    <a:pt x="58" y="46"/>
                  </a:lnTo>
                  <a:lnTo>
                    <a:pt x="54" y="48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7" y="50"/>
                  </a:lnTo>
                  <a:lnTo>
                    <a:pt x="43" y="52"/>
                  </a:lnTo>
                  <a:lnTo>
                    <a:pt x="41" y="52"/>
                  </a:lnTo>
                  <a:lnTo>
                    <a:pt x="37" y="54"/>
                  </a:lnTo>
                  <a:lnTo>
                    <a:pt x="33" y="54"/>
                  </a:lnTo>
                  <a:lnTo>
                    <a:pt x="29" y="56"/>
                  </a:lnTo>
                  <a:lnTo>
                    <a:pt x="25" y="56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2" y="59"/>
                  </a:lnTo>
                  <a:lnTo>
                    <a:pt x="4" y="61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8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22" y="65"/>
                  </a:lnTo>
                  <a:lnTo>
                    <a:pt x="25" y="63"/>
                  </a:lnTo>
                  <a:lnTo>
                    <a:pt x="29" y="63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9"/>
                  </a:lnTo>
                  <a:lnTo>
                    <a:pt x="43" y="59"/>
                  </a:lnTo>
                  <a:lnTo>
                    <a:pt x="47" y="57"/>
                  </a:lnTo>
                  <a:lnTo>
                    <a:pt x="52" y="57"/>
                  </a:lnTo>
                  <a:lnTo>
                    <a:pt x="54" y="56"/>
                  </a:lnTo>
                  <a:lnTo>
                    <a:pt x="58" y="54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0" y="50"/>
                  </a:lnTo>
                  <a:lnTo>
                    <a:pt x="71" y="50"/>
                  </a:lnTo>
                  <a:lnTo>
                    <a:pt x="75" y="46"/>
                  </a:lnTo>
                  <a:lnTo>
                    <a:pt x="75" y="44"/>
                  </a:lnTo>
                  <a:lnTo>
                    <a:pt x="77" y="46"/>
                  </a:lnTo>
                  <a:lnTo>
                    <a:pt x="83" y="40"/>
                  </a:lnTo>
                  <a:lnTo>
                    <a:pt x="83" y="36"/>
                  </a:lnTo>
                  <a:lnTo>
                    <a:pt x="85" y="34"/>
                  </a:lnTo>
                  <a:lnTo>
                    <a:pt x="83" y="31"/>
                  </a:lnTo>
                  <a:lnTo>
                    <a:pt x="81" y="31"/>
                  </a:lnTo>
                  <a:lnTo>
                    <a:pt x="81" y="29"/>
                  </a:lnTo>
                  <a:lnTo>
                    <a:pt x="79" y="29"/>
                  </a:lnTo>
                  <a:lnTo>
                    <a:pt x="79" y="27"/>
                  </a:lnTo>
                  <a:lnTo>
                    <a:pt x="71" y="19"/>
                  </a:lnTo>
                  <a:lnTo>
                    <a:pt x="70" y="19"/>
                  </a:lnTo>
                  <a:lnTo>
                    <a:pt x="68" y="17"/>
                  </a:lnTo>
                  <a:lnTo>
                    <a:pt x="66" y="17"/>
                  </a:lnTo>
                  <a:lnTo>
                    <a:pt x="62" y="13"/>
                  </a:lnTo>
                  <a:lnTo>
                    <a:pt x="58" y="13"/>
                  </a:lnTo>
                  <a:lnTo>
                    <a:pt x="54" y="11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3" y="4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2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61240" y="4410000"/>
              <a:ext cx="133560" cy="10944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1" y="8"/>
                  </a:moveTo>
                  <a:lnTo>
                    <a:pt x="11" y="8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4" y="1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0" y="15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9"/>
                  </a:lnTo>
                  <a:lnTo>
                    <a:pt x="71" y="27"/>
                  </a:lnTo>
                  <a:lnTo>
                    <a:pt x="69" y="29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6" y="35"/>
                  </a:lnTo>
                  <a:lnTo>
                    <a:pt x="78" y="35"/>
                  </a:lnTo>
                  <a:lnTo>
                    <a:pt x="76" y="35"/>
                  </a:lnTo>
                  <a:lnTo>
                    <a:pt x="76" y="37"/>
                  </a:lnTo>
                  <a:lnTo>
                    <a:pt x="76" y="33"/>
                  </a:lnTo>
                  <a:lnTo>
                    <a:pt x="80" y="31"/>
                  </a:lnTo>
                  <a:lnTo>
                    <a:pt x="76" y="33"/>
                  </a:lnTo>
                  <a:lnTo>
                    <a:pt x="74" y="35"/>
                  </a:lnTo>
                  <a:lnTo>
                    <a:pt x="72" y="35"/>
                  </a:lnTo>
                  <a:lnTo>
                    <a:pt x="67" y="40"/>
                  </a:lnTo>
                  <a:lnTo>
                    <a:pt x="65" y="40"/>
                  </a:lnTo>
                  <a:lnTo>
                    <a:pt x="63" y="42"/>
                  </a:lnTo>
                  <a:lnTo>
                    <a:pt x="61" y="42"/>
                  </a:lnTo>
                  <a:lnTo>
                    <a:pt x="59" y="44"/>
                  </a:lnTo>
                  <a:lnTo>
                    <a:pt x="57" y="44"/>
                  </a:lnTo>
                  <a:lnTo>
                    <a:pt x="53" y="48"/>
                  </a:lnTo>
                  <a:lnTo>
                    <a:pt x="49" y="48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2" y="52"/>
                  </a:lnTo>
                  <a:lnTo>
                    <a:pt x="40" y="52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8"/>
                  </a:lnTo>
                  <a:lnTo>
                    <a:pt x="19" y="58"/>
                  </a:lnTo>
                  <a:lnTo>
                    <a:pt x="15" y="60"/>
                  </a:lnTo>
                  <a:lnTo>
                    <a:pt x="5" y="60"/>
                  </a:lnTo>
                  <a:lnTo>
                    <a:pt x="0" y="62"/>
                  </a:lnTo>
                  <a:lnTo>
                    <a:pt x="1" y="62"/>
                  </a:lnTo>
                  <a:lnTo>
                    <a:pt x="1" y="69"/>
                  </a:lnTo>
                  <a:lnTo>
                    <a:pt x="3" y="69"/>
                  </a:lnTo>
                  <a:lnTo>
                    <a:pt x="5" y="67"/>
                  </a:lnTo>
                  <a:lnTo>
                    <a:pt x="15" y="67"/>
                  </a:lnTo>
                  <a:lnTo>
                    <a:pt x="19" y="65"/>
                  </a:lnTo>
                  <a:lnTo>
                    <a:pt x="24" y="65"/>
                  </a:lnTo>
                  <a:lnTo>
                    <a:pt x="28" y="63"/>
                  </a:lnTo>
                  <a:lnTo>
                    <a:pt x="32" y="63"/>
                  </a:lnTo>
                  <a:lnTo>
                    <a:pt x="40" y="60"/>
                  </a:lnTo>
                  <a:lnTo>
                    <a:pt x="42" y="60"/>
                  </a:lnTo>
                  <a:lnTo>
                    <a:pt x="46" y="58"/>
                  </a:lnTo>
                  <a:lnTo>
                    <a:pt x="51" y="58"/>
                  </a:lnTo>
                  <a:lnTo>
                    <a:pt x="53" y="56"/>
                  </a:lnTo>
                  <a:lnTo>
                    <a:pt x="59" y="54"/>
                  </a:lnTo>
                  <a:lnTo>
                    <a:pt x="61" y="52"/>
                  </a:lnTo>
                  <a:lnTo>
                    <a:pt x="63" y="52"/>
                  </a:lnTo>
                  <a:lnTo>
                    <a:pt x="65" y="50"/>
                  </a:lnTo>
                  <a:lnTo>
                    <a:pt x="67" y="50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82" y="38"/>
                  </a:lnTo>
                  <a:lnTo>
                    <a:pt x="80" y="37"/>
                  </a:lnTo>
                  <a:lnTo>
                    <a:pt x="80" y="38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8" y="27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7" y="17"/>
                  </a:lnTo>
                  <a:lnTo>
                    <a:pt x="65" y="17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53" y="12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4" y="4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45400" y="4510080"/>
              <a:ext cx="30240" cy="684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5" y="43"/>
                  </a:moveTo>
                  <a:lnTo>
                    <a:pt x="19" y="0"/>
                  </a:lnTo>
                  <a:lnTo>
                    <a:pt x="4" y="0"/>
                  </a:lnTo>
                  <a:lnTo>
                    <a:pt x="0" y="43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05000" y="427356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0000"/>
                  </a:solidFill>
                  <a:latin typeface="Tahoma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200400" y="685800"/>
            <a:ext cx="4746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500"/>
              </a:spcBef>
              <a:buClr>
                <a:srgbClr val="1c1c1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buClr>
                <a:srgbClr val="1c1c1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ide à la comm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buClr>
                <a:srgbClr val="1c1c1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ommutation de la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500"/>
              </a:spcBef>
              <a:buClr>
                <a:srgbClr val="1c1c1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Régime oscil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u blocage de la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2209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 l’amorçage de la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562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églage de la puissance à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fréquence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6095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ur-contraintes sur les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>
            <a:off x="12600" y="6608880"/>
            <a:ext cx="301680" cy="376200"/>
          </a:xfrm>
          <a:custGeom>
            <a:avLst/>
            <a:gdLst>
              <a:gd name="textAreaLeft" fmla="*/ 19440 w 301680"/>
              <a:gd name="textAreaRight" fmla="*/ 282240 w 301680"/>
              <a:gd name="textAreaTop" fmla="*/ 19440 h 376200"/>
              <a:gd name="textAreaBottom" fmla="*/ 356760 h 376200"/>
            </a:gdLst>
            <a:ahLst/>
            <a:rect l="textAreaLeft" t="textAreaTop" r="textAreaRight" b="textAreaBottom"/>
            <a:pathLst>
              <a:path w="21600" h="26929">
                <a:moveTo>
                  <a:pt x="0" y="0"/>
                </a:moveTo>
                <a:lnTo>
                  <a:pt x="21600" y="0"/>
                </a:lnTo>
                <a:lnTo>
                  <a:pt x="21600" y="26929"/>
                </a:lnTo>
                <a:lnTo>
                  <a:pt x="0" y="26929"/>
                </a:lnTo>
                <a:close/>
              </a:path>
              <a:path fill="lightenLess" w="21600" h="269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29">
                <a:moveTo>
                  <a:pt x="21600" y="0"/>
                </a:moveTo>
                <a:lnTo>
                  <a:pt x="21600" y="26929"/>
                </a:lnTo>
                <a:lnTo>
                  <a:pt x="20200" y="25529"/>
                </a:lnTo>
                <a:lnTo>
                  <a:pt x="20200" y="1400"/>
                </a:lnTo>
                <a:close/>
              </a:path>
              <a:path fill="darkenLess" w="21600" h="26929">
                <a:moveTo>
                  <a:pt x="21600" y="26929"/>
                </a:moveTo>
                <a:lnTo>
                  <a:pt x="0" y="26929"/>
                </a:lnTo>
                <a:lnTo>
                  <a:pt x="1400" y="25529"/>
                </a:lnTo>
                <a:lnTo>
                  <a:pt x="20200" y="25529"/>
                </a:lnTo>
                <a:close/>
              </a:path>
              <a:path fill="lighten" w="21600" h="26929">
                <a:moveTo>
                  <a:pt x="0" y="269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29"/>
                </a:lnTo>
                <a:close/>
              </a:path>
              <a:path fill="darken" w="21600" h="26929">
                <a:moveTo>
                  <a:pt x="10800" y="6502"/>
                </a:moveTo>
                <a:lnTo>
                  <a:pt x="13376" y="9113"/>
                </a:ln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lnTo>
                  <a:pt x="17763" y="13465"/>
                </a:lnTo>
                <a:lnTo>
                  <a:pt x="16109" y="13465"/>
                </a:lnTo>
                <a:lnTo>
                  <a:pt x="16109" y="20654"/>
                </a:lnTo>
                <a:lnTo>
                  <a:pt x="5491" y="20654"/>
                </a:lnTo>
                <a:lnTo>
                  <a:pt x="5491" y="13465"/>
                </a:lnTo>
                <a:lnTo>
                  <a:pt x="3837" y="13465"/>
                </a:lnTo>
                <a:close/>
              </a:path>
              <a:path fill="darkenLess" w="21600" h="26929">
                <a:moveTo>
                  <a:pt x="13376" y="9113"/>
                </a:moveTo>
                <a:lnTo>
                  <a:pt x="13376" y="7372"/>
                </a:lnTo>
                <a:lnTo>
                  <a:pt x="15152" y="7372"/>
                </a:lnTo>
                <a:lnTo>
                  <a:pt x="15152" y="10888"/>
                </a:lnTo>
                <a:close/>
              </a:path>
              <a:path fill="darkenLess" w="21600" h="26929">
                <a:moveTo>
                  <a:pt x="9877" y="16963"/>
                </a:moveTo>
                <a:lnTo>
                  <a:pt x="11723" y="16963"/>
                </a:lnTo>
                <a:lnTo>
                  <a:pt x="11723" y="20654"/>
                </a:lnTo>
                <a:lnTo>
                  <a:pt x="16109" y="20654"/>
                </a:lnTo>
                <a:lnTo>
                  <a:pt x="16109" y="13465"/>
                </a:lnTo>
                <a:lnTo>
                  <a:pt x="5491" y="13465"/>
                </a:lnTo>
                <a:lnTo>
                  <a:pt x="5491" y="20654"/>
                </a:lnTo>
                <a:lnTo>
                  <a:pt x="9877" y="20654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75F4-D0AF-402B-8BD4-B65A6F6DA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CS de ba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006880" y="1549440"/>
            <a:ext cx="4368240" cy="3013200"/>
            <a:chOff x="5006880" y="1549440"/>
            <a:chExt cx="4368240" cy="3013200"/>
          </a:xfrm>
        </p:grpSpPr>
        <p:sp>
          <p:nvSpPr>
            <p:cNvPr id="340" name=""/>
            <p:cNvSpPr/>
            <p:nvPr/>
          </p:nvSpPr>
          <p:spPr>
            <a:xfrm flipH="1">
              <a:off x="5317560" y="4556160"/>
              <a:ext cx="405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33960" y="1785960"/>
              <a:ext cx="70632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312880" y="2017800"/>
              <a:ext cx="82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661080" y="2017800"/>
              <a:ext cx="99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8840" y="201780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8840" y="2664000"/>
              <a:ext cx="0" cy="11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435800" y="3795840"/>
              <a:ext cx="412200" cy="328320"/>
              <a:chOff x="7435800" y="3795840"/>
              <a:chExt cx="412200" cy="3283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35800" y="379584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40120" y="379584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7638840" y="413712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35240" y="3228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5120" y="3006720"/>
              <a:ext cx="50940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889840" y="322884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38920" y="300672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62320" y="322884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7360" y="3228840"/>
              <a:ext cx="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3040" y="39877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83040" y="40705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7360" y="407844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22600" y="3048120"/>
              <a:ext cx="0" cy="150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2600" y="202572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06880" y="295920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25760" y="3040200"/>
              <a:ext cx="2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59640" y="3228840"/>
              <a:ext cx="0" cy="132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300800" y="2330280"/>
              <a:ext cx="546840" cy="412560"/>
              <a:chOff x="7300800" y="2330280"/>
              <a:chExt cx="546840" cy="41256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434720" y="2330280"/>
                <a:ext cx="412920" cy="328320"/>
                <a:chOff x="7434720" y="2330280"/>
                <a:chExt cx="412920" cy="328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434720" y="265860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7439040" y="2329920"/>
                  <a:ext cx="40860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 flipH="1">
                <a:off x="7300800" y="27388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427520" y="265320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464080" y="26560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51400" y="1549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56480" y="3511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89840" y="388476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48240" y="3943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62480" y="2357280"/>
              <a:ext cx="36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54080" y="1582560"/>
            <a:ext cx="49672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ontraintes sur les compos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1c1c1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Caractéristique Vs(Is) non liné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1120" y="2581200"/>
            <a:ext cx="478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K1 bidirectionnel en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589520" y="2017800"/>
            <a:ext cx="969480" cy="941400"/>
            <a:chOff x="7589520" y="2017800"/>
            <a:chExt cx="969480" cy="941400"/>
          </a:xfrm>
        </p:grpSpPr>
        <p:grpSp>
          <p:nvGrpSpPr>
            <p:cNvPr id="379" name=""/>
            <p:cNvGrpSpPr/>
            <p:nvPr/>
          </p:nvGrpSpPr>
          <p:grpSpPr>
            <a:xfrm>
              <a:off x="8146800" y="2322360"/>
              <a:ext cx="412200" cy="328320"/>
              <a:chOff x="8146800" y="2322360"/>
              <a:chExt cx="412200" cy="328320"/>
            </a:xfrm>
          </p:grpSpPr>
          <p:sp>
            <p:nvSpPr>
              <p:cNvPr id="380" name=""/>
              <p:cNvSpPr/>
              <p:nvPr/>
            </p:nvSpPr>
            <p:spPr>
              <a:xfrm>
                <a:off x="8146800" y="2322360"/>
                <a:ext cx="407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51120" y="232236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V="1">
              <a:off x="8356320" y="2019240"/>
              <a:ext cx="0" cy="292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56320" y="2641680"/>
              <a:ext cx="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589520" y="2017800"/>
              <a:ext cx="772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644960" y="2948040"/>
              <a:ext cx="696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549440" y="1004760"/>
            <a:ext cx="840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Limitations de la structure unidirectionnelle en cou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7840" y="3465360"/>
            <a:ext cx="387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Caractéristique de sortie Vs(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92840" y="5116680"/>
            <a:ext cx="4098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</a:rPr>
              <a:t>Caractéristique de sortie Vs(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76280" y="6654960"/>
                <a:ext cx="334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²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943600" y="5626080"/>
                <a:ext cx="3759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²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911760" y="5670720"/>
                <a:ext cx="965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30120" y="3821040"/>
            <a:ext cx="347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éseau d’hyperboles : non-liné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22960" y="6246720"/>
            <a:ext cx="3560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éseau d’horizontales : liné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19520" y="23860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y-x" descr=""/>
          <p:cNvPicPr/>
          <p:nvPr/>
        </p:nvPicPr>
        <p:blipFill>
          <a:blip r:embed="rId1"/>
          <a:stretch/>
        </p:blipFill>
        <p:spPr>
          <a:xfrm>
            <a:off x="468360" y="4125960"/>
            <a:ext cx="2847960" cy="24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9499-AC7E-4BFE-A4AB-BDB255DBC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CS à fréquence fix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2920" y="1709640"/>
            <a:ext cx="54928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Filtrage diffi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omportement dynamique non 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Sur-contraintes dans les interru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5520" y="3897360"/>
            <a:ext cx="68706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Fonctionnement à fréquence fix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Introduction d’un interrupteur auxiliaire bidirectionnel en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L’oscillation est déclenchée pour réaliser la phase de bloc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88400" y="5067360"/>
            <a:ext cx="1942920" cy="784080"/>
            <a:chOff x="7988400" y="5067360"/>
            <a:chExt cx="1942920" cy="784080"/>
          </a:xfrm>
        </p:grpSpPr>
        <p:sp>
          <p:nvSpPr>
            <p:cNvPr id="401" name=""/>
            <p:cNvSpPr/>
            <p:nvPr/>
          </p:nvSpPr>
          <p:spPr>
            <a:xfrm>
              <a:off x="7988400" y="5067360"/>
              <a:ext cx="1942920" cy="635040"/>
            </a:xfrm>
            <a:custGeom>
              <a:avLst/>
              <a:gdLst>
                <a:gd name="textAreaLeft" fmla="*/ 41040 w 1942920"/>
                <a:gd name="textAreaRight" fmla="*/ 1901880 w 1942920"/>
                <a:gd name="textAreaTop" fmla="*/ 41040 h 635040"/>
                <a:gd name="textAreaBottom" fmla="*/ 594000 h 635040"/>
              </a:gdLst>
              <a:ahLst/>
              <a:rect l="textAreaLeft" t="textAreaTop" r="textAreaRight" b="textAreaBottom"/>
              <a:pathLst>
                <a:path w="66061" h="21600">
                  <a:moveTo>
                    <a:pt x="0" y="0"/>
                  </a:moveTo>
                  <a:lnTo>
                    <a:pt x="66061" y="0"/>
                  </a:lnTo>
                  <a:lnTo>
                    <a:pt x="66061" y="21600"/>
                  </a:lnTo>
                  <a:lnTo>
                    <a:pt x="0" y="21600"/>
                  </a:lnTo>
                  <a:close/>
                </a:path>
                <a:path fill="lightenLess" w="66061" h="21600">
                  <a:moveTo>
                    <a:pt x="0" y="0"/>
                  </a:moveTo>
                  <a:lnTo>
                    <a:pt x="66061" y="0"/>
                  </a:lnTo>
                  <a:lnTo>
                    <a:pt x="64661" y="1400"/>
                  </a:lnTo>
                  <a:lnTo>
                    <a:pt x="1400" y="1400"/>
                  </a:lnTo>
                  <a:close/>
                </a:path>
                <a:path fill="darken" w="66061" h="21600">
                  <a:moveTo>
                    <a:pt x="66061" y="0"/>
                  </a:moveTo>
                  <a:lnTo>
                    <a:pt x="66061" y="21600"/>
                  </a:lnTo>
                  <a:lnTo>
                    <a:pt x="64661" y="20200"/>
                  </a:lnTo>
                  <a:lnTo>
                    <a:pt x="64661" y="1400"/>
                  </a:lnTo>
                  <a:close/>
                </a:path>
                <a:path fill="darkenLess" w="66061" h="21600">
                  <a:moveTo>
                    <a:pt x="660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661" y="20200"/>
                  </a:lnTo>
                  <a:close/>
                </a:path>
                <a:path fill="lighten" w="660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16640" y="5118120"/>
              <a:ext cx="14857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Tahoma"/>
                </a:rPr>
                <a:t>Analyse du fonctionn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514840" y="1549440"/>
            <a:ext cx="4368240" cy="3013200"/>
            <a:chOff x="5514840" y="1549440"/>
            <a:chExt cx="4368240" cy="3013200"/>
          </a:xfrm>
        </p:grpSpPr>
        <p:sp>
          <p:nvSpPr>
            <p:cNvPr id="404" name=""/>
            <p:cNvSpPr/>
            <p:nvPr/>
          </p:nvSpPr>
          <p:spPr>
            <a:xfrm flipH="1">
              <a:off x="5825520" y="4556160"/>
              <a:ext cx="405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41920" y="1785960"/>
              <a:ext cx="70632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20840" y="2017800"/>
              <a:ext cx="82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169040" y="2017800"/>
              <a:ext cx="99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46800" y="201780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46800" y="2664000"/>
              <a:ext cx="0" cy="11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943760" y="3795840"/>
              <a:ext cx="412200" cy="328320"/>
              <a:chOff x="7943760" y="3795840"/>
              <a:chExt cx="412200" cy="328320"/>
            </a:xfrm>
          </p:grpSpPr>
          <p:sp>
            <p:nvSpPr>
              <p:cNvPr id="411" name=""/>
              <p:cNvSpPr/>
              <p:nvPr/>
            </p:nvSpPr>
            <p:spPr>
              <a:xfrm>
                <a:off x="7943760" y="379584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48080" y="379584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146800" y="413712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143200" y="3228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893080" y="3006720"/>
              <a:ext cx="50940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397800" y="322884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46880" y="300672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370280" y="322884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75320" y="3228840"/>
              <a:ext cx="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91000" y="39877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91000" y="40705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75320" y="407844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30560" y="3048120"/>
              <a:ext cx="0" cy="150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30560" y="202572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14840" y="295920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33720" y="3040200"/>
              <a:ext cx="2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867600" y="3228840"/>
              <a:ext cx="0" cy="132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808760" y="2330280"/>
              <a:ext cx="546840" cy="412560"/>
              <a:chOff x="7808760" y="2330280"/>
              <a:chExt cx="546840" cy="4125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942680" y="2330280"/>
                <a:ext cx="412920" cy="328320"/>
                <a:chOff x="7942680" y="2330280"/>
                <a:chExt cx="412920" cy="3283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942680" y="265860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7947000" y="2329920"/>
                  <a:ext cx="40860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 flipH="1">
                <a:off x="7808760" y="27388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935480" y="265320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5972040" y="26560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360" y="1549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064440" y="3511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97800" y="388476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6200" y="3943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70440" y="2357280"/>
              <a:ext cx="36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097480" y="2017800"/>
            <a:ext cx="969480" cy="941400"/>
            <a:chOff x="8097480" y="2017800"/>
            <a:chExt cx="969480" cy="941400"/>
          </a:xfrm>
        </p:grpSpPr>
        <p:grpSp>
          <p:nvGrpSpPr>
            <p:cNvPr id="441" name=""/>
            <p:cNvGrpSpPr/>
            <p:nvPr/>
          </p:nvGrpSpPr>
          <p:grpSpPr>
            <a:xfrm>
              <a:off x="8654760" y="2322360"/>
              <a:ext cx="412200" cy="328320"/>
              <a:chOff x="8654760" y="2322360"/>
              <a:chExt cx="412200" cy="328320"/>
            </a:xfrm>
          </p:grpSpPr>
          <p:sp>
            <p:nvSpPr>
              <p:cNvPr id="442" name=""/>
              <p:cNvSpPr/>
              <p:nvPr/>
            </p:nvSpPr>
            <p:spPr>
              <a:xfrm>
                <a:off x="8654760" y="232236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659080" y="232236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V="1">
              <a:off x="8864280" y="201924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8864280" y="264168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8097480" y="201780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152920" y="2948040"/>
              <a:ext cx="6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497640" y="2867040"/>
            <a:ext cx="1079280" cy="1064160"/>
            <a:chOff x="6497640" y="2867040"/>
            <a:chExt cx="1079280" cy="1064160"/>
          </a:xfrm>
        </p:grpSpPr>
        <p:sp>
          <p:nvSpPr>
            <p:cNvPr id="449" name=""/>
            <p:cNvSpPr/>
            <p:nvPr/>
          </p:nvSpPr>
          <p:spPr>
            <a:xfrm flipV="1">
              <a:off x="7369200" y="3741480"/>
              <a:ext cx="0" cy="1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7164360" y="3417840"/>
              <a:ext cx="412560" cy="328320"/>
              <a:chOff x="7164360" y="3417840"/>
              <a:chExt cx="412560" cy="328320"/>
            </a:xfrm>
          </p:grpSpPr>
          <p:sp>
            <p:nvSpPr>
              <p:cNvPr id="451" name=""/>
              <p:cNvSpPr/>
              <p:nvPr/>
            </p:nvSpPr>
            <p:spPr>
              <a:xfrm>
                <a:off x="7164360" y="3746160"/>
                <a:ext cx="408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168680" y="341784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V="1">
              <a:off x="7373880" y="3214440"/>
              <a:ext cx="0" cy="206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707160" y="3227400"/>
              <a:ext cx="658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696000" y="3886200"/>
              <a:ext cx="6876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6497640" y="3417840"/>
              <a:ext cx="412560" cy="328320"/>
              <a:chOff x="6497640" y="3417840"/>
              <a:chExt cx="412560" cy="328320"/>
            </a:xfrm>
          </p:grpSpPr>
          <p:sp>
            <p:nvSpPr>
              <p:cNvPr id="457" name=""/>
              <p:cNvSpPr/>
              <p:nvPr/>
            </p:nvSpPr>
            <p:spPr>
              <a:xfrm>
                <a:off x="6497640" y="3417840"/>
                <a:ext cx="408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01960" y="341784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 flipV="1">
              <a:off x="6707160" y="3219480"/>
              <a:ext cx="0" cy="18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707160" y="3736800"/>
              <a:ext cx="0" cy="15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38800" y="3819600"/>
              <a:ext cx="9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232760" y="3752640"/>
              <a:ext cx="55440" cy="73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72240" y="2867040"/>
              <a:ext cx="40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10560" y="3624120"/>
              <a:ext cx="23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85920" y="6330960"/>
            <a:ext cx="9516960" cy="5814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Mais.. les contraintes sur les interrupteurs K1 (2xIs) et K2 (2xVe) ne changent 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08400" y="100800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convénients de la structure à fréquence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D9CB-5E6C-4003-9D17-F5648AA7B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CS à fréquence fix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38862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7440" y="1854360"/>
            <a:ext cx="34164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olu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Effectuer la résonance en courant hors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362320" y="3886200"/>
            <a:ext cx="1942920" cy="784080"/>
            <a:chOff x="2362320" y="3886200"/>
            <a:chExt cx="1942920" cy="784080"/>
          </a:xfrm>
        </p:grpSpPr>
        <p:sp>
          <p:nvSpPr>
            <p:cNvPr id="471" name=""/>
            <p:cNvSpPr/>
            <p:nvPr/>
          </p:nvSpPr>
          <p:spPr>
            <a:xfrm>
              <a:off x="2362320" y="3886200"/>
              <a:ext cx="1942920" cy="635040"/>
            </a:xfrm>
            <a:custGeom>
              <a:avLst/>
              <a:gdLst>
                <a:gd name="textAreaLeft" fmla="*/ 41040 w 1942920"/>
                <a:gd name="textAreaRight" fmla="*/ 1901880 w 1942920"/>
                <a:gd name="textAreaTop" fmla="*/ 41040 h 635040"/>
                <a:gd name="textAreaBottom" fmla="*/ 594000 h 635040"/>
              </a:gdLst>
              <a:ahLst/>
              <a:rect l="textAreaLeft" t="textAreaTop" r="textAreaRight" b="textAreaBottom"/>
              <a:pathLst>
                <a:path w="66061" h="21600">
                  <a:moveTo>
                    <a:pt x="0" y="0"/>
                  </a:moveTo>
                  <a:lnTo>
                    <a:pt x="66061" y="0"/>
                  </a:lnTo>
                  <a:lnTo>
                    <a:pt x="66061" y="21600"/>
                  </a:lnTo>
                  <a:lnTo>
                    <a:pt x="0" y="21600"/>
                  </a:lnTo>
                  <a:close/>
                </a:path>
                <a:path fill="lightenLess" w="66061" h="21600">
                  <a:moveTo>
                    <a:pt x="0" y="0"/>
                  </a:moveTo>
                  <a:lnTo>
                    <a:pt x="66061" y="0"/>
                  </a:lnTo>
                  <a:lnTo>
                    <a:pt x="64661" y="1400"/>
                  </a:lnTo>
                  <a:lnTo>
                    <a:pt x="1400" y="1400"/>
                  </a:lnTo>
                  <a:close/>
                </a:path>
                <a:path fill="darken" w="66061" h="21600">
                  <a:moveTo>
                    <a:pt x="66061" y="0"/>
                  </a:moveTo>
                  <a:lnTo>
                    <a:pt x="66061" y="21600"/>
                  </a:lnTo>
                  <a:lnTo>
                    <a:pt x="64661" y="20200"/>
                  </a:lnTo>
                  <a:lnTo>
                    <a:pt x="64661" y="1400"/>
                  </a:lnTo>
                  <a:close/>
                </a:path>
                <a:path fill="darkenLess" w="66061" h="21600">
                  <a:moveTo>
                    <a:pt x="660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661" y="20200"/>
                  </a:lnTo>
                  <a:close/>
                </a:path>
                <a:path fill="lighten" w="660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920" y="3936960"/>
              <a:ext cx="14857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Tahoma"/>
                </a:rPr>
                <a:t>Analyse du fonctionn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514840" y="1549440"/>
            <a:ext cx="4368240" cy="3013200"/>
            <a:chOff x="5514840" y="1549440"/>
            <a:chExt cx="4368240" cy="3013200"/>
          </a:xfrm>
        </p:grpSpPr>
        <p:sp>
          <p:nvSpPr>
            <p:cNvPr id="474" name=""/>
            <p:cNvSpPr/>
            <p:nvPr/>
          </p:nvSpPr>
          <p:spPr>
            <a:xfrm flipH="1">
              <a:off x="5825520" y="4556160"/>
              <a:ext cx="405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41920" y="1785960"/>
              <a:ext cx="70632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820840" y="2017800"/>
              <a:ext cx="82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169040" y="2017800"/>
              <a:ext cx="99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146800" y="201780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46800" y="2664000"/>
              <a:ext cx="0" cy="11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7943760" y="3795840"/>
              <a:ext cx="412200" cy="328320"/>
              <a:chOff x="7943760" y="3795840"/>
              <a:chExt cx="412200" cy="328320"/>
            </a:xfrm>
          </p:grpSpPr>
          <p:sp>
            <p:nvSpPr>
              <p:cNvPr id="481" name=""/>
              <p:cNvSpPr/>
              <p:nvPr/>
            </p:nvSpPr>
            <p:spPr>
              <a:xfrm>
                <a:off x="7943760" y="379584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48080" y="379584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8146800" y="413712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143200" y="3228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893080" y="3006720"/>
              <a:ext cx="509400" cy="442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9397800" y="3228840"/>
              <a:ext cx="4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146880" y="3006720"/>
              <a:ext cx="0" cy="4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370280" y="322884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75320" y="3228840"/>
              <a:ext cx="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91000" y="39877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91000" y="4070520"/>
              <a:ext cx="36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75320" y="4078440"/>
              <a:ext cx="0" cy="47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30560" y="3048120"/>
              <a:ext cx="0" cy="150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0560" y="2025720"/>
              <a:ext cx="0" cy="93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14840" y="295920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33720" y="3040200"/>
              <a:ext cx="2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867600" y="3228840"/>
              <a:ext cx="0" cy="132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808760" y="2330280"/>
              <a:ext cx="546840" cy="412560"/>
              <a:chOff x="7808760" y="2330280"/>
              <a:chExt cx="546840" cy="41256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7942680" y="2330280"/>
                <a:ext cx="412920" cy="328320"/>
                <a:chOff x="7942680" y="2330280"/>
                <a:chExt cx="412920" cy="3283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942680" y="2658600"/>
                  <a:ext cx="40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7947000" y="2329920"/>
                  <a:ext cx="408600" cy="32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7808760" y="273888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7935480" y="2653200"/>
                <a:ext cx="925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972040" y="26560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59360" y="1549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064440" y="3511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7800" y="3884760"/>
              <a:ext cx="3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6200" y="394344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70440" y="2357280"/>
              <a:ext cx="36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8097480" y="2017800"/>
            <a:ext cx="969480" cy="941400"/>
            <a:chOff x="8097480" y="2017800"/>
            <a:chExt cx="969480" cy="941400"/>
          </a:xfrm>
        </p:grpSpPr>
        <p:grpSp>
          <p:nvGrpSpPr>
            <p:cNvPr id="511" name=""/>
            <p:cNvGrpSpPr/>
            <p:nvPr/>
          </p:nvGrpSpPr>
          <p:grpSpPr>
            <a:xfrm>
              <a:off x="8654760" y="2322360"/>
              <a:ext cx="412200" cy="328320"/>
              <a:chOff x="8654760" y="2322360"/>
              <a:chExt cx="412200" cy="328320"/>
            </a:xfrm>
          </p:grpSpPr>
          <p:sp>
            <p:nvSpPr>
              <p:cNvPr id="512" name=""/>
              <p:cNvSpPr/>
              <p:nvPr/>
            </p:nvSpPr>
            <p:spPr>
              <a:xfrm>
                <a:off x="8654760" y="2322360"/>
                <a:ext cx="40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659080" y="2322360"/>
                <a:ext cx="40788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V="1">
              <a:off x="8864280" y="201924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864280" y="264168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097480" y="2017800"/>
              <a:ext cx="7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8152920" y="2948040"/>
              <a:ext cx="69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H="1">
            <a:off x="6998400" y="286704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264360" y="3214440"/>
            <a:ext cx="1312560" cy="726480"/>
            <a:chOff x="6264360" y="3214440"/>
            <a:chExt cx="1312560" cy="726480"/>
          </a:xfrm>
        </p:grpSpPr>
        <p:sp>
          <p:nvSpPr>
            <p:cNvPr id="520" name=""/>
            <p:cNvSpPr/>
            <p:nvPr/>
          </p:nvSpPr>
          <p:spPr>
            <a:xfrm>
              <a:off x="6462720" y="3886200"/>
              <a:ext cx="915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7164360" y="3417840"/>
              <a:ext cx="412560" cy="328320"/>
              <a:chOff x="7164360" y="3417840"/>
              <a:chExt cx="412560" cy="328320"/>
            </a:xfrm>
          </p:grpSpPr>
          <p:sp>
            <p:nvSpPr>
              <p:cNvPr id="522" name=""/>
              <p:cNvSpPr/>
              <p:nvPr/>
            </p:nvSpPr>
            <p:spPr>
              <a:xfrm flipH="1">
                <a:off x="7168680" y="3417840"/>
                <a:ext cx="408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7164360" y="341784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flipV="1">
              <a:off x="7377120" y="3219480"/>
              <a:ext cx="0" cy="18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72440" y="3736440"/>
              <a:ext cx="0" cy="155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264360" y="3214440"/>
              <a:ext cx="438120" cy="672840"/>
              <a:chOff x="6264360" y="3214440"/>
              <a:chExt cx="438120" cy="67284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6472440" y="3741480"/>
                <a:ext cx="0" cy="145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6264360" y="3417840"/>
                <a:ext cx="412560" cy="328320"/>
                <a:chOff x="6264360" y="3417840"/>
                <a:chExt cx="412560" cy="328320"/>
              </a:xfrm>
            </p:grpSpPr>
            <p:sp>
              <p:nvSpPr>
                <p:cNvPr id="529" name=""/>
                <p:cNvSpPr/>
                <p:nvPr/>
              </p:nvSpPr>
              <p:spPr>
                <a:xfrm flipH="1">
                  <a:off x="6268680" y="3746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6264360" y="3417840"/>
                  <a:ext cx="40824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V="1">
                <a:off x="6467400" y="3214440"/>
                <a:ext cx="0" cy="206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05640" y="3819600"/>
                <a:ext cx="96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440" y="3753000"/>
                <a:ext cx="55440" cy="72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H="1">
              <a:off x="6649200" y="3633840"/>
              <a:ext cx="23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346040" y="5611680"/>
            <a:ext cx="7782120" cy="67860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Mais.. la contrainte en tension sur l’interrupteur K2 (et sur la charge) ne change pas : Vs=2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28960" y="105876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éduction de la contrainte en courant sur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462720" y="2011320"/>
            <a:ext cx="915840" cy="1215720"/>
            <a:chOff x="6462720" y="2011320"/>
            <a:chExt cx="915840" cy="1215720"/>
          </a:xfrm>
        </p:grpSpPr>
        <p:sp>
          <p:nvSpPr>
            <p:cNvPr id="538" name=""/>
            <p:cNvSpPr/>
            <p:nvPr/>
          </p:nvSpPr>
          <p:spPr>
            <a:xfrm flipV="1">
              <a:off x="7362720" y="2011320"/>
              <a:ext cx="0" cy="749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467400" y="2749320"/>
              <a:ext cx="0" cy="477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62720" y="2747880"/>
              <a:ext cx="915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462720" y="3228840"/>
            <a:ext cx="9158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81800" y="3171960"/>
            <a:ext cx="876240" cy="109440"/>
          </a:xfrm>
          <a:prstGeom prst="rect">
            <a:avLst/>
          </a:prstGeom>
          <a:solidFill>
            <a:srgbClr val="e4e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D764-E8AE-41DE-A4CF-51168CEBA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Hacheur ZCS à fréquence fix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1612800"/>
            <a:ext cx="40514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olu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Déplacer l’inductance  L pour que la tension à ses bornes ne soit plus « vue » par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943760" y="3796200"/>
            <a:ext cx="412560" cy="328320"/>
            <a:chOff x="7943760" y="3796200"/>
            <a:chExt cx="412560" cy="328320"/>
          </a:xfrm>
        </p:grpSpPr>
        <p:sp>
          <p:nvSpPr>
            <p:cNvPr id="546" name=""/>
            <p:cNvSpPr/>
            <p:nvPr/>
          </p:nvSpPr>
          <p:spPr>
            <a:xfrm>
              <a:off x="7943760" y="379620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48080" y="3796560"/>
              <a:ext cx="40824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759720" y="15494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70800" y="235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98400" y="2867040"/>
            <a:ext cx="4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8440" y="5510160"/>
            <a:ext cx="9266040" cy="154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d4d4d"/>
                </a:solidFill>
                <a:uFillTx/>
                <a:latin typeface="Tahoma"/>
              </a:rPr>
              <a:t>Au bilan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Pas de doublement de tension sur Vs (la charge) ni de courant dans 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ous les interrupteurs fonctionnent en Z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Mais.. Reste un doublement de tension sur 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94760" y="1058760"/>
            <a:ext cx="74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éduction de la contrainte en tension sur la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14840" y="1785960"/>
            <a:ext cx="4368600" cy="3067200"/>
            <a:chOff x="5514840" y="1785960"/>
            <a:chExt cx="4368600" cy="3067200"/>
          </a:xfrm>
        </p:grpSpPr>
        <p:sp>
          <p:nvSpPr>
            <p:cNvPr id="554" name=""/>
            <p:cNvSpPr/>
            <p:nvPr/>
          </p:nvSpPr>
          <p:spPr>
            <a:xfrm>
              <a:off x="6541920" y="1785960"/>
              <a:ext cx="706680" cy="249120"/>
            </a:xfrm>
            <a:custGeom>
              <a:avLst/>
              <a:gdLst/>
              <a:ahLst/>
              <a:rect l="l" t="t" r="r" b="b"/>
              <a:pathLst>
                <a:path w="430" h="234">
                  <a:moveTo>
                    <a:pt x="58" y="215"/>
                  </a:moveTo>
                  <a:cubicBezTo>
                    <a:pt x="49" y="199"/>
                    <a:pt x="8" y="144"/>
                    <a:pt x="4" y="113"/>
                  </a:cubicBezTo>
                  <a:cubicBezTo>
                    <a:pt x="0" y="82"/>
                    <a:pt x="15" y="46"/>
                    <a:pt x="34" y="29"/>
                  </a:cubicBezTo>
                  <a:cubicBezTo>
                    <a:pt x="53" y="12"/>
                    <a:pt x="96" y="3"/>
                    <a:pt x="122" y="10"/>
                  </a:cubicBezTo>
                  <a:cubicBezTo>
                    <a:pt x="148" y="17"/>
                    <a:pt x="178" y="38"/>
                    <a:pt x="189" y="72"/>
                  </a:cubicBezTo>
                  <a:cubicBezTo>
                    <a:pt x="200" y="105"/>
                    <a:pt x="199" y="185"/>
                    <a:pt x="189" y="209"/>
                  </a:cubicBezTo>
                  <a:cubicBezTo>
                    <a:pt x="179" y="233"/>
                    <a:pt x="143" y="234"/>
                    <a:pt x="127" y="216"/>
                  </a:cubicBezTo>
                  <a:cubicBezTo>
                    <a:pt x="112" y="198"/>
                    <a:pt x="96" y="134"/>
                    <a:pt x="97" y="103"/>
                  </a:cubicBezTo>
                  <a:cubicBezTo>
                    <a:pt x="97" y="71"/>
                    <a:pt x="109" y="44"/>
                    <a:pt x="132" y="27"/>
                  </a:cubicBezTo>
                  <a:cubicBezTo>
                    <a:pt x="156" y="10"/>
                    <a:pt x="207" y="0"/>
                    <a:pt x="235" y="3"/>
                  </a:cubicBezTo>
                  <a:cubicBezTo>
                    <a:pt x="263" y="6"/>
                    <a:pt x="286" y="20"/>
                    <a:pt x="302" y="44"/>
                  </a:cubicBezTo>
                  <a:cubicBezTo>
                    <a:pt x="317" y="69"/>
                    <a:pt x="327" y="122"/>
                    <a:pt x="327" y="151"/>
                  </a:cubicBezTo>
                  <a:cubicBezTo>
                    <a:pt x="327" y="180"/>
                    <a:pt x="315" y="206"/>
                    <a:pt x="302" y="216"/>
                  </a:cubicBezTo>
                  <a:cubicBezTo>
                    <a:pt x="289" y="227"/>
                    <a:pt x="263" y="231"/>
                    <a:pt x="250" y="213"/>
                  </a:cubicBezTo>
                  <a:cubicBezTo>
                    <a:pt x="238" y="195"/>
                    <a:pt x="225" y="137"/>
                    <a:pt x="225" y="110"/>
                  </a:cubicBezTo>
                  <a:cubicBezTo>
                    <a:pt x="225" y="83"/>
                    <a:pt x="242" y="66"/>
                    <a:pt x="250" y="51"/>
                  </a:cubicBezTo>
                  <a:cubicBezTo>
                    <a:pt x="259" y="36"/>
                    <a:pt x="262" y="28"/>
                    <a:pt x="276" y="20"/>
                  </a:cubicBezTo>
                  <a:cubicBezTo>
                    <a:pt x="290" y="12"/>
                    <a:pt x="315" y="4"/>
                    <a:pt x="333" y="3"/>
                  </a:cubicBezTo>
                  <a:cubicBezTo>
                    <a:pt x="350" y="2"/>
                    <a:pt x="370" y="3"/>
                    <a:pt x="384" y="13"/>
                  </a:cubicBezTo>
                  <a:cubicBezTo>
                    <a:pt x="398" y="24"/>
                    <a:pt x="408" y="42"/>
                    <a:pt x="415" y="65"/>
                  </a:cubicBezTo>
                  <a:cubicBezTo>
                    <a:pt x="421" y="87"/>
                    <a:pt x="430" y="123"/>
                    <a:pt x="425" y="147"/>
                  </a:cubicBezTo>
                  <a:cubicBezTo>
                    <a:pt x="420" y="172"/>
                    <a:pt x="392" y="199"/>
                    <a:pt x="384" y="2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821200" y="2017800"/>
              <a:ext cx="82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514840" y="2011320"/>
              <a:ext cx="4368600" cy="2841840"/>
              <a:chOff x="5514840" y="2011320"/>
              <a:chExt cx="4368600" cy="284184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5825880" y="4842000"/>
                <a:ext cx="405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169040" y="2017800"/>
                <a:ext cx="99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147160" y="2017800"/>
                <a:ext cx="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47160" y="2664000"/>
                <a:ext cx="0" cy="11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147160" y="4137120"/>
                <a:ext cx="0" cy="69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8143560" y="32288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893080" y="3006720"/>
                <a:ext cx="509760" cy="44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9398160" y="3228840"/>
                <a:ext cx="482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147240" y="3006720"/>
                <a:ext cx="0" cy="44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7370640" y="3228840"/>
                <a:ext cx="77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75680" y="3228840"/>
                <a:ext cx="0" cy="74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191360" y="3987720"/>
                <a:ext cx="36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191360" y="4070520"/>
                <a:ext cx="36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75680" y="4078440"/>
                <a:ext cx="0" cy="77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30920" y="3048120"/>
                <a:ext cx="0" cy="177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30920" y="2025720"/>
                <a:ext cx="0" cy="9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14840" y="295920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34080" y="3040200"/>
                <a:ext cx="210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867960" y="3228840"/>
                <a:ext cx="0" cy="159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808760" y="2330280"/>
                <a:ext cx="546840" cy="412560"/>
                <a:chOff x="7808760" y="2330280"/>
                <a:chExt cx="546840" cy="41256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7942680" y="2330280"/>
                  <a:ext cx="412920" cy="328320"/>
                  <a:chOff x="7942680" y="2330280"/>
                  <a:chExt cx="412920" cy="32832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7942680" y="2658600"/>
                    <a:ext cx="408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V="1">
                    <a:off x="7947000" y="2330280"/>
                    <a:ext cx="40860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 flipH="1">
                  <a:off x="7808760" y="2738880"/>
                  <a:ext cx="140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935480" y="2653200"/>
                  <a:ext cx="92520" cy="8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972040" y="2655720"/>
                <a:ext cx="25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4800" y="351144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97800" y="3884760"/>
                <a:ext cx="381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K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56560" y="3943440"/>
                <a:ext cx="25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8097480" y="2017800"/>
                <a:ext cx="969480" cy="941400"/>
                <a:chOff x="8097480" y="2017800"/>
                <a:chExt cx="969480" cy="94140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8654760" y="2322360"/>
                  <a:ext cx="412200" cy="328320"/>
                  <a:chOff x="8654760" y="2322360"/>
                  <a:chExt cx="412200" cy="32832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8654760" y="2322360"/>
                    <a:ext cx="4078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659080" y="2322360"/>
                    <a:ext cx="40788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0" name=""/>
                <p:cNvSpPr/>
                <p:nvPr/>
              </p:nvSpPr>
              <p:spPr>
                <a:xfrm flipV="1">
                  <a:off x="8864280" y="2019240"/>
                  <a:ext cx="0" cy="29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8864280" y="2641680"/>
                  <a:ext cx="0" cy="317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8097480" y="2017800"/>
                  <a:ext cx="772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8152920" y="2948040"/>
                  <a:ext cx="696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6462720" y="3886200"/>
                <a:ext cx="9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7164360" y="3417840"/>
                <a:ext cx="412560" cy="328320"/>
                <a:chOff x="7164360" y="3417840"/>
                <a:chExt cx="412560" cy="328320"/>
              </a:xfrm>
            </p:grpSpPr>
            <p:sp>
              <p:nvSpPr>
                <p:cNvPr id="596" name=""/>
                <p:cNvSpPr/>
                <p:nvPr/>
              </p:nvSpPr>
              <p:spPr>
                <a:xfrm flipH="1">
                  <a:off x="7168680" y="3417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>
                  <a:off x="7164360" y="3417840"/>
                  <a:ext cx="408240" cy="328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 flipV="1">
                <a:off x="7377120" y="3219480"/>
                <a:ext cx="0" cy="18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7372440" y="3736440"/>
                <a:ext cx="0" cy="15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6264360" y="3214440"/>
                <a:ext cx="438120" cy="672840"/>
                <a:chOff x="6264360" y="3214440"/>
                <a:chExt cx="438120" cy="67284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6472440" y="3741480"/>
                  <a:ext cx="0" cy="14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6264360" y="3417840"/>
                  <a:ext cx="412560" cy="328320"/>
                  <a:chOff x="6264360" y="3417840"/>
                  <a:chExt cx="412560" cy="3283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H="1">
                    <a:off x="6268680" y="3746160"/>
                    <a:ext cx="408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6264360" y="3417840"/>
                    <a:ext cx="40824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 flipV="1">
                  <a:off x="6467400" y="3214440"/>
                  <a:ext cx="0" cy="20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05640" y="3819600"/>
                  <a:ext cx="96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553440" y="3753000"/>
                  <a:ext cx="554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 flipH="1">
                <a:off x="6665040" y="3627360"/>
                <a:ext cx="23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6462720" y="2011320"/>
                <a:ext cx="915840" cy="1215720"/>
                <a:chOff x="6462720" y="2011320"/>
                <a:chExt cx="915840" cy="1215720"/>
              </a:xfrm>
            </p:grpSpPr>
            <p:sp>
              <p:nvSpPr>
                <p:cNvPr id="610" name=""/>
                <p:cNvSpPr/>
                <p:nvPr/>
              </p:nvSpPr>
              <p:spPr>
                <a:xfrm flipV="1">
                  <a:off x="7362720" y="2011320"/>
                  <a:ext cx="0" cy="749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6467400" y="2749320"/>
                  <a:ext cx="0" cy="47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462720" y="2747880"/>
                  <a:ext cx="91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3" name=""/>
          <p:cNvGrpSpPr/>
          <p:nvPr/>
        </p:nvGrpSpPr>
        <p:grpSpPr>
          <a:xfrm>
            <a:off x="6195960" y="1558800"/>
            <a:ext cx="1295280" cy="871560"/>
            <a:chOff x="6195960" y="1558800"/>
            <a:chExt cx="1295280" cy="871560"/>
          </a:xfrm>
        </p:grpSpPr>
        <p:sp>
          <p:nvSpPr>
            <p:cNvPr id="614" name=""/>
            <p:cNvSpPr/>
            <p:nvPr/>
          </p:nvSpPr>
          <p:spPr>
            <a:xfrm>
              <a:off x="6215040" y="1558800"/>
              <a:ext cx="1066680" cy="871560"/>
            </a:xfrm>
            <a:prstGeom prst="rect">
              <a:avLst/>
            </a:prstGeom>
            <a:solidFill>
              <a:srgbClr val="e4e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95960" y="201924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278400" y="4307040"/>
            <a:ext cx="1944720" cy="547560"/>
            <a:chOff x="6278400" y="4307040"/>
            <a:chExt cx="1944720" cy="547560"/>
          </a:xfrm>
        </p:grpSpPr>
        <p:grpSp>
          <p:nvGrpSpPr>
            <p:cNvPr id="617" name=""/>
            <p:cNvGrpSpPr/>
            <p:nvPr/>
          </p:nvGrpSpPr>
          <p:grpSpPr>
            <a:xfrm>
              <a:off x="6278400" y="4307040"/>
              <a:ext cx="1868760" cy="547560"/>
              <a:chOff x="6278400" y="4307040"/>
              <a:chExt cx="1868760" cy="547560"/>
            </a:xfrm>
          </p:grpSpPr>
          <p:sp>
            <p:nvSpPr>
              <p:cNvPr id="618" name=""/>
              <p:cNvSpPr/>
              <p:nvPr/>
            </p:nvSpPr>
            <p:spPr>
              <a:xfrm>
                <a:off x="7135920" y="4537080"/>
                <a:ext cx="1011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91160" y="4307040"/>
                <a:ext cx="706680" cy="249120"/>
              </a:xfrm>
              <a:custGeom>
                <a:avLst/>
                <a:gdLst/>
                <a:ahLst/>
                <a:rect l="l" t="t" r="r" b="b"/>
                <a:pathLst>
                  <a:path w="430" h="234">
                    <a:moveTo>
                      <a:pt x="58" y="215"/>
                    </a:moveTo>
                    <a:cubicBezTo>
                      <a:pt x="49" y="199"/>
                      <a:pt x="8" y="144"/>
                      <a:pt x="4" y="113"/>
                    </a:cubicBezTo>
                    <a:cubicBezTo>
                      <a:pt x="0" y="82"/>
                      <a:pt x="15" y="46"/>
                      <a:pt x="34" y="29"/>
                    </a:cubicBezTo>
                    <a:cubicBezTo>
                      <a:pt x="53" y="12"/>
                      <a:pt x="96" y="3"/>
                      <a:pt x="122" y="10"/>
                    </a:cubicBezTo>
                    <a:cubicBezTo>
                      <a:pt x="148" y="17"/>
                      <a:pt x="178" y="38"/>
                      <a:pt x="189" y="72"/>
                    </a:cubicBezTo>
                    <a:cubicBezTo>
                      <a:pt x="200" y="105"/>
                      <a:pt x="199" y="185"/>
                      <a:pt x="189" y="209"/>
                    </a:cubicBezTo>
                    <a:cubicBezTo>
                      <a:pt x="179" y="233"/>
                      <a:pt x="143" y="234"/>
                      <a:pt x="127" y="216"/>
                    </a:cubicBezTo>
                    <a:cubicBezTo>
                      <a:pt x="112" y="198"/>
                      <a:pt x="96" y="134"/>
                      <a:pt x="97" y="103"/>
                    </a:cubicBezTo>
                    <a:cubicBezTo>
                      <a:pt x="97" y="71"/>
                      <a:pt x="109" y="44"/>
                      <a:pt x="132" y="27"/>
                    </a:cubicBezTo>
                    <a:cubicBezTo>
                      <a:pt x="156" y="10"/>
                      <a:pt x="207" y="0"/>
                      <a:pt x="235" y="3"/>
                    </a:cubicBezTo>
                    <a:cubicBezTo>
                      <a:pt x="263" y="6"/>
                      <a:pt x="286" y="20"/>
                      <a:pt x="302" y="44"/>
                    </a:cubicBezTo>
                    <a:cubicBezTo>
                      <a:pt x="317" y="69"/>
                      <a:pt x="327" y="122"/>
                      <a:pt x="327" y="151"/>
                    </a:cubicBezTo>
                    <a:cubicBezTo>
                      <a:pt x="327" y="180"/>
                      <a:pt x="315" y="206"/>
                      <a:pt x="302" y="216"/>
                    </a:cubicBezTo>
                    <a:cubicBezTo>
                      <a:pt x="289" y="227"/>
                      <a:pt x="263" y="231"/>
                      <a:pt x="250" y="213"/>
                    </a:cubicBezTo>
                    <a:cubicBezTo>
                      <a:pt x="238" y="195"/>
                      <a:pt x="225" y="137"/>
                      <a:pt x="225" y="110"/>
                    </a:cubicBezTo>
                    <a:cubicBezTo>
                      <a:pt x="225" y="83"/>
                      <a:pt x="242" y="66"/>
                      <a:pt x="250" y="51"/>
                    </a:cubicBezTo>
                    <a:cubicBezTo>
                      <a:pt x="259" y="36"/>
                      <a:pt x="262" y="28"/>
                      <a:pt x="276" y="20"/>
                    </a:cubicBezTo>
                    <a:cubicBezTo>
                      <a:pt x="290" y="12"/>
                      <a:pt x="315" y="4"/>
                      <a:pt x="333" y="3"/>
                    </a:cubicBezTo>
                    <a:cubicBezTo>
                      <a:pt x="350" y="2"/>
                      <a:pt x="370" y="3"/>
                      <a:pt x="384" y="13"/>
                    </a:cubicBezTo>
                    <a:cubicBezTo>
                      <a:pt x="398" y="24"/>
                      <a:pt x="408" y="42"/>
                      <a:pt x="415" y="65"/>
                    </a:cubicBezTo>
                    <a:cubicBezTo>
                      <a:pt x="421" y="87"/>
                      <a:pt x="430" y="123"/>
                      <a:pt x="425" y="147"/>
                    </a:cubicBezTo>
                    <a:cubicBezTo>
                      <a:pt x="420" y="172"/>
                      <a:pt x="392" y="199"/>
                      <a:pt x="384" y="213"/>
                    </a:cubicBezTo>
                  </a:path>
                </a:pathLst>
              </a:custGeom>
              <a:solidFill>
                <a:srgbClr val="e4e4d2"/>
              </a:solidFill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78400" y="4537080"/>
                <a:ext cx="319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6286680" y="4535640"/>
                <a:ext cx="0" cy="318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7308720" y="4559400"/>
              <a:ext cx="914400" cy="272880"/>
            </a:xfrm>
            <a:prstGeom prst="rect">
              <a:avLst/>
            </a:prstGeom>
            <a:solidFill>
              <a:srgbClr val="e4e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654280" y="4546440"/>
            <a:ext cx="1942920" cy="784080"/>
            <a:chOff x="2654280" y="4546440"/>
            <a:chExt cx="1942920" cy="784080"/>
          </a:xfrm>
        </p:grpSpPr>
        <p:sp>
          <p:nvSpPr>
            <p:cNvPr id="624" name=""/>
            <p:cNvSpPr/>
            <p:nvPr/>
          </p:nvSpPr>
          <p:spPr>
            <a:xfrm>
              <a:off x="2654280" y="4546440"/>
              <a:ext cx="1942920" cy="635040"/>
            </a:xfrm>
            <a:custGeom>
              <a:avLst/>
              <a:gdLst>
                <a:gd name="textAreaLeft" fmla="*/ 41040 w 1942920"/>
                <a:gd name="textAreaRight" fmla="*/ 1901880 w 1942920"/>
                <a:gd name="textAreaTop" fmla="*/ 41040 h 635040"/>
                <a:gd name="textAreaBottom" fmla="*/ 594000 h 635040"/>
              </a:gdLst>
              <a:ahLst/>
              <a:rect l="textAreaLeft" t="textAreaTop" r="textAreaRight" b="textAreaBottom"/>
              <a:pathLst>
                <a:path w="66061" h="21600">
                  <a:moveTo>
                    <a:pt x="0" y="0"/>
                  </a:moveTo>
                  <a:lnTo>
                    <a:pt x="66061" y="0"/>
                  </a:lnTo>
                  <a:lnTo>
                    <a:pt x="66061" y="21600"/>
                  </a:lnTo>
                  <a:lnTo>
                    <a:pt x="0" y="21600"/>
                  </a:lnTo>
                  <a:close/>
                </a:path>
                <a:path fill="lightenLess" w="66061" h="21600">
                  <a:moveTo>
                    <a:pt x="0" y="0"/>
                  </a:moveTo>
                  <a:lnTo>
                    <a:pt x="66061" y="0"/>
                  </a:lnTo>
                  <a:lnTo>
                    <a:pt x="64661" y="1400"/>
                  </a:lnTo>
                  <a:lnTo>
                    <a:pt x="1400" y="1400"/>
                  </a:lnTo>
                  <a:close/>
                </a:path>
                <a:path fill="darken" w="66061" h="21600">
                  <a:moveTo>
                    <a:pt x="66061" y="0"/>
                  </a:moveTo>
                  <a:lnTo>
                    <a:pt x="66061" y="21600"/>
                  </a:lnTo>
                  <a:lnTo>
                    <a:pt x="64661" y="20200"/>
                  </a:lnTo>
                  <a:lnTo>
                    <a:pt x="64661" y="1400"/>
                  </a:lnTo>
                  <a:close/>
                </a:path>
                <a:path fill="darkenLess" w="66061" h="21600">
                  <a:moveTo>
                    <a:pt x="660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661" y="20200"/>
                  </a:lnTo>
                  <a:close/>
                </a:path>
                <a:path fill="lighten" w="660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95480" y="4597200"/>
              <a:ext cx="1485720" cy="733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Tahoma"/>
                </a:rPr>
                <a:t>Analyse du fonctionn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8813880" y="3505320"/>
            <a:ext cx="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864640" y="3873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00280" y="3200400"/>
            <a:ext cx="393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Le doublement de tension Vc subsiste, mais il n’est vu que par 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31BE-594D-4726-9BC2-557272C3E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56800" y="159840"/>
            <a:ext cx="85726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Structure complè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5081760" y="3564000"/>
            <a:ext cx="706320" cy="249120"/>
          </a:xfrm>
          <a:custGeom>
            <a:avLst/>
            <a:gdLst/>
            <a:ahLst/>
            <a:rect l="l" t="t" r="r" b="b"/>
            <a:pathLst>
              <a:path w="430" h="234">
                <a:moveTo>
                  <a:pt x="58" y="215"/>
                </a:moveTo>
                <a:cubicBezTo>
                  <a:pt x="49" y="199"/>
                  <a:pt x="8" y="144"/>
                  <a:pt x="4" y="113"/>
                </a:cubicBezTo>
                <a:cubicBezTo>
                  <a:pt x="0" y="82"/>
                  <a:pt x="15" y="46"/>
                  <a:pt x="34" y="29"/>
                </a:cubicBezTo>
                <a:cubicBezTo>
                  <a:pt x="53" y="12"/>
                  <a:pt x="96" y="3"/>
                  <a:pt x="122" y="10"/>
                </a:cubicBezTo>
                <a:cubicBezTo>
                  <a:pt x="148" y="17"/>
                  <a:pt x="178" y="38"/>
                  <a:pt x="189" y="72"/>
                </a:cubicBezTo>
                <a:cubicBezTo>
                  <a:pt x="200" y="105"/>
                  <a:pt x="199" y="185"/>
                  <a:pt x="189" y="209"/>
                </a:cubicBezTo>
                <a:cubicBezTo>
                  <a:pt x="179" y="233"/>
                  <a:pt x="143" y="234"/>
                  <a:pt x="127" y="216"/>
                </a:cubicBezTo>
                <a:cubicBezTo>
                  <a:pt x="112" y="198"/>
                  <a:pt x="96" y="134"/>
                  <a:pt x="97" y="103"/>
                </a:cubicBezTo>
                <a:cubicBezTo>
                  <a:pt x="97" y="71"/>
                  <a:pt x="109" y="44"/>
                  <a:pt x="132" y="27"/>
                </a:cubicBezTo>
                <a:cubicBezTo>
                  <a:pt x="156" y="10"/>
                  <a:pt x="207" y="0"/>
                  <a:pt x="235" y="3"/>
                </a:cubicBezTo>
                <a:cubicBezTo>
                  <a:pt x="263" y="6"/>
                  <a:pt x="286" y="20"/>
                  <a:pt x="302" y="44"/>
                </a:cubicBezTo>
                <a:cubicBezTo>
                  <a:pt x="317" y="69"/>
                  <a:pt x="327" y="122"/>
                  <a:pt x="327" y="151"/>
                </a:cubicBezTo>
                <a:cubicBezTo>
                  <a:pt x="327" y="180"/>
                  <a:pt x="315" y="206"/>
                  <a:pt x="302" y="216"/>
                </a:cubicBezTo>
                <a:cubicBezTo>
                  <a:pt x="289" y="227"/>
                  <a:pt x="263" y="231"/>
                  <a:pt x="250" y="213"/>
                </a:cubicBezTo>
                <a:cubicBezTo>
                  <a:pt x="238" y="195"/>
                  <a:pt x="225" y="137"/>
                  <a:pt x="225" y="110"/>
                </a:cubicBezTo>
                <a:cubicBezTo>
                  <a:pt x="225" y="83"/>
                  <a:pt x="242" y="66"/>
                  <a:pt x="250" y="51"/>
                </a:cubicBezTo>
                <a:cubicBezTo>
                  <a:pt x="259" y="36"/>
                  <a:pt x="262" y="28"/>
                  <a:pt x="276" y="20"/>
                </a:cubicBezTo>
                <a:cubicBezTo>
                  <a:pt x="290" y="12"/>
                  <a:pt x="315" y="4"/>
                  <a:pt x="333" y="3"/>
                </a:cubicBezTo>
                <a:cubicBezTo>
                  <a:pt x="350" y="2"/>
                  <a:pt x="370" y="3"/>
                  <a:pt x="384" y="13"/>
                </a:cubicBezTo>
                <a:cubicBezTo>
                  <a:pt x="398" y="24"/>
                  <a:pt x="408" y="42"/>
                  <a:pt x="415" y="65"/>
                </a:cubicBezTo>
                <a:cubicBezTo>
                  <a:pt x="421" y="87"/>
                  <a:pt x="430" y="123"/>
                  <a:pt x="425" y="147"/>
                </a:cubicBezTo>
                <a:cubicBezTo>
                  <a:pt x="420" y="172"/>
                  <a:pt x="392" y="199"/>
                  <a:pt x="384" y="2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4784400" y="4232160"/>
            <a:ext cx="493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81920" y="1071720"/>
            <a:ext cx="0" cy="63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81920" y="2054160"/>
            <a:ext cx="0" cy="56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978320" y="2619360"/>
            <a:ext cx="10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989920" y="2397240"/>
            <a:ext cx="509760" cy="442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9486720" y="26193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245520" y="2397240"/>
            <a:ext cx="0" cy="4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434360" y="2327400"/>
            <a:ext cx="54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7000" y="181296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53040" y="238140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53040" y="246384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37000" y="2465280"/>
            <a:ext cx="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89440" y="2438280"/>
            <a:ext cx="0" cy="179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89440" y="1073160"/>
            <a:ext cx="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73720" y="2349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92600" y="2430360"/>
            <a:ext cx="21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702720" y="2619360"/>
            <a:ext cx="0" cy="159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643880" y="1720800"/>
            <a:ext cx="546840" cy="412560"/>
            <a:chOff x="7643880" y="1720800"/>
            <a:chExt cx="546840" cy="412560"/>
          </a:xfrm>
        </p:grpSpPr>
        <p:grpSp>
          <p:nvGrpSpPr>
            <p:cNvPr id="649" name=""/>
            <p:cNvGrpSpPr/>
            <p:nvPr/>
          </p:nvGrpSpPr>
          <p:grpSpPr>
            <a:xfrm>
              <a:off x="7777800" y="1720800"/>
              <a:ext cx="412920" cy="328320"/>
              <a:chOff x="7777800" y="1720800"/>
              <a:chExt cx="412920" cy="328320"/>
            </a:xfrm>
          </p:grpSpPr>
          <p:sp>
            <p:nvSpPr>
              <p:cNvPr id="650" name=""/>
              <p:cNvSpPr/>
              <p:nvPr/>
            </p:nvSpPr>
            <p:spPr>
              <a:xfrm>
                <a:off x="7777800" y="2049120"/>
                <a:ext cx="40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7782120" y="1720800"/>
                <a:ext cx="40860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H="1">
              <a:off x="7643880" y="2129400"/>
              <a:ext cx="14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770600" y="2043720"/>
              <a:ext cx="92520" cy="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486320" y="20462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202680" y="1924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0480" y="21272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8489880" y="1712880"/>
            <a:ext cx="412560" cy="328320"/>
            <a:chOff x="8489880" y="1712880"/>
            <a:chExt cx="412560" cy="328320"/>
          </a:xfrm>
        </p:grpSpPr>
        <p:sp>
          <p:nvSpPr>
            <p:cNvPr id="658" name=""/>
            <p:cNvSpPr/>
            <p:nvPr/>
          </p:nvSpPr>
          <p:spPr>
            <a:xfrm>
              <a:off x="8489880" y="171288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94200" y="1712880"/>
              <a:ext cx="40824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 flipV="1">
            <a:off x="8699400" y="1409400"/>
            <a:ext cx="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8699400" y="203184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782960" y="1077840"/>
            <a:ext cx="319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988400" y="2338560"/>
            <a:ext cx="69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6875280" y="1852560"/>
            <a:ext cx="328320" cy="412560"/>
            <a:chOff x="6875280" y="1852560"/>
            <a:chExt cx="328320" cy="412560"/>
          </a:xfrm>
        </p:grpSpPr>
        <p:sp>
          <p:nvSpPr>
            <p:cNvPr id="665" name=""/>
            <p:cNvSpPr/>
            <p:nvPr/>
          </p:nvSpPr>
          <p:spPr>
            <a:xfrm flipV="1">
              <a:off x="7203600" y="1856880"/>
              <a:ext cx="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5400000">
              <a:off x="6834600" y="1892520"/>
              <a:ext cx="40824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427880" y="2057040"/>
            <a:ext cx="0" cy="55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130720" y="1242720"/>
            <a:ext cx="438120" cy="672840"/>
            <a:chOff x="5130720" y="1242720"/>
            <a:chExt cx="438120" cy="672840"/>
          </a:xfrm>
        </p:grpSpPr>
        <p:sp>
          <p:nvSpPr>
            <p:cNvPr id="669" name=""/>
            <p:cNvSpPr/>
            <p:nvPr/>
          </p:nvSpPr>
          <p:spPr>
            <a:xfrm flipV="1">
              <a:off x="5338800" y="1769760"/>
              <a:ext cx="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5130720" y="1446120"/>
              <a:ext cx="412560" cy="328320"/>
              <a:chOff x="5130720" y="1446120"/>
              <a:chExt cx="412560" cy="32832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5135040" y="17744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5130720" y="1446120"/>
                <a:ext cx="408240" cy="32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 flipV="1">
              <a:off x="5333760" y="1242720"/>
              <a:ext cx="0" cy="2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72000" y="1847880"/>
              <a:ext cx="9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19800" y="1781280"/>
              <a:ext cx="554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 flipH="1">
            <a:off x="5497560" y="1665360"/>
            <a:ext cx="2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7000" y="399564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8440" y="2060640"/>
            <a:ext cx="151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48360" y="36068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875280" y="2417760"/>
            <a:ext cx="328320" cy="412560"/>
            <a:chOff x="6875280" y="2417760"/>
            <a:chExt cx="328320" cy="412560"/>
          </a:xfrm>
        </p:grpSpPr>
        <p:sp>
          <p:nvSpPr>
            <p:cNvPr id="681" name=""/>
            <p:cNvSpPr/>
            <p:nvPr/>
          </p:nvSpPr>
          <p:spPr>
            <a:xfrm flipV="1">
              <a:off x="7203600" y="2422080"/>
              <a:ext cx="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rot="5400000">
              <a:off x="6834600" y="2457720"/>
              <a:ext cx="40824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 flipH="1">
            <a:off x="5338440" y="2612880"/>
            <a:ext cx="151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192800" y="261288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1069920"/>
            <a:ext cx="0" cy="3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7988040" y="1411200"/>
            <a:ext cx="70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192800" y="205416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37520" y="1795320"/>
            <a:ext cx="22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945040" y="1069560"/>
            <a:ext cx="3503880" cy="3156480"/>
            <a:chOff x="5945040" y="1069560"/>
            <a:chExt cx="3503880" cy="3156480"/>
          </a:xfrm>
        </p:grpSpPr>
        <p:sp>
          <p:nvSpPr>
            <p:cNvPr id="690" name=""/>
            <p:cNvSpPr/>
            <p:nvPr/>
          </p:nvSpPr>
          <p:spPr>
            <a:xfrm>
              <a:off x="8212320" y="3554280"/>
              <a:ext cx="28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ahoma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86440" y="298620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945040" y="1500120"/>
              <a:ext cx="2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017040" y="1069560"/>
              <a:ext cx="3431880" cy="3156480"/>
              <a:chOff x="6017040" y="1069560"/>
              <a:chExt cx="3431880" cy="3156480"/>
            </a:xfrm>
          </p:grpSpPr>
          <p:grpSp>
            <p:nvGrpSpPr>
              <p:cNvPr id="694" name=""/>
              <p:cNvGrpSpPr/>
              <p:nvPr/>
            </p:nvGrpSpPr>
            <p:grpSpPr>
              <a:xfrm>
                <a:off x="6017040" y="1069560"/>
                <a:ext cx="2885400" cy="3156480"/>
                <a:chOff x="6017040" y="1069560"/>
                <a:chExt cx="2885400" cy="3156480"/>
              </a:xfrm>
            </p:grpSpPr>
            <p:sp>
              <p:nvSpPr>
                <p:cNvPr id="695" name=""/>
                <p:cNvSpPr/>
                <p:nvPr/>
              </p:nvSpPr>
              <p:spPr>
                <a:xfrm flipH="1">
                  <a:off x="7198920" y="3119400"/>
                  <a:ext cx="2523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981920" y="3533760"/>
                  <a:ext cx="0" cy="6922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 rot="16200000">
                  <a:off x="5963760" y="1442160"/>
                  <a:ext cx="706680" cy="249480"/>
                </a:xfrm>
                <a:custGeom>
                  <a:avLst/>
                  <a:gdLst/>
                  <a:ahLst/>
                  <a:rect l="l" t="t" r="r" b="b"/>
                  <a:pathLst>
                    <a:path w="430" h="234">
                      <a:moveTo>
                        <a:pt x="58" y="215"/>
                      </a:moveTo>
                      <a:cubicBezTo>
                        <a:pt x="49" y="199"/>
                        <a:pt x="8" y="144"/>
                        <a:pt x="4" y="113"/>
                      </a:cubicBezTo>
                      <a:cubicBezTo>
                        <a:pt x="0" y="82"/>
                        <a:pt x="15" y="46"/>
                        <a:pt x="34" y="29"/>
                      </a:cubicBezTo>
                      <a:cubicBezTo>
                        <a:pt x="53" y="12"/>
                        <a:pt x="96" y="3"/>
                        <a:pt x="122" y="10"/>
                      </a:cubicBezTo>
                      <a:cubicBezTo>
                        <a:pt x="148" y="17"/>
                        <a:pt x="178" y="38"/>
                        <a:pt x="189" y="72"/>
                      </a:cubicBezTo>
                      <a:cubicBezTo>
                        <a:pt x="200" y="105"/>
                        <a:pt x="199" y="185"/>
                        <a:pt x="189" y="209"/>
                      </a:cubicBezTo>
                      <a:cubicBezTo>
                        <a:pt x="179" y="233"/>
                        <a:pt x="143" y="234"/>
                        <a:pt x="127" y="216"/>
                      </a:cubicBezTo>
                      <a:cubicBezTo>
                        <a:pt x="112" y="198"/>
                        <a:pt x="96" y="134"/>
                        <a:pt x="97" y="103"/>
                      </a:cubicBezTo>
                      <a:cubicBezTo>
                        <a:pt x="97" y="71"/>
                        <a:pt x="109" y="44"/>
                        <a:pt x="132" y="27"/>
                      </a:cubicBezTo>
                      <a:cubicBezTo>
                        <a:pt x="156" y="10"/>
                        <a:pt x="207" y="0"/>
                        <a:pt x="235" y="3"/>
                      </a:cubicBezTo>
                      <a:cubicBezTo>
                        <a:pt x="263" y="6"/>
                        <a:pt x="286" y="20"/>
                        <a:pt x="302" y="44"/>
                      </a:cubicBezTo>
                      <a:cubicBezTo>
                        <a:pt x="317" y="69"/>
                        <a:pt x="327" y="122"/>
                        <a:pt x="327" y="151"/>
                      </a:cubicBezTo>
                      <a:cubicBezTo>
                        <a:pt x="327" y="180"/>
                        <a:pt x="315" y="206"/>
                        <a:pt x="302" y="216"/>
                      </a:cubicBezTo>
                      <a:cubicBezTo>
                        <a:pt x="289" y="227"/>
                        <a:pt x="263" y="231"/>
                        <a:pt x="250" y="213"/>
                      </a:cubicBezTo>
                      <a:cubicBezTo>
                        <a:pt x="238" y="195"/>
                        <a:pt x="225" y="137"/>
                        <a:pt x="225" y="110"/>
                      </a:cubicBezTo>
                      <a:cubicBezTo>
                        <a:pt x="225" y="83"/>
                        <a:pt x="242" y="66"/>
                        <a:pt x="250" y="51"/>
                      </a:cubicBezTo>
                      <a:cubicBezTo>
                        <a:pt x="259" y="36"/>
                        <a:pt x="262" y="28"/>
                        <a:pt x="276" y="20"/>
                      </a:cubicBezTo>
                      <a:cubicBezTo>
                        <a:pt x="290" y="12"/>
                        <a:pt x="315" y="4"/>
                        <a:pt x="333" y="3"/>
                      </a:cubicBezTo>
                      <a:cubicBezTo>
                        <a:pt x="350" y="2"/>
                        <a:pt x="370" y="3"/>
                        <a:pt x="384" y="13"/>
                      </a:cubicBezTo>
                      <a:cubicBezTo>
                        <a:pt x="398" y="24"/>
                        <a:pt x="408" y="42"/>
                        <a:pt x="415" y="65"/>
                      </a:cubicBezTo>
                      <a:cubicBezTo>
                        <a:pt x="421" y="87"/>
                        <a:pt x="430" y="123"/>
                        <a:pt x="425" y="147"/>
                      </a:cubicBezTo>
                      <a:cubicBezTo>
                        <a:pt x="420" y="172"/>
                        <a:pt x="392" y="199"/>
                        <a:pt x="384" y="213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219720" y="3433320"/>
                  <a:ext cx="0" cy="3524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35760" y="3440160"/>
                  <a:ext cx="3682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35760" y="3357360"/>
                  <a:ext cx="3682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6219720" y="1831680"/>
                  <a:ext cx="0" cy="15303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6881760" y="3467160"/>
                  <a:ext cx="328320" cy="412200"/>
                  <a:chOff x="6881760" y="3467160"/>
                  <a:chExt cx="328320" cy="4122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6881760" y="3467160"/>
                    <a:ext cx="0" cy="40788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 rot="5400000">
                    <a:off x="6841800" y="3510720"/>
                    <a:ext cx="40788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>
                  <a:off x="7434360" y="3119400"/>
                  <a:ext cx="0" cy="5554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6219720" y="1069560"/>
                  <a:ext cx="0" cy="22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6221520" y="3672000"/>
                  <a:ext cx="6523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6881760" y="2901960"/>
                  <a:ext cx="328320" cy="412200"/>
                  <a:chOff x="6881760" y="2901960"/>
                  <a:chExt cx="328320" cy="41220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6881760" y="2901960"/>
                    <a:ext cx="0" cy="40788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5400000">
                    <a:off x="6841800" y="2945520"/>
                    <a:ext cx="40788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 flipH="1">
                  <a:off x="6221520" y="3119400"/>
                  <a:ext cx="65232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7198920" y="3672000"/>
                  <a:ext cx="2523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6017040" y="3766680"/>
                  <a:ext cx="437760" cy="457200"/>
                  <a:chOff x="6017040" y="3766680"/>
                  <a:chExt cx="437760" cy="45720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flipV="1">
                    <a:off x="6224400" y="4090320"/>
                    <a:ext cx="0" cy="13356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6017040" y="3766680"/>
                    <a:ext cx="412200" cy="328320"/>
                    <a:chOff x="6017040" y="3766680"/>
                    <a:chExt cx="412200" cy="3283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H="1">
                      <a:off x="6021360" y="4095000"/>
                      <a:ext cx="407880" cy="0"/>
                    </a:xfrm>
                    <a:prstGeom prst="line">
                      <a:avLst/>
                    </a:prstGeom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flipV="1">
                      <a:off x="6016680" y="3766320"/>
                      <a:ext cx="407880" cy="3279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>
                    <a:off x="6357960" y="4168440"/>
                    <a:ext cx="9684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05400" y="4101840"/>
                    <a:ext cx="55800" cy="7308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7643880" y="3492360"/>
                  <a:ext cx="546840" cy="412560"/>
                  <a:chOff x="7643880" y="3492360"/>
                  <a:chExt cx="546840" cy="412560"/>
                </a:xfrm>
              </p:grpSpPr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7777800" y="3492360"/>
                    <a:ext cx="412920" cy="328320"/>
                    <a:chOff x="7777800" y="3492360"/>
                    <a:chExt cx="412920" cy="3283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7777800" y="3820680"/>
                      <a:ext cx="408600" cy="0"/>
                    </a:xfrm>
                    <a:prstGeom prst="line">
                      <a:avLst/>
                    </a:prstGeom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V="1">
                      <a:off x="7782120" y="3492360"/>
                      <a:ext cx="408600" cy="3283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2844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 flipH="1">
                    <a:off x="7643880" y="3900960"/>
                    <a:ext cx="1404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7770600" y="3815280"/>
                    <a:ext cx="92520" cy="896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8489880" y="3484440"/>
                  <a:ext cx="412560" cy="328320"/>
                  <a:chOff x="8489880" y="3484440"/>
                  <a:chExt cx="412560" cy="3283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8489880" y="3484440"/>
                    <a:ext cx="40824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494200" y="3484440"/>
                    <a:ext cx="408240" cy="3283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 flipV="1">
                  <a:off x="8699400" y="3257280"/>
                  <a:ext cx="0" cy="22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8699400" y="3803400"/>
                  <a:ext cx="0" cy="3171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7988400" y="4110120"/>
                  <a:ext cx="6969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7988040" y="3265560"/>
                  <a:ext cx="70956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981920" y="2612880"/>
                  <a:ext cx="0" cy="876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429680" y="3257640"/>
                  <a:ext cx="552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9086760" y="2959200"/>
                <a:ext cx="362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>
            <a:off x="9112320" y="2228760"/>
            <a:ext cx="33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33920" y="11574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99400" y="15318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37240" y="2319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2080" y="5573880"/>
            <a:ext cx="9542160" cy="1334160"/>
          </a:xfrm>
          <a:prstGeom prst="rect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Deux oscillations d’extinction à chaque cycle dont une non nécessaire compte tenu du signe du courant </a:t>
            </a:r>
            <a:r>
              <a:rPr b="0" lang="en-US" sz="1800" spc="-1" strike="noStrike">
                <a:solidFill>
                  <a:srgbClr val="99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90099"/>
                </a:solidFill>
                <a:latin typeface="Tahoma"/>
              </a:rPr>
              <a:t> asservir la commande des auxiliaires au signe de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ahoma"/>
              </a:rPr>
              <a:t>Possibilité de fonctionnement en commutation forcée avec des contraintes de courant réduites lors des commu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5600" y="1255680"/>
            <a:ext cx="405144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Structure bidirectionnelle en courant : bras d’ondule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Association de deux structures unidirectionnelles en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0000" y="4564080"/>
            <a:ext cx="952812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Interaction entre le fonctionnement de Dr et D2(K2) : elles tendent à conduire chacune une partie du courant 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99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990099"/>
                </a:solidFill>
                <a:latin typeface="Tahoma"/>
              </a:rPr>
              <a:t> la répartition du courant est étroitement liée à l’importance de la connectique de l’auxili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5638320" y="2704680"/>
            <a:ext cx="3734280" cy="1676520"/>
            <a:chOff x="5638320" y="2704680"/>
            <a:chExt cx="3734280" cy="1676520"/>
          </a:xfrm>
        </p:grpSpPr>
        <p:grpSp>
          <p:nvGrpSpPr>
            <p:cNvPr id="744" name=""/>
            <p:cNvGrpSpPr/>
            <p:nvPr/>
          </p:nvGrpSpPr>
          <p:grpSpPr>
            <a:xfrm>
              <a:off x="5638320" y="2704680"/>
              <a:ext cx="3619800" cy="1676520"/>
              <a:chOff x="5638320" y="2704680"/>
              <a:chExt cx="3619800" cy="167652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5651280" y="4356000"/>
                <a:ext cx="360684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5651640" y="2704680"/>
                <a:ext cx="0" cy="167652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5638320" y="2705040"/>
                <a:ext cx="3225960" cy="0"/>
              </a:xfrm>
              <a:prstGeom prst="line">
                <a:avLst/>
              </a:prstGeom>
              <a:ln w="38160">
                <a:solidFill>
                  <a:srgbClr val="4d4d4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839080" y="2806560"/>
              <a:ext cx="533520" cy="1358640"/>
              <a:chOff x="8839080" y="2806560"/>
              <a:chExt cx="533520" cy="1358640"/>
            </a:xfrm>
          </p:grpSpPr>
          <p:sp>
            <p:nvSpPr>
              <p:cNvPr id="749" name=""/>
              <p:cNvSpPr/>
              <p:nvPr/>
            </p:nvSpPr>
            <p:spPr>
              <a:xfrm>
                <a:off x="8864640" y="4152960"/>
                <a:ext cx="50796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8852040" y="2819160"/>
                <a:ext cx="0" cy="1346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839080" y="2806560"/>
                <a:ext cx="5335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0C0E-A5D1-49F8-8BC8-636B4D308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14:53:14Z</dcterms:created>
  <dc:creator>Alain</dc:creator>
  <dc:description/>
  <dc:language>en-US</dc:language>
  <cp:lastModifiedBy>COSTA</cp:lastModifiedBy>
  <dcterms:modified xsi:type="dcterms:W3CDTF">2006-10-25T20:55:47Z</dcterms:modified>
  <cp:revision>90</cp:revision>
  <dc:subject/>
  <dc:title>Présentation PowerPoint</dc:title>
</cp:coreProperties>
</file>